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9AAF-7CBF-4CB9-954B-79FF45828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68CC-57F9-4EF4-B821-1F6A9F159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жа – орган ося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485D-5CBF-4889-B50D-F7758C83D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общаемся с мир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9747-53B2-4F25-AD00-C5C3BD71B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ши – орган сл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D871-36D9-4BE5-B504-EA54F1BF3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 – орган обон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29F1-EA3F-4DFF-9F80-26389E8E2D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да во рту, а не проглоти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BFE-9637-4DFE-B197-C8616D42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F69-4552-4253-9608-22CE1EE3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26A-646A-4500-B13C-EC5C2A6E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3ED-79C3-4021-B8F3-3EC5DA95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0CC-2C6A-4FB4-8FEB-49D94A98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9A4F-56B9-4EAB-90BF-2A267F25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A45-386E-4B64-93AF-D46207FB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D09-1718-402F-9012-52444B8A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9E7-438F-43C9-A36B-F168A1E3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A5B-F469-43C6-840E-4AE68C4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1DF-52DA-489F-8424-90392286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9D4-5637-44DD-987A-427C154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5F11-C798-4CEC-BC46-F82D64A70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F:\САЙТ\1\Рисунок1.jpg"/>
          <p:cNvPicPr/>
          <p:nvPr/>
        </p:nvPicPr>
        <p:blipFill>
          <a:blip r:embed="rId1"/>
          <a:stretch/>
        </p:blipFill>
        <p:spPr>
          <a:xfrm>
            <a:off x="1549440" y="1536840"/>
            <a:ext cx="604512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31080" y="538200"/>
            <a:ext cx="60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ожа – орган осяз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Копия (5) Рисунок2"/>
          <p:cNvPicPr/>
          <p:nvPr/>
        </p:nvPicPr>
        <p:blipFill>
          <a:blip r:embed="rId1"/>
          <a:stretch/>
        </p:blipFill>
        <p:spPr>
          <a:xfrm>
            <a:off x="9144000" y="2924280"/>
            <a:ext cx="298440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89017E-007 L -0.46059 2.89017E-007 E">
                                      <p:cBhvr>
                                        <p:cTn id="3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292104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F:\САЙТ\1\Рисунок6.jpg"/>
          <p:cNvPicPr/>
          <p:nvPr/>
        </p:nvPicPr>
        <p:blipFill>
          <a:blip r:embed="rId2"/>
          <a:stretch/>
        </p:blipFill>
        <p:spPr>
          <a:xfrm>
            <a:off x="4811760" y="3430440"/>
            <a:ext cx="3956040" cy="26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F:\САЙТ\1\Рисунок7.jpg"/>
          <p:cNvPicPr/>
          <p:nvPr/>
        </p:nvPicPr>
        <p:blipFill>
          <a:blip r:embed="rId3"/>
          <a:stretch/>
        </p:blipFill>
        <p:spPr>
          <a:xfrm>
            <a:off x="1547640" y="320760"/>
            <a:ext cx="199872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F:\САЙТ\1\Рисунок8.jpg"/>
          <p:cNvPicPr/>
          <p:nvPr/>
        </p:nvPicPr>
        <p:blipFill>
          <a:blip r:embed="rId4"/>
          <a:stretch/>
        </p:blipFill>
        <p:spPr>
          <a:xfrm>
            <a:off x="5761080" y="692280"/>
            <a:ext cx="22939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val 5"/>
          <p:cNvSpPr/>
          <p:nvPr/>
        </p:nvSpPr>
        <p:spPr>
          <a:xfrm>
            <a:off x="2268360" y="692280"/>
            <a:ext cx="411480" cy="409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3635280" y="1484280"/>
            <a:ext cx="411120" cy="409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1476360" y="5229360"/>
            <a:ext cx="411120" cy="409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8"/>
          <p:cNvSpPr/>
          <p:nvPr/>
        </p:nvSpPr>
        <p:spPr>
          <a:xfrm>
            <a:off x="5867280" y="5300640"/>
            <a:ext cx="411120" cy="409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4356000" y="3645000"/>
            <a:ext cx="7164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3635280" y="5300640"/>
            <a:ext cx="7164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 flipH="1">
            <a:off x="4427280" y="3429000"/>
            <a:ext cx="7308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3708000" y="5084640"/>
            <a:ext cx="7308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F:\САЙТ\1\Рисунок9.jpg"/>
          <p:cNvPicPr/>
          <p:nvPr/>
        </p:nvPicPr>
        <p:blipFill>
          <a:blip r:embed="rId1"/>
          <a:stretch/>
        </p:blipFill>
        <p:spPr>
          <a:xfrm>
            <a:off x="1449360" y="404640"/>
            <a:ext cx="634860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1528920" cy="1655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842920" y="980280"/>
            <a:ext cx="34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л отли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2044800" cy="1638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2913480" y="2923200"/>
            <a:ext cx="52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лохо, но мог бы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1116000" y="4508640"/>
            <a:ext cx="1581120" cy="1774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3130200" y="4867920"/>
            <a:ext cx="43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гордиться неч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F:\САЙТ\1\Рисунок2.jpg"/>
          <p:cNvPicPr/>
          <p:nvPr/>
        </p:nvPicPr>
        <p:blipFill>
          <a:blip r:embed="rId1"/>
          <a:stretch/>
        </p:blipFill>
        <p:spPr>
          <a:xfrm>
            <a:off x="1509840" y="1378080"/>
            <a:ext cx="61228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F:\САЙТ\1\Рисунок3.jpg"/>
          <p:cNvPicPr/>
          <p:nvPr/>
        </p:nvPicPr>
        <p:blipFill>
          <a:blip r:embed="rId1"/>
          <a:stretch/>
        </p:blipFill>
        <p:spPr>
          <a:xfrm>
            <a:off x="1685880" y="1536840"/>
            <a:ext cx="577224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50920" y="260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ак мы общаемся с ми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:\САЙТ\1\Рисунок4.jpg"/>
          <p:cNvPicPr/>
          <p:nvPr/>
        </p:nvPicPr>
        <p:blipFill>
          <a:blip r:embed="rId1"/>
          <a:stretch/>
        </p:blipFill>
        <p:spPr>
          <a:xfrm>
            <a:off x="3132000" y="2205000"/>
            <a:ext cx="31021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F:\САЙТ\1\Рисунок5.jpg"/>
          <p:cNvPicPr/>
          <p:nvPr/>
        </p:nvPicPr>
        <p:blipFill>
          <a:blip r:embed="rId1"/>
          <a:stretch/>
        </p:blipFill>
        <p:spPr>
          <a:xfrm>
            <a:off x="2919240" y="1766880"/>
            <a:ext cx="35974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24000" y="40392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одаря зрению мы можем видеть окружающий мир, различать цвет, форму, размер , красо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опия (2) Рисунок2"/>
          <p:cNvPicPr/>
          <p:nvPr/>
        </p:nvPicPr>
        <p:blipFill>
          <a:blip r:embed="rId1"/>
          <a:stretch/>
        </p:blipFill>
        <p:spPr>
          <a:xfrm>
            <a:off x="-3436920" y="2492280"/>
            <a:ext cx="3436920" cy="345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:\САЙТ\1\Рисунок6.jpg"/>
          <p:cNvPicPr/>
          <p:nvPr/>
        </p:nvPicPr>
        <p:blipFill>
          <a:blip r:embed="rId2"/>
          <a:stretch/>
        </p:blipFill>
        <p:spPr>
          <a:xfrm>
            <a:off x="4788000" y="3429000"/>
            <a:ext cx="3956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04 0.00023 L 0.44375 0.01063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Копия (3) Рисунок2"/>
          <p:cNvPicPr/>
          <p:nvPr/>
        </p:nvPicPr>
        <p:blipFill>
          <a:blip r:embed="rId1"/>
          <a:stretch/>
        </p:blipFill>
        <p:spPr>
          <a:xfrm>
            <a:off x="-3637080" y="2565360"/>
            <a:ext cx="2984760" cy="3002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590040" y="338040"/>
            <a:ext cx="48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Уши – орган слух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F:\САЙТ\1\Рисунок7.jpg"/>
          <p:cNvPicPr/>
          <p:nvPr/>
        </p:nvPicPr>
        <p:blipFill>
          <a:blip r:embed="rId2"/>
          <a:stretch/>
        </p:blipFill>
        <p:spPr>
          <a:xfrm>
            <a:off x="6732720" y="549360"/>
            <a:ext cx="199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0.00162 L 0.57708 0.00162 E">
                                      <p:cBhvr>
                                        <p:cTn id="1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опия (4) Рисунок2"/>
          <p:cNvPicPr/>
          <p:nvPr/>
        </p:nvPicPr>
        <p:blipFill>
          <a:blip r:embed="rId1"/>
          <a:stretch/>
        </p:blipFill>
        <p:spPr>
          <a:xfrm>
            <a:off x="-2936880" y="2133720"/>
            <a:ext cx="2936880" cy="2952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387720" y="692280"/>
            <a:ext cx="57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ос – орган обоня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:\САЙТ\1\Рисунок8.jpg"/>
          <p:cNvPicPr/>
          <p:nvPr/>
        </p:nvPicPr>
        <p:blipFill>
          <a:blip r:embed="rId2"/>
          <a:stretch/>
        </p:blipFill>
        <p:spPr>
          <a:xfrm>
            <a:off x="6300720" y="3946680"/>
            <a:ext cx="22939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2948E-006 L 0.4842 3.2948E-006 E">
                                      <p:cBhvr>
                                        <p:cTn id="1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Копия (5) Рисунок2"/>
          <p:cNvPicPr/>
          <p:nvPr/>
        </p:nvPicPr>
        <p:blipFill>
          <a:blip r:embed="rId1"/>
          <a:stretch/>
        </p:blipFill>
        <p:spPr>
          <a:xfrm>
            <a:off x="9144000" y="2924280"/>
            <a:ext cx="2984400" cy="3001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174960" y="404640"/>
            <a:ext cx="45957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сегда во рт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 не проглоти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89017E-007 L -0.46059 2.89017E-007 E">
                                      <p:cBhvr>
                                        <p:cTn id="24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5:29:04Z</dcterms:created>
  <dc:creator>Admin</dc:creator>
  <dc:description/>
  <dc:language>en-US</dc:language>
  <cp:lastModifiedBy>Рачкова Лариса</cp:lastModifiedBy>
  <dcterms:modified xsi:type="dcterms:W3CDTF">2013-11-21T08:00:24Z</dcterms:modified>
  <cp:revision>5</cp:revision>
  <dc:subject/>
  <dc:title>Слайд 1</dc:title>
</cp:coreProperties>
</file>