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  <p:sldId id="279" r:id="rId58"/>
    <p:sldId id="280" r:id="rId59"/>
    <p:sldId id="281" r:id="rId60"/>
    <p:sldId id="282" r:id="rId61"/>
    <p:sldId id="283" r:id="rId62"/>
    <p:sldId id="284" r:id="rId63"/>
    <p:sldId id="28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slide" Target="slides/slide24.xml"/><Relationship Id="rId59" Type="http://schemas.openxmlformats.org/officeDocument/2006/relationships/slide" Target="slides/slide25.xml"/><Relationship Id="rId60" Type="http://schemas.openxmlformats.org/officeDocument/2006/relationships/slide" Target="slides/slide26.xml"/><Relationship Id="rId61" Type="http://schemas.openxmlformats.org/officeDocument/2006/relationships/slide" Target="slides/slide27.xml"/><Relationship Id="rId62" Type="http://schemas.openxmlformats.org/officeDocument/2006/relationships/slide" Target="slides/slide28.xml"/><Relationship Id="rId63" Type="http://schemas.openxmlformats.org/officeDocument/2006/relationships/slide" Target="slides/slide29.xml"/><Relationship Id="rId64" Type="http://schemas.openxmlformats.org/officeDocument/2006/relationships/slide" Target="slides/slide3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dt" idx="9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ftr" idx="9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 type="sldNum" idx="9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64ED-186A-4B39-80DF-87D198FF67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F7C-CBAF-49AA-8E21-F264893FAA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1A6-BF8C-404F-9365-6EE6D64EEF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6CE-EB3A-47AE-83D2-13135BBF02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A18-4403-4390-A3E8-094A2890C6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6D04-0645-4C31-B652-5A82B04E81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83C-13A4-4C73-B28D-7A60C5E4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CE0-4B05-48B2-AFFF-9C85087B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F158F-FCB4-403E-93FF-3082BD2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27EFB-6422-4449-9AA8-C85952B3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85824-4C76-41BF-AE07-67244B87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F1A82-ED9D-4749-8359-F7D375D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CED3-5B4C-4F9F-B159-DFD6693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385D9-D469-4303-A26B-59E9AAD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A53B-4692-420A-83E5-E128A12B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091F-76CF-413C-B9DB-64662DD8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6C993-479E-4354-9341-D8E2A1A0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769D7-726A-4B2B-8631-0B81A2F7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34C-73D5-4FCF-A00B-4E3954F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72088-56C1-4CDA-9C2A-F13592A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7EDF2-4DDB-4F60-839C-5BAAE7A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0E207-8273-48EC-904F-2F21EFFB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3E1B2-9DD2-4008-AB04-59E5B3E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308F6-9E69-49ED-AD5A-71D83D75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BB867-EEC3-4CC9-A8C1-C88BA44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FE664-61E3-4A45-919F-11992C9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D6885-09E8-4C2F-8BE7-5B54264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D67C0-03A7-4152-A004-CED632CE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0A41A-B1F8-4F7E-A3C7-6CEA8B34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2C4-36A5-4E9B-8C8E-2A9C5FE6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DBAE7-0C2E-4D6D-AE30-85A3999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03D3E-0B37-4585-B893-BD05E21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832A-D561-4E1E-94E6-85E04C19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59E8E-BB78-419C-9AC9-CF422A1D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CB95-60BD-48C0-A55B-F2C5C22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43F7C-902E-4ABC-B8BE-D29FA6D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329A5-63B2-47A6-9B02-3344C181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21D6C-BEC4-4D1D-94FB-FB8B87C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0EC79-BD82-42A8-AAB7-65230FC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C5ED5-C793-44DB-AFAD-F78E495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CB42-BA65-4EE4-930D-692B4DA1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4A002-F496-40BE-8A3C-C15964B5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22320-89D0-4238-A2D2-160F1404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9260-5B06-4FF0-914F-6EAEFCF3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DECB4-50ED-4316-A154-F94AB409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54E47-538A-4D25-AF7E-DF84C4B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7C415-8C3B-48DD-A585-32243AD9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966D-0175-4A42-8EC2-DE05912A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C8491-8A91-47D0-8C7B-FBB5B12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A868C-DD84-4CB2-938F-6BCA4D58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BFB8-8A37-4E2B-B43A-84288EB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C662-5440-489D-A1B6-AEC9565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EBBDA-A1C4-4919-BB34-1DB1D19D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4708A-4538-48F1-880B-28242D0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7E33F-01AD-448F-BF29-264B474D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F09DA-A875-4DCA-BCF3-DF15F474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3AD9-B447-4AD1-9E72-0AD22E9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9E938-1608-4D9D-94CB-E9DE9CE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7D7C0-5D9D-4B99-ADB3-649C63A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F3C3F-02EC-4B66-AA75-EED6756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1B811-6804-4B46-84D8-50B1873F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DE294-7229-481C-9F79-D8AFAC9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C46-7856-42FD-A31D-02CFC341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A2042-4624-4096-AE15-4702E42A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FC02C-7C09-403E-9552-FC85755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173A6-525A-4CCE-AB1A-19089CB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AC69A-1F0E-4F28-BC37-3B4516C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0C441-9CDA-46CB-A5E5-6775959B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CC689-F34D-4C27-9597-1641371B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363B9-F225-4D56-958F-70BB1582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52E6D-520E-4A7F-822C-4CC29B3F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EBDBE-9724-4521-9AC7-EB97164A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E9AB2-85FD-4292-AF39-7235C33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C768-9CE2-47B2-99DE-1FBBD549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69689-74B6-42FB-9969-7CBFF8D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E1AC9-638A-4797-9E27-81610ADA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A6429-6C6A-47A2-BD3C-728F5F19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08DD1-DF83-4212-83AC-209A9D5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B4A93-F150-4AB4-8AFB-7C65FE2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D328D-1E40-4A14-8EF1-BE455C27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2636A-C0E1-4469-ACFF-BC5C8D8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77EED-56DD-4BAD-97AE-620CD11B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E3259-E80D-4F20-A61D-E853789B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4E2C6-6960-40A7-9463-8AD93C4B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4FA-4F7E-4A32-953D-76246F3E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69C7B-76A9-471D-86FF-130C489C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57EF7-64A1-489E-BBDB-5C183CA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B920F-05BD-41BB-9CAD-4748F59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369A0-5F75-4C59-9E3D-28F18FE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32705-7D9F-46ED-8C6D-E6E5CF8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7DB19-E8C2-4592-BC83-E44E9DE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677BA-1C14-4876-B258-EA1F846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72779-77D3-4766-ADB7-8DCCB59E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47ACE-86D9-4956-B712-07B6A5D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C177A-6939-4089-A7F6-4FD9FBCE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504-3471-4423-AA30-72142DA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86F13-EC2A-4683-9AED-DE1F22F5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91C5C-65E0-4608-8323-428EF433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3309F-6D03-4018-A167-D3EB1AA1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DA071-608D-4EA1-9B6E-C2682E6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EA825-053F-4E18-97EC-86810AAF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95443-549C-4472-80A3-6F319ED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ED2C3-6763-4BA9-8A0C-8485932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A7731-377B-454E-8AE6-392FE78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FC204-9840-4FAA-8BC3-1A9D2D8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3F01F-343B-498A-B39D-B7CDFCE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18ED-08D6-4FA2-B672-08F60EB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871E6-9BF7-46FC-9BB3-EEC48D39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077A4-BA19-4823-AA26-0DEEA215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A3D33-D356-4966-9214-39CD3C53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B8678-FDF4-471A-8AAA-768F6B01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9A710-F79B-4D8C-8D5C-FB74726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4B26D-7DE2-4A5B-83B8-BC591BD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441F3-6951-4D4F-83D9-2429055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1E213-EEF8-46C2-BD1C-BB96FD0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2DA69-FFCF-442A-AEDD-5A7AE95D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8FE79-2157-4E73-81A2-A3491419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79E-C7A7-49D8-B448-B3BD95F9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5C5-ED34-4A46-B834-A086037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00364-9BE7-4114-80F8-B892177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AB5CA-E077-4D33-AB2D-D4AE190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9FC48-26DC-4C88-9C30-0C02C19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37B7C-3D98-4FF8-A535-6E2A1451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925F1-3D9A-4602-AD22-5D63BC0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460AB-0924-4765-8F92-25067B6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0EACE-F85A-41AB-A94A-D061C1A1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76278-DB50-42E2-96BD-62E2652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E2D21-B9F3-4CC9-88D4-BB98015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83D39-2F91-44D4-9D46-2F428563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3F45-3A92-4ED1-AFC0-1F6BC72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6F1C5-53D5-4EB0-B1BB-566A81D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AB665-B6A9-415C-A11E-506DFA9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183DB-FAD5-440B-A1E8-1F7F4B2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9448D-F5C3-4847-9443-F839D0D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243AD-9B12-4F3D-8957-EC49A54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3B065-5C97-495C-9223-2F033E14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0996E-3783-4CC6-9AE9-DC352C7C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96BA0-4008-479A-8230-249B8CC0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E64BC-9B57-4341-A004-0AB8CD0A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4B545-D071-4D71-9923-93CAE651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FD06-6C09-4729-8BA4-5A76BBF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14AC6-9004-4D28-8B6B-FE07421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45BB0-79A7-49F1-A8B4-33EEB26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274F6-75FB-4BC2-A53B-D49B77D9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A4BB10-D9CD-4509-A8E2-8D1E1C5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68251-E548-4936-97EC-DB16999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66760-5FC0-4D6D-BD8D-DCFC6B9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8B9CF-FF54-45B2-B869-81B42618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00D5D-C742-4F1C-95B4-D821F179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A0E6F-EB9B-4FDC-83E4-50D13EC0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6663B-6718-4D7D-8A4A-B80A8B70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F7B-4E87-42F6-82D7-3D617345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816BB-06BF-4279-B5F5-A52F411A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5D73B-A35E-44F4-83CD-996C88A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39AC4-BD75-4D7E-8981-A0C6892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01782-E787-4CCB-A2ED-DD1DA35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5C2A4-8DEA-4621-8CA7-84BEA60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3B949-9E1C-4A39-BC35-143F471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7402E-45D7-48D7-958C-43B69EB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F6ED5-698D-459E-8C28-9C252B7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CFD27-CFB3-4FCC-8876-43A03C6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DFBA2-E8BD-485B-8700-A29BCE5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D09C-90A3-4A9A-AF7C-28D5A738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55C91-3421-48CD-9556-CDEB0DA3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FF90F0-0404-4BD8-BE00-FE55DADC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C2FBB-D581-456B-B848-C51AF6D8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1A0CD-9760-459F-9978-DC414A03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B36DF-C751-4478-B6DC-E0D940B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319D1-7EC6-4C2B-A6DF-9402E5C7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0421A-BBBD-446C-ACAB-5A0AD641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94963-A627-4595-BA65-EC7E72E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CE77A-C210-4846-BED2-B7ADAC3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BD358-8FEA-434F-9168-069DB40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158A-2C20-434C-AA0B-4586F8D0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3323C-C862-4FA3-BF07-87745D6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2DAE4-F863-43A8-AC63-3CCEB2C8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8BDD4-1E9F-4888-B911-5777D0DA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05FA9-19A0-4C95-B71D-9970C299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DDC3E0-EF86-4A96-9504-E68D23F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628C2-82A0-47BE-A8E0-B7F3E56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76779-DF68-4E12-A336-C8501E3C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BCB38-3447-43DF-8F42-23497290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1F6F9-2581-4D0D-B6E9-19D6C6AF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340BF-442F-47BD-A252-35FBE6F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D9B9-1E90-4BFA-B5F1-71E10CE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CEF9F-AE67-4409-92AA-1D324797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FFFFAF-B640-4975-8BD4-B93AFC0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83860-01A0-4E89-9418-6545715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04DED-2CE7-416E-9B13-EFDE2AF0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19E27D-C6C7-4810-ACF7-14BCFEDC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248DCD-846E-4F30-AA63-3B2F00A5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AA0B41-D7E1-43D8-848E-10F8957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B325C1-9263-4CE7-8BEB-EA411AD0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717E8-AF4D-4F69-A848-F76346E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CBA81-8764-4413-B19C-3F15632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0A34-2445-4232-A276-139F6A8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08993-8072-4A16-A5E4-A1B93F8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490EB-2704-4852-876B-735468D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2E447-1BD5-4D47-84CF-300A4F5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0F00E8-659B-4E6A-909D-E56560B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AD0D7D-D204-417D-A450-7730A95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0822C-9A26-4F75-A7F2-D7DE5A59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EAA908-2FDF-4A78-9692-A70EF3C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78FFD5-FB43-418C-85AA-DB7A587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D6B4FD-0F32-4775-9084-985492B1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6D199-FF96-4721-A09D-2300B923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0A2A-1854-4AB3-8A4A-3E648E5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2962D7-E34D-4BFF-8F51-F51CB808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626C9-4959-415A-A63A-2788280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02D75-BE12-41E7-B196-8C73BF0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D573B-5FF7-46BA-B3F0-22F0E7D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156AFF-10CA-49EC-B133-FA53E85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B0FE1-3CDD-4A97-B2F8-76EB23A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458E2-94B1-41BA-96B5-D40C711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36B5D-42BB-47E4-A84C-6235516D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93B1E0-F038-4A6E-B023-95AE71C8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5F0B9D-5BB3-4282-859A-A1553476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855F-8C2F-40D3-B412-4D6DF9E7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A94D7-0DCB-4640-94B0-1DAC520E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55E56-CC69-49FF-A5C2-604A7C7C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5E83BB-5843-4DD0-B752-820FC42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752D04-61DA-4415-9B4C-C0F23E5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770253-CDFB-4334-9D80-5AB5A4FA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5E6D26-5AC2-4460-8E27-18ADDF6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2A2210-A629-4B2C-93B9-D2CFC17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A29591-2705-48B8-BEB7-582CEBE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DA6111-D0F0-496F-9379-F949123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7C214C-F578-4CCC-B7F0-970AD730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FE2-84FA-41B8-9FFA-8E45192A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3803-DE53-404E-A0DE-1999D840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03D9E-1939-408E-804E-8FE7FB93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501CD-7B0E-4353-94D0-558A4CC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7B220-3CDF-413B-857E-AA67DB7D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455621-7E29-466C-BBC9-5061F1E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1CEB1-28A7-4B67-B171-26806A99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5C5F8D-D095-43DF-8604-90F5C2A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9C189E-F800-4AAA-B425-020932CE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E34C26-6832-4545-B4E1-ACCBED4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32936D-8AB2-4382-8A66-E7D1202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44C38-8CF1-415A-8650-1715E46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CF53-87D1-4E11-B2F4-3AEBC87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4A2766-4C1A-45EE-9739-AA4CA47C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6FC480-8741-4A1A-9934-7D7A88C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AF752C-96B1-4DCF-A3BB-C015F338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81C73-F406-4793-9918-24BF3598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4A3F89-35CC-48F9-8B15-7E378911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96B4D0-AADE-42E7-8251-089651D4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76364-3C58-4E99-9A21-41DE91B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2E5B20-4DBD-4913-84CF-374CD50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554D0D-10FE-4A4D-B9E5-0233B4C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C04ECF-3A35-4EAD-A50C-7C77FD4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897F-FAC1-437C-9E9E-D8A3C73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9174C-64B3-40AB-B347-367DE78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741F68-8D4E-443E-8C3F-8762744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05CA83-D52A-478A-8EAF-C395773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A6077F-AB65-4B76-842A-43D35FF0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128EC1-18DB-49B0-8BA4-BDA17937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EA0B21-E96B-4EDF-A185-42D83027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E6FFCE-E814-459A-8964-7EA4251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28BF8C-127D-428D-BC7F-7DAEF72D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397056-C5F0-4453-86BA-185C7E10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EBCA13-28BD-4AB9-B770-F165B12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7F89-3E0F-4430-8186-E5D39F8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419F6D-CD26-40E5-94C8-4F9551B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E4FA08-16B4-4E3F-B9B0-1DDE0ED7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A67D37-F40B-4EFF-A370-2822D11A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D7BB80-8406-4477-9699-EB4D36B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7C3584-0F25-474C-B874-F95C0D7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8B3604-9F95-46DE-B07F-4E7F02BD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26BD8D-DD23-4C77-B551-5683853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D387A9-D500-4F02-9689-E96CAB92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2B8A41-B35D-402E-BA16-DF6DC8C5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B6459D-1E03-4F62-BFC5-036A785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801D-A6E9-40CD-8C6F-A3969DD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916019-C590-44FB-B295-37C8BC1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A4116B-554E-42C4-8180-C880FAE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B18A6D-F8A3-4DA1-BCFB-C14966C1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FD6382-F55C-4D31-AB62-BBA3F8E9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01C2B6-F986-413F-9C21-8EAC50B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775134-2680-4564-86C8-BEBEC0E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E45C4-A3F4-4D90-A7EC-DFB37AE0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C4739-0647-4230-842B-F24D0D0F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5C3CAA-5727-491D-998E-C12E5023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5E94C5-C023-496F-9283-8000606B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C838-5F6C-4A05-852D-78D7D837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416992-09B9-4A17-8A9E-3C1B05EB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28BDD8-CDF4-4133-BBF6-4EA8033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DF6FFF-6F8C-450F-9176-EFC885D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02C470-8026-4D42-819D-090F09FB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8A169B-A53F-4E86-BCB6-6E931C7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5CFF2D-6FF1-44AE-883B-A6C9C86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B78298-A509-45E8-BDFB-B1421CA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D8E95D-6FD6-49EC-A7E4-F02AFC9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7C5A6F-649E-474E-91B0-4FE7606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651B1F-9D2D-4B21-A51D-3F633903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C620-42B3-40AE-8194-CC56DC05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FDEEBF-1EF2-446B-B95F-0516BA97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BA9070-880A-4A37-BB86-D641AF6D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A6F371-2FF3-41F6-BB58-AA5BB77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6905DB-9796-42BC-B68D-91F0448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13462-40B1-4C8E-8B7E-7F0BF3C1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EEA03C-5FB9-43B9-8684-1D3586D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8046FE-E25C-4313-963D-10FD189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53A46B-D3BF-43C2-B1BE-A0502455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370FEA-D171-47AB-9817-85AB516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F29D9A-EE01-4B70-B63A-F0B7760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CC0B-A6F2-4E3D-A36D-404E43BB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0ABF99-2DD2-4787-AB3E-09778E6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0BDEA0-C155-4713-AC5E-9535873E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B5CB01-3ECF-4019-BD1C-99E4BDC7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5BFCB6-F82A-40E2-AB95-3D3A25BB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D676E3-03EA-4811-9C7C-EEFC868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A04E87-F850-410A-B193-30482BC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029598-CFBC-4FE5-9B33-2590995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6D1C4B-9937-4562-8797-C77D5BD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807287-D84A-4F17-BE4D-0B660A0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5FF985-EEB5-4BBE-BE25-11262C6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82E3-6F38-4A1A-8335-3421C2B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D4CCD3-DDF2-4DB1-90B9-BD843D0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EAEC57-7B64-4056-890D-464AEDC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BFC7B0-81A9-4861-8E74-FCB192E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D85483-E2D7-43A2-872B-4CA34BD2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A32AB6-DBEC-478F-AC11-AF95F535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FA04-7453-4B89-AFE0-63BB7C1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59A-52C1-400C-9D91-4F30836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FB9A-6156-4210-AEE9-996B80FE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159D-EEDB-455D-AF0E-8E2DA68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3E2D-DB12-480D-9923-68BAA9BA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7179-BA2A-420F-BDED-611C290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1F1B-818D-498A-B866-9FF1F52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FE6E-2472-4954-A2B0-F2DB5E8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A184-067E-408E-A370-BC32E022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2815-EF44-4E29-B65B-C621BD3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B1D0-C088-4832-9A63-C3806343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B3E5-A46D-4062-8F3B-0E61108E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0E9-74F6-4348-A9B9-383A73F3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5D06-C698-44F1-A297-A2D907BF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BF5A-DC54-48D8-A16A-098DC0B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D974-066A-4B19-9C2E-59B528D2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61F0-6205-4714-BFA9-D35B1963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BDB6-D138-4A73-B2CD-69041563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F3F0-2707-46AB-87A4-CFE0B5F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1FD2-D2F6-4358-94B2-E51BB23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4FDA-384D-4066-9BE6-8AC3801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5E32-DB14-426C-A3FE-A56B582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F638-D985-4595-AE6D-4163D471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104-9FD0-4083-9016-CB102BA5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875C-1262-4FF4-80C7-4335F7BF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4776-9622-4D17-8BD7-76134F75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0D33-2EB6-418C-A718-2BA6D55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2797-46A3-4612-B7D7-687A1EF5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5D56-15F3-488A-AA22-3C85B82F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2B16-72AC-4223-B9A6-F50BBC3B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40769-4264-4A3F-9E75-5EF5456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FC98A-866A-4438-883D-DCA3DD5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E7BF-E0E7-449D-96D1-9377DE1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770C-8436-4888-A2B0-0D48AE1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ECD-856B-4FC2-86BB-3312008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E0F1-3720-4AF9-8DF3-279EAF5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9777-A2D4-4534-A2A1-C28BEA8E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63EE7-3205-4682-8914-BC13644C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4AB7-0BEA-4317-BF6E-8395A67F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A90F-8640-4818-BE13-4C3F9AD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2AD51-F211-4BAD-8042-8957817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F6AF-3055-4C29-9040-F519559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8134-8EFD-4B6A-A50D-3A84262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228D-BEE5-4760-A11A-B2D58E9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FC45-2484-4A4E-852E-243E2438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61C-3F02-4618-8891-3323B42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9719-E266-4A38-BFBE-5D4FCA0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D5A5-493E-4536-83B8-3912C0DB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893F-C882-493A-A488-FF4D093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F8AF8-F31C-44BF-9931-14FD20B6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4A704-E9F2-4494-B6B2-48279ABB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4A677-B9E0-480D-81A6-41D18C54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D03F-33F9-4124-9E84-EBA67E5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4DD53-6D87-4271-896A-B9E9669B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453C4-7909-438D-97E4-473ECAF7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05FE8-E803-4105-B53B-DD6FE890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CF2-C837-4FC1-B845-A9609EF3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83C36-406A-40DB-8FE5-898BC07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266B-6325-4EAF-8B7A-A1E5903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639C-A2DA-46E7-96FC-8618645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91A02-CDEA-4318-8EDA-8217FDB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79F8B-B7C6-4019-B714-54B61E3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7FAD-C350-43F9-A88B-88BF8E63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765DB-E069-4AE4-BE0F-FCCAE4EE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0A10-0322-40E4-9217-374A15C8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A8A13-9252-4479-BB08-411FF121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444D-CFA1-4B0F-B5CF-069C0B5C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74F9-77BE-4DB4-BB48-2F707FE48C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9717-BB6E-4BF0-B664-E75E2766EF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4CAE-CAEA-4DBE-BB37-D2E7251FC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4AE1-6BB8-4D6B-BF81-5C28BB090E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DC14-40BA-4BF5-8195-A2181F2D55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58E-6810-46BA-9321-3D42ABFF8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26E-ABD0-41B3-BD05-C667659C4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28F-9FE7-4568-8E45-111A02579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864-773D-46F7-B94E-386ADE9D82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EB7C-CEF9-4E74-96BC-E1AC528D6F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838-CCD7-4A3D-AAA7-E99FF5AC1E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A01C-497B-4992-8FB2-381F1CF3E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E5C1-C507-4BDF-9FA6-286BA3D86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F996-7284-45A4-A815-F8A10343B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5F48-7FDD-4B72-BDDE-0E6F14921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697-8129-44DF-BA99-39B30AC59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9F8-4912-42B6-AA59-83E406C42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8615-D565-469E-845A-F7EB1032B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FE9C-C806-405A-91D2-30791C4DC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F20-AEFC-42BF-8369-1046103AF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901-F020-4D66-9E92-D96EDD2BF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97C-80FE-4C1D-9C87-684775AE0E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45D-D466-4907-AF96-4B5C51CE0E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28D8-2F15-498A-8D17-A9FADC5BE0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C83-A8CB-4A4F-815D-398484993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D528-E720-40CF-BBF6-2DFAB80AD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0B57-8BC4-4193-95D0-DC34DFB33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F91-0C6C-4F5C-8A9D-4A3407514F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A28-6748-4C8E-9B91-A52BA14593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EE77-220C-4277-8C16-9A730C7540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17A7-0EF7-44AE-8785-5FF948AD9A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13B-70E5-4661-9CC7-9085E389F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8.radikal.ru/i159/0909/0d/dfb121ce78a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4"/>
          <p:cNvSpPr/>
          <p:nvPr/>
        </p:nvSpPr>
        <p:spPr>
          <a:xfrm>
            <a:off x="1476360" y="47628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няя общеобразовательная школа № 2 имени Л. Ряб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ородского округа город Шарья Костром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Рисунок 8" descr="лого_PSD копия.jpg"/>
          <p:cNvPicPr/>
          <p:nvPr/>
        </p:nvPicPr>
        <p:blipFill>
          <a:blip r:embed="rId1"/>
          <a:stretch/>
        </p:blipFill>
        <p:spPr>
          <a:xfrm>
            <a:off x="755640" y="333360"/>
            <a:ext cx="1008000" cy="1251000"/>
          </a:xfrm>
          <a:prstGeom prst="rect">
            <a:avLst/>
          </a:prstGeom>
          <a:ln w="0">
            <a:noFill/>
          </a:ln>
        </p:spPr>
      </p:pic>
      <p:sp>
        <p:nvSpPr>
          <p:cNvPr id="1455" name="Rectangle 8"/>
          <p:cNvSpPr/>
          <p:nvPr/>
        </p:nvSpPr>
        <p:spPr>
          <a:xfrm>
            <a:off x="1089000" y="282240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астицы. Разряды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9"/>
          <p:cNvSpPr/>
          <p:nvPr/>
        </p:nvSpPr>
        <p:spPr>
          <a:xfrm>
            <a:off x="1274760" y="163188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лужебные части ре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6" descr="Картинка 47 из 8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6040" y="4276800"/>
            <a:ext cx="2060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7" descr="i?id=118983093-31-72&amp;n=21"/>
          <p:cNvPicPr/>
          <p:nvPr/>
        </p:nvPicPr>
        <p:blipFill>
          <a:blip r:embed="rId1"/>
          <a:stretch/>
        </p:blipFill>
        <p:spPr>
          <a:xfrm>
            <a:off x="1569960" y="3284640"/>
            <a:ext cx="6121440" cy="2881080"/>
          </a:xfrm>
          <a:prstGeom prst="rect">
            <a:avLst/>
          </a:prstGeom>
          <a:ln w="0">
            <a:noFill/>
          </a:ln>
        </p:spPr>
      </p:pic>
      <p:sp>
        <p:nvSpPr>
          <p:cNvPr id="1495" name="TextBox 2"/>
          <p:cNvSpPr/>
          <p:nvPr/>
        </p:nvSpPr>
        <p:spPr>
          <a:xfrm>
            <a:off x="1344600" y="1746360"/>
            <a:ext cx="63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яды части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Овал 1"/>
          <p:cNvSpPr/>
          <p:nvPr/>
        </p:nvSpPr>
        <p:spPr>
          <a:xfrm>
            <a:off x="2411280" y="620640"/>
            <a:ext cx="3000600" cy="914400"/>
          </a:xfrm>
          <a:prstGeom prst="ellipse">
            <a:avLst/>
          </a:prstGeom>
          <a:solidFill>
            <a:srgbClr val="d6adff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лужебные част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Стрелка вниз 2"/>
          <p:cNvSpPr/>
          <p:nvPr/>
        </p:nvSpPr>
        <p:spPr>
          <a:xfrm rot="2569800">
            <a:off x="2405160" y="1429920"/>
            <a:ext cx="347400" cy="7509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Стрелка вниз 3"/>
          <p:cNvSpPr/>
          <p:nvPr/>
        </p:nvSpPr>
        <p:spPr>
          <a:xfrm flipV="1" rot="8893200">
            <a:off x="5492160" y="1371960"/>
            <a:ext cx="368280" cy="8697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2400" y="3273480"/>
            <a:ext cx="768240" cy="2292120"/>
          </a:xfrm>
          <a:prstGeom prst="rect">
            <a:avLst/>
          </a:prstGeom>
          <a:ln w="0">
            <a:noFill/>
          </a:ln>
        </p:spPr>
      </p:pic>
      <p:sp>
        <p:nvSpPr>
          <p:cNvPr id="1500" name="Скругленный прямоугольник 5"/>
          <p:cNvSpPr/>
          <p:nvPr/>
        </p:nvSpPr>
        <p:spPr>
          <a:xfrm>
            <a:off x="7478640" y="307008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1" name="Прямая со стрелкой 13"/>
          <p:cNvCxnSpPr/>
          <p:nvPr/>
        </p:nvCxnSpPr>
        <p:spPr>
          <a:xfrm flipH="1">
            <a:off x="3057480" y="2876400"/>
            <a:ext cx="64332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2" name="Прямая со стрелкой 14"/>
          <p:cNvCxnSpPr/>
          <p:nvPr/>
        </p:nvCxnSpPr>
        <p:spPr>
          <a:xfrm flipH="1">
            <a:off x="6584760" y="2439720"/>
            <a:ext cx="389520" cy="52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3" name="Прямая со стрелкой 15"/>
          <p:cNvCxnSpPr/>
          <p:nvPr/>
        </p:nvCxnSpPr>
        <p:spPr>
          <a:xfrm>
            <a:off x="8418240" y="3793680"/>
            <a:ext cx="1080" cy="7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4" name="Прямая со стрелкой 16"/>
          <p:cNvCxnSpPr/>
          <p:nvPr/>
        </p:nvCxnSpPr>
        <p:spPr>
          <a:xfrm>
            <a:off x="7646760" y="2519280"/>
            <a:ext cx="565560" cy="72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5" name="Овал 31"/>
          <p:cNvSpPr/>
          <p:nvPr/>
        </p:nvSpPr>
        <p:spPr>
          <a:xfrm>
            <a:off x="388800" y="1924200"/>
            <a:ext cx="2381400" cy="785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6" name="Прямая со стрелкой 32"/>
          <p:cNvCxnSpPr/>
          <p:nvPr/>
        </p:nvCxnSpPr>
        <p:spPr>
          <a:xfrm flipH="1">
            <a:off x="616680" y="2604960"/>
            <a:ext cx="27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7" name="Прямоугольник 49"/>
          <p:cNvSpPr/>
          <p:nvPr/>
        </p:nvSpPr>
        <p:spPr>
          <a:xfrm>
            <a:off x="6181560" y="4226040"/>
            <a:ext cx="1222560" cy="3776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50"/>
          <p:cNvSpPr/>
          <p:nvPr/>
        </p:nvSpPr>
        <p:spPr>
          <a:xfrm>
            <a:off x="4821120" y="4226040"/>
            <a:ext cx="1116000" cy="4064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51"/>
          <p:cNvSpPr/>
          <p:nvPr/>
        </p:nvSpPr>
        <p:spPr>
          <a:xfrm>
            <a:off x="6224760" y="4876920"/>
            <a:ext cx="121896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52"/>
          <p:cNvSpPr/>
          <p:nvPr/>
        </p:nvSpPr>
        <p:spPr>
          <a:xfrm>
            <a:off x="7613640" y="4521240"/>
            <a:ext cx="1393920" cy="399960"/>
          </a:xfrm>
          <a:prstGeom prst="rect">
            <a:avLst/>
          </a:prstGeom>
          <a:solidFill>
            <a:srgbClr val="e0ebeb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Овал 29"/>
          <p:cNvSpPr/>
          <p:nvPr/>
        </p:nvSpPr>
        <p:spPr>
          <a:xfrm>
            <a:off x="5937120" y="1654200"/>
            <a:ext cx="2436840" cy="78588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Скругленный прямоугольник 30"/>
          <p:cNvSpPr/>
          <p:nvPr/>
        </p:nvSpPr>
        <p:spPr>
          <a:xfrm>
            <a:off x="1579680" y="3390840"/>
            <a:ext cx="1774800" cy="684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3" name="Picture 2" descr=""/>
          <p:cNvPicPr/>
          <p:nvPr/>
        </p:nvPicPr>
        <p:blipFill>
          <a:blip r:embed="rId2"/>
          <a:stretch/>
        </p:blipFill>
        <p:spPr>
          <a:xfrm rot="18879000">
            <a:off x="2170800" y="2615040"/>
            <a:ext cx="433440" cy="971640"/>
          </a:xfrm>
          <a:prstGeom prst="rect">
            <a:avLst/>
          </a:prstGeom>
          <a:ln w="0">
            <a:noFill/>
          </a:ln>
        </p:spPr>
      </p:pic>
      <p:sp>
        <p:nvSpPr>
          <p:cNvPr id="1514" name="Скругленный прямоугольник 33"/>
          <p:cNvSpPr/>
          <p:nvPr/>
        </p:nvSpPr>
        <p:spPr>
          <a:xfrm>
            <a:off x="5308560" y="308916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37"/>
          <p:cNvSpPr/>
          <p:nvPr/>
        </p:nvSpPr>
        <p:spPr>
          <a:xfrm>
            <a:off x="6202440" y="5467320"/>
            <a:ext cx="122076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6" name="Прямая со стрелкой 54"/>
          <p:cNvCxnSpPr/>
          <p:nvPr/>
        </p:nvCxnSpPr>
        <p:spPr>
          <a:xfrm>
            <a:off x="8451360" y="4852800"/>
            <a:ext cx="108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7" name="Овал 6"/>
          <p:cNvSpPr/>
          <p:nvPr/>
        </p:nvSpPr>
        <p:spPr>
          <a:xfrm>
            <a:off x="3203640" y="2205000"/>
            <a:ext cx="2173320" cy="7509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Стрелка вниз 7"/>
          <p:cNvSpPr/>
          <p:nvPr/>
        </p:nvSpPr>
        <p:spPr>
          <a:xfrm>
            <a:off x="4067280" y="1628640"/>
            <a:ext cx="242640" cy="66060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Picture 31" descr=""/>
          <p:cNvPicPr/>
          <p:nvPr/>
        </p:nvPicPr>
        <p:blipFill>
          <a:blip r:embed="rId3"/>
          <a:stretch/>
        </p:blipFill>
        <p:spPr>
          <a:xfrm>
            <a:off x="6202440" y="6037200"/>
            <a:ext cx="1220760" cy="47304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32" descr=""/>
          <p:cNvPicPr/>
          <p:nvPr/>
        </p:nvPicPr>
        <p:blipFill>
          <a:blip r:embed="rId4"/>
          <a:stretch/>
        </p:blipFill>
        <p:spPr>
          <a:xfrm>
            <a:off x="7634160" y="5132520"/>
            <a:ext cx="1414440" cy="42048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33" descr=""/>
          <p:cNvPicPr/>
          <p:nvPr/>
        </p:nvPicPr>
        <p:blipFill>
          <a:blip r:embed="rId5"/>
          <a:stretch/>
        </p:blipFill>
        <p:spPr>
          <a:xfrm>
            <a:off x="4834080" y="6037200"/>
            <a:ext cx="1282680" cy="50652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34" descr=""/>
          <p:cNvPicPr/>
          <p:nvPr/>
        </p:nvPicPr>
        <p:blipFill>
          <a:blip r:embed="rId6"/>
          <a:stretch/>
        </p:blipFill>
        <p:spPr>
          <a:xfrm>
            <a:off x="4834080" y="5467320"/>
            <a:ext cx="1212840" cy="50652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5" descr=""/>
          <p:cNvPicPr/>
          <p:nvPr/>
        </p:nvPicPr>
        <p:blipFill>
          <a:blip r:embed="rId7"/>
          <a:stretch/>
        </p:blipFill>
        <p:spPr>
          <a:xfrm>
            <a:off x="4834080" y="4878360"/>
            <a:ext cx="1212840" cy="506520"/>
          </a:xfrm>
          <a:prstGeom prst="rect">
            <a:avLst/>
          </a:prstGeom>
          <a:ln w="0">
            <a:noFill/>
          </a:ln>
        </p:spPr>
      </p:pic>
      <p:pic>
        <p:nvPicPr>
          <p:cNvPr id="1524" name="Скругленный прямоугольник 18" descr=""/>
          <p:cNvPicPr/>
          <p:nvPr/>
        </p:nvPicPr>
        <p:blipFill>
          <a:blip r:embed="rId8"/>
          <a:stretch/>
        </p:blipFill>
        <p:spPr>
          <a:xfrm>
            <a:off x="3882960" y="3273480"/>
            <a:ext cx="768240" cy="2292120"/>
          </a:xfrm>
          <a:prstGeom prst="rect">
            <a:avLst/>
          </a:prstGeom>
          <a:ln w="0">
            <a:noFill/>
          </a:ln>
        </p:spPr>
      </p:pic>
      <p:cxnSp>
        <p:nvCxnSpPr>
          <p:cNvPr id="1525" name="Прямая со стрелкой 20"/>
          <p:cNvCxnSpPr/>
          <p:nvPr/>
        </p:nvCxnSpPr>
        <p:spPr>
          <a:xfrm>
            <a:off x="4186080" y="2868120"/>
            <a:ext cx="1612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Прямоугольник 2"/>
          <p:cNvSpPr/>
          <p:nvPr/>
        </p:nvSpPr>
        <p:spPr>
          <a:xfrm>
            <a:off x="539640" y="2133720"/>
            <a:ext cx="761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3"/>
          <p:cNvSpPr/>
          <p:nvPr/>
        </p:nvSpPr>
        <p:spPr>
          <a:xfrm>
            <a:off x="295200" y="836640"/>
            <a:ext cx="796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Формулируем цел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Picture 5" descr=""/>
          <p:cNvPicPr/>
          <p:nvPr/>
        </p:nvPicPr>
        <p:blipFill>
          <a:blip r:embed="rId1"/>
          <a:stretch/>
        </p:blipFill>
        <p:spPr>
          <a:xfrm>
            <a:off x="6694560" y="4365720"/>
            <a:ext cx="2060640" cy="223668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ЗНАТЬ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УЧИТЬСЯ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НЯТЬ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64360" cy="5832720"/>
          </a:xfrm>
          <a:prstGeom prst="rect">
            <a:avLst/>
          </a:prstGeom>
          <a:ln w="0">
            <a:noFill/>
          </a:ln>
        </p:spPr>
      </p:pic>
      <p:sp>
        <p:nvSpPr>
          <p:cNvPr id="1532" name="TextBox 4"/>
          <p:cNvSpPr/>
          <p:nvPr/>
        </p:nvSpPr>
        <p:spPr>
          <a:xfrm>
            <a:off x="2784240" y="630540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И. Левитан.  Ранняя вес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скорее наступит весна! Мы бы с удовольствием отправились на прогулку в лес.  Радовались бы солнечным лучам, птичьему пению. Давайте будем мечтать, и мечты сбуд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дорово, что пришла весна!  Не щиплет нос мороз, не метет метель. Только весной так ярко светит солнце, так звонко поют птицы. Что за чудесное время г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рее наступит весна! М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довольствием отправились на прогулку в лес.  Радовались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ечным лучам, птичьему пению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м мечтать, и мечты сбуд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, что пришла весна!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иплет нос мороз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ет метель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ной так ярко светит солнце, так звонко поют птицы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ое время г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5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1101960" cy="1500120"/>
          </a:xfrm>
          <a:prstGeom prst="rect">
            <a:avLst/>
          </a:prstGeom>
          <a:ln w="0">
            <a:noFill/>
          </a:ln>
        </p:spPr>
      </p:pic>
      <p:sp>
        <p:nvSpPr>
          <p:cNvPr id="1538" name="TextBox 1"/>
          <p:cNvSpPr/>
          <p:nvPr/>
        </p:nvSpPr>
        <p:spPr>
          <a:xfrm>
            <a:off x="6094800" y="61038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. 208- 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Овал 1"/>
          <p:cNvSpPr/>
          <p:nvPr/>
        </p:nvSpPr>
        <p:spPr>
          <a:xfrm>
            <a:off x="2411280" y="620640"/>
            <a:ext cx="3000600" cy="914400"/>
          </a:xfrm>
          <a:prstGeom prst="ellipse">
            <a:avLst/>
          </a:prstGeom>
          <a:solidFill>
            <a:srgbClr val="d6adff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лужебные част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Стрелка вниз 2"/>
          <p:cNvSpPr/>
          <p:nvPr/>
        </p:nvSpPr>
        <p:spPr>
          <a:xfrm rot="2569800">
            <a:off x="2405160" y="1429920"/>
            <a:ext cx="347400" cy="7509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Стрелка вниз 3"/>
          <p:cNvSpPr/>
          <p:nvPr/>
        </p:nvSpPr>
        <p:spPr>
          <a:xfrm flipV="1" rot="8893200">
            <a:off x="5492160" y="1371960"/>
            <a:ext cx="368280" cy="8697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2400" y="3273480"/>
            <a:ext cx="768240" cy="2292120"/>
          </a:xfrm>
          <a:prstGeom prst="rect">
            <a:avLst/>
          </a:prstGeom>
          <a:ln w="0">
            <a:noFill/>
          </a:ln>
        </p:spPr>
      </p:pic>
      <p:sp>
        <p:nvSpPr>
          <p:cNvPr id="1543" name="Скругленный прямоугольник 5"/>
          <p:cNvSpPr/>
          <p:nvPr/>
        </p:nvSpPr>
        <p:spPr>
          <a:xfrm>
            <a:off x="7478640" y="307008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4" name="Прямая со стрелкой 13"/>
          <p:cNvCxnSpPr/>
          <p:nvPr/>
        </p:nvCxnSpPr>
        <p:spPr>
          <a:xfrm flipH="1">
            <a:off x="3057480" y="2876400"/>
            <a:ext cx="64332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5" name="Прямая со стрелкой 14"/>
          <p:cNvCxnSpPr/>
          <p:nvPr/>
        </p:nvCxnSpPr>
        <p:spPr>
          <a:xfrm flipH="1">
            <a:off x="6584760" y="2439720"/>
            <a:ext cx="389520" cy="52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6" name="Прямая со стрелкой 15"/>
          <p:cNvCxnSpPr/>
          <p:nvPr/>
        </p:nvCxnSpPr>
        <p:spPr>
          <a:xfrm>
            <a:off x="8418240" y="3793680"/>
            <a:ext cx="1080" cy="7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7" name="Прямая со стрелкой 16"/>
          <p:cNvCxnSpPr/>
          <p:nvPr/>
        </p:nvCxnSpPr>
        <p:spPr>
          <a:xfrm>
            <a:off x="7646760" y="2519280"/>
            <a:ext cx="565560" cy="72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8" name="Овал 31"/>
          <p:cNvSpPr/>
          <p:nvPr/>
        </p:nvSpPr>
        <p:spPr>
          <a:xfrm>
            <a:off x="388800" y="1924200"/>
            <a:ext cx="2381400" cy="785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9" name="Прямая со стрелкой 32"/>
          <p:cNvCxnSpPr/>
          <p:nvPr/>
        </p:nvCxnSpPr>
        <p:spPr>
          <a:xfrm flipH="1">
            <a:off x="616680" y="2604960"/>
            <a:ext cx="27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0" name="Прямоугольник 49"/>
          <p:cNvSpPr/>
          <p:nvPr/>
        </p:nvSpPr>
        <p:spPr>
          <a:xfrm>
            <a:off x="6181560" y="4226040"/>
            <a:ext cx="1222560" cy="3776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50"/>
          <p:cNvSpPr/>
          <p:nvPr/>
        </p:nvSpPr>
        <p:spPr>
          <a:xfrm>
            <a:off x="4821120" y="4226040"/>
            <a:ext cx="1116000" cy="4064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Прямоугольник 51"/>
          <p:cNvSpPr/>
          <p:nvPr/>
        </p:nvSpPr>
        <p:spPr>
          <a:xfrm>
            <a:off x="6224760" y="4876920"/>
            <a:ext cx="121896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52"/>
          <p:cNvSpPr/>
          <p:nvPr/>
        </p:nvSpPr>
        <p:spPr>
          <a:xfrm>
            <a:off x="7613640" y="4521240"/>
            <a:ext cx="1393920" cy="399960"/>
          </a:xfrm>
          <a:prstGeom prst="rect">
            <a:avLst/>
          </a:prstGeom>
          <a:solidFill>
            <a:srgbClr val="e0ebeb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Овал 29"/>
          <p:cNvSpPr/>
          <p:nvPr/>
        </p:nvSpPr>
        <p:spPr>
          <a:xfrm>
            <a:off x="5937120" y="1654200"/>
            <a:ext cx="2436840" cy="78588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Скругленный прямоугольник 30"/>
          <p:cNvSpPr/>
          <p:nvPr/>
        </p:nvSpPr>
        <p:spPr>
          <a:xfrm>
            <a:off x="1579680" y="3390840"/>
            <a:ext cx="1774800" cy="684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6" name="Picture 2" descr=""/>
          <p:cNvPicPr/>
          <p:nvPr/>
        </p:nvPicPr>
        <p:blipFill>
          <a:blip r:embed="rId2"/>
          <a:stretch/>
        </p:blipFill>
        <p:spPr>
          <a:xfrm rot="18879000">
            <a:off x="2170800" y="2615040"/>
            <a:ext cx="433440" cy="971640"/>
          </a:xfrm>
          <a:prstGeom prst="rect">
            <a:avLst/>
          </a:prstGeom>
          <a:ln w="0">
            <a:noFill/>
          </a:ln>
        </p:spPr>
      </p:pic>
      <p:sp>
        <p:nvSpPr>
          <p:cNvPr id="1557" name="Скругленный прямоугольник 33"/>
          <p:cNvSpPr/>
          <p:nvPr/>
        </p:nvSpPr>
        <p:spPr>
          <a:xfrm>
            <a:off x="5308560" y="308916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Прямоугольник 37"/>
          <p:cNvSpPr/>
          <p:nvPr/>
        </p:nvSpPr>
        <p:spPr>
          <a:xfrm>
            <a:off x="6202440" y="5467320"/>
            <a:ext cx="122076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9" name="Прямая со стрелкой 54"/>
          <p:cNvCxnSpPr/>
          <p:nvPr/>
        </p:nvCxnSpPr>
        <p:spPr>
          <a:xfrm>
            <a:off x="8451360" y="4852800"/>
            <a:ext cx="108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0" name="Овал 6"/>
          <p:cNvSpPr/>
          <p:nvPr/>
        </p:nvSpPr>
        <p:spPr>
          <a:xfrm>
            <a:off x="3203640" y="2205000"/>
            <a:ext cx="2173320" cy="7509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Стрелка вниз 7"/>
          <p:cNvSpPr/>
          <p:nvPr/>
        </p:nvSpPr>
        <p:spPr>
          <a:xfrm>
            <a:off x="4067280" y="1628640"/>
            <a:ext cx="242640" cy="66060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Picture 31" descr=""/>
          <p:cNvPicPr/>
          <p:nvPr/>
        </p:nvPicPr>
        <p:blipFill>
          <a:blip r:embed="rId3"/>
          <a:stretch/>
        </p:blipFill>
        <p:spPr>
          <a:xfrm>
            <a:off x="6202440" y="6037200"/>
            <a:ext cx="1220760" cy="47304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32" descr=""/>
          <p:cNvPicPr/>
          <p:nvPr/>
        </p:nvPicPr>
        <p:blipFill>
          <a:blip r:embed="rId4"/>
          <a:stretch/>
        </p:blipFill>
        <p:spPr>
          <a:xfrm>
            <a:off x="7634160" y="5132520"/>
            <a:ext cx="1414440" cy="42048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33" descr=""/>
          <p:cNvPicPr/>
          <p:nvPr/>
        </p:nvPicPr>
        <p:blipFill>
          <a:blip r:embed="rId5"/>
          <a:stretch/>
        </p:blipFill>
        <p:spPr>
          <a:xfrm>
            <a:off x="4834080" y="6037200"/>
            <a:ext cx="1282680" cy="50652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34" descr=""/>
          <p:cNvPicPr/>
          <p:nvPr/>
        </p:nvPicPr>
        <p:blipFill>
          <a:blip r:embed="rId6"/>
          <a:stretch/>
        </p:blipFill>
        <p:spPr>
          <a:xfrm>
            <a:off x="4834080" y="5467320"/>
            <a:ext cx="1212840" cy="50652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35" descr=""/>
          <p:cNvPicPr/>
          <p:nvPr/>
        </p:nvPicPr>
        <p:blipFill>
          <a:blip r:embed="rId7"/>
          <a:stretch/>
        </p:blipFill>
        <p:spPr>
          <a:xfrm>
            <a:off x="4834080" y="4878360"/>
            <a:ext cx="1212840" cy="506520"/>
          </a:xfrm>
          <a:prstGeom prst="rect">
            <a:avLst/>
          </a:prstGeom>
          <a:ln w="0">
            <a:noFill/>
          </a:ln>
        </p:spPr>
      </p:pic>
      <p:pic>
        <p:nvPicPr>
          <p:cNvPr id="1567" name="Скругленный прямоугольник 18" descr=""/>
          <p:cNvPicPr/>
          <p:nvPr/>
        </p:nvPicPr>
        <p:blipFill>
          <a:blip r:embed="rId8"/>
          <a:stretch/>
        </p:blipFill>
        <p:spPr>
          <a:xfrm>
            <a:off x="3882960" y="3273480"/>
            <a:ext cx="768240" cy="2292120"/>
          </a:xfrm>
          <a:prstGeom prst="rect">
            <a:avLst/>
          </a:prstGeom>
          <a:ln w="0">
            <a:noFill/>
          </a:ln>
        </p:spPr>
      </p:pic>
      <p:cxnSp>
        <p:nvCxnSpPr>
          <p:cNvPr id="1568" name="Прямая со стрелкой 20"/>
          <p:cNvCxnSpPr/>
          <p:nvPr/>
        </p:nvCxnSpPr>
        <p:spPr>
          <a:xfrm>
            <a:off x="4186080" y="2868120"/>
            <a:ext cx="1612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Овал 1"/>
          <p:cNvSpPr/>
          <p:nvPr/>
        </p:nvSpPr>
        <p:spPr>
          <a:xfrm>
            <a:off x="2268360" y="620640"/>
            <a:ext cx="3000600" cy="914400"/>
          </a:xfrm>
          <a:prstGeom prst="ellipse">
            <a:avLst/>
          </a:prstGeom>
          <a:solidFill>
            <a:srgbClr val="d6adff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лужебные част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Стрелка вниз 2"/>
          <p:cNvSpPr/>
          <p:nvPr/>
        </p:nvSpPr>
        <p:spPr>
          <a:xfrm rot="2569800">
            <a:off x="1892160" y="1370160"/>
            <a:ext cx="276480" cy="48564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трелка вниз 3"/>
          <p:cNvSpPr/>
          <p:nvPr/>
        </p:nvSpPr>
        <p:spPr>
          <a:xfrm flipV="1" rot="8893200">
            <a:off x="5614560" y="1370880"/>
            <a:ext cx="252360" cy="4762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2400" y="3273480"/>
            <a:ext cx="768240" cy="2292120"/>
          </a:xfrm>
          <a:prstGeom prst="rect">
            <a:avLst/>
          </a:prstGeom>
          <a:ln w="0">
            <a:noFill/>
          </a:ln>
        </p:spPr>
      </p:pic>
      <p:sp>
        <p:nvSpPr>
          <p:cNvPr id="1573" name="Скругленный прямоугольник 5"/>
          <p:cNvSpPr/>
          <p:nvPr/>
        </p:nvSpPr>
        <p:spPr>
          <a:xfrm>
            <a:off x="7170840" y="287820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уют формы глаг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4" name="Прямая со стрелкой 13"/>
          <p:cNvCxnSpPr/>
          <p:nvPr/>
        </p:nvCxnSpPr>
        <p:spPr>
          <a:xfrm flipH="1">
            <a:off x="2626920" y="2924280"/>
            <a:ext cx="48816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5" name="Прямая со стрелкой 14"/>
          <p:cNvCxnSpPr/>
          <p:nvPr/>
        </p:nvCxnSpPr>
        <p:spPr>
          <a:xfrm flipH="1">
            <a:off x="5713200" y="2374920"/>
            <a:ext cx="389520" cy="52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6" name="Прямая со стрелкой 15"/>
          <p:cNvCxnSpPr/>
          <p:nvPr/>
        </p:nvCxnSpPr>
        <p:spPr>
          <a:xfrm>
            <a:off x="8071920" y="3676320"/>
            <a:ext cx="1080" cy="44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7" name="Прямая со стрелкой 16"/>
          <p:cNvCxnSpPr/>
          <p:nvPr/>
        </p:nvCxnSpPr>
        <p:spPr>
          <a:xfrm>
            <a:off x="7367760" y="2241360"/>
            <a:ext cx="2829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8" name="Овал 31"/>
          <p:cNvSpPr/>
          <p:nvPr/>
        </p:nvSpPr>
        <p:spPr>
          <a:xfrm>
            <a:off x="250920" y="1844640"/>
            <a:ext cx="2382840" cy="785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9" name="Прямая со стрелкой 32"/>
          <p:cNvCxnSpPr/>
          <p:nvPr/>
        </p:nvCxnSpPr>
        <p:spPr>
          <a:xfrm flipH="1">
            <a:off x="616680" y="2604960"/>
            <a:ext cx="27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0" name="Прямоугольник 49"/>
          <p:cNvSpPr/>
          <p:nvPr/>
        </p:nvSpPr>
        <p:spPr>
          <a:xfrm>
            <a:off x="5572080" y="4148280"/>
            <a:ext cx="1222560" cy="3776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рямоугольник 50"/>
          <p:cNvSpPr/>
          <p:nvPr/>
        </p:nvSpPr>
        <p:spPr>
          <a:xfrm>
            <a:off x="3941640" y="4113360"/>
            <a:ext cx="1312920" cy="492120"/>
          </a:xfrm>
          <a:prstGeom prst="rect">
            <a:avLst/>
          </a:prstGeom>
          <a:solidFill>
            <a:srgbClr val="ffffc2"/>
          </a:soli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51"/>
          <p:cNvSpPr/>
          <p:nvPr/>
        </p:nvSpPr>
        <p:spPr>
          <a:xfrm>
            <a:off x="5405400" y="4997520"/>
            <a:ext cx="138744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52"/>
          <p:cNvSpPr/>
          <p:nvPr/>
        </p:nvSpPr>
        <p:spPr>
          <a:xfrm>
            <a:off x="7053120" y="4172040"/>
            <a:ext cx="2011680" cy="707760"/>
          </a:xfrm>
          <a:prstGeom prst="rect">
            <a:avLst/>
          </a:prstGeom>
          <a:solidFill>
            <a:srgbClr val="e0ebeb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Овал 29"/>
          <p:cNvSpPr/>
          <p:nvPr/>
        </p:nvSpPr>
        <p:spPr>
          <a:xfrm>
            <a:off x="5724360" y="1773360"/>
            <a:ext cx="2436840" cy="7855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Скругленный прямоугольник 30"/>
          <p:cNvSpPr/>
          <p:nvPr/>
        </p:nvSpPr>
        <p:spPr>
          <a:xfrm>
            <a:off x="1101600" y="3733920"/>
            <a:ext cx="1774800" cy="68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Picture 2" descr=""/>
          <p:cNvPicPr/>
          <p:nvPr/>
        </p:nvPicPr>
        <p:blipFill>
          <a:blip r:embed="rId2"/>
          <a:stretch/>
        </p:blipFill>
        <p:spPr>
          <a:xfrm rot="18879000">
            <a:off x="1772280" y="2615040"/>
            <a:ext cx="433440" cy="971640"/>
          </a:xfrm>
          <a:prstGeom prst="rect">
            <a:avLst/>
          </a:prstGeom>
          <a:ln w="0">
            <a:noFill/>
          </a:ln>
        </p:spPr>
      </p:pic>
      <p:sp>
        <p:nvSpPr>
          <p:cNvPr id="1587" name="Скругленный прямоугольник 33"/>
          <p:cNvSpPr/>
          <p:nvPr/>
        </p:nvSpPr>
        <p:spPr>
          <a:xfrm>
            <a:off x="4686480" y="2935440"/>
            <a:ext cx="1665000" cy="72360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ют различные 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оугольник 37"/>
          <p:cNvSpPr/>
          <p:nvPr/>
        </p:nvSpPr>
        <p:spPr>
          <a:xfrm>
            <a:off x="5405400" y="5622840"/>
            <a:ext cx="1420920" cy="4082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9" name="Прямая со стрелкой 54"/>
          <p:cNvCxnSpPr>
            <a:stCxn id="1583" idx="2"/>
          </p:cNvCxnSpPr>
          <p:nvPr/>
        </p:nvCxnSpPr>
        <p:spPr>
          <a:xfrm>
            <a:off x="8058240" y="4879800"/>
            <a:ext cx="79920" cy="44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0" name="Овал 6"/>
          <p:cNvSpPr/>
          <p:nvPr/>
        </p:nvSpPr>
        <p:spPr>
          <a:xfrm>
            <a:off x="2700360" y="1989000"/>
            <a:ext cx="2173320" cy="7509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Стрелка вниз 7"/>
          <p:cNvSpPr/>
          <p:nvPr/>
        </p:nvSpPr>
        <p:spPr>
          <a:xfrm>
            <a:off x="3780000" y="1557360"/>
            <a:ext cx="125280" cy="3319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Скругленный прямоугольник 18" descr=""/>
          <p:cNvPicPr/>
          <p:nvPr/>
        </p:nvPicPr>
        <p:blipFill>
          <a:blip r:embed="rId3"/>
          <a:stretch/>
        </p:blipFill>
        <p:spPr>
          <a:xfrm>
            <a:off x="3151080" y="3333600"/>
            <a:ext cx="768600" cy="2311560"/>
          </a:xfrm>
          <a:prstGeom prst="rect">
            <a:avLst/>
          </a:prstGeom>
          <a:ln w="0">
            <a:noFill/>
          </a:ln>
        </p:spPr>
      </p:pic>
      <p:sp>
        <p:nvSpPr>
          <p:cNvPr id="1593" name="Скругленный прямоугольник 9"/>
          <p:cNvSpPr/>
          <p:nvPr/>
        </p:nvSpPr>
        <p:spPr>
          <a:xfrm>
            <a:off x="7040520" y="5384880"/>
            <a:ext cx="2011320" cy="69192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4" name="Прямая со стрелкой 34"/>
          <p:cNvCxnSpPr/>
          <p:nvPr/>
        </p:nvCxnSpPr>
        <p:spPr>
          <a:xfrm flipH="1">
            <a:off x="3563280" y="2852640"/>
            <a:ext cx="11880" cy="481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95" name="Picture 2" descr=""/>
          <p:cNvPicPr/>
          <p:nvPr/>
        </p:nvPicPr>
        <p:blipFill>
          <a:blip r:embed="rId4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2" descr=""/>
          <p:cNvPicPr/>
          <p:nvPr/>
        </p:nvPicPr>
        <p:blipFill>
          <a:blip r:embed="rId5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3" descr=""/>
          <p:cNvPicPr/>
          <p:nvPr/>
        </p:nvPicPr>
        <p:blipFill>
          <a:blip r:embed="rId6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2" descr=""/>
          <p:cNvPicPr/>
          <p:nvPr/>
        </p:nvPicPr>
        <p:blipFill>
          <a:blip r:embed="rId7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4" descr=""/>
          <p:cNvPicPr/>
          <p:nvPr/>
        </p:nvPicPr>
        <p:blipFill>
          <a:blip r:embed="rId8"/>
          <a:stretch/>
        </p:blipFill>
        <p:spPr>
          <a:xfrm rot="15115800">
            <a:off x="4547160" y="4543560"/>
            <a:ext cx="390600" cy="4082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5" descr=""/>
          <p:cNvPicPr/>
          <p:nvPr/>
        </p:nvPicPr>
        <p:blipFill>
          <a:blip r:embed="rId9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5" descr=""/>
          <p:cNvPicPr/>
          <p:nvPr/>
        </p:nvPicPr>
        <p:blipFill>
          <a:blip r:embed="rId10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6" descr=""/>
          <p:cNvPicPr/>
          <p:nvPr/>
        </p:nvPicPr>
        <p:blipFill>
          <a:blip r:embed="rId11"/>
          <a:stretch/>
        </p:blipFill>
        <p:spPr>
          <a:xfrm>
            <a:off x="4692600" y="6014880"/>
            <a:ext cx="512640" cy="50040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3" descr=""/>
          <p:cNvPicPr/>
          <p:nvPr/>
        </p:nvPicPr>
        <p:blipFill>
          <a:blip r:embed="rId12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3" descr=""/>
          <p:cNvPicPr/>
          <p:nvPr/>
        </p:nvPicPr>
        <p:blipFill>
          <a:blip r:embed="rId13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8" descr=""/>
          <p:cNvPicPr/>
          <p:nvPr/>
        </p:nvPicPr>
        <p:blipFill>
          <a:blip r:embed="rId14"/>
          <a:stretch/>
        </p:blipFill>
        <p:spPr>
          <a:xfrm>
            <a:off x="6059520" y="460548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9" descr=""/>
          <p:cNvPicPr/>
          <p:nvPr/>
        </p:nvPicPr>
        <p:blipFill>
          <a:blip r:embed="rId15"/>
          <a:stretch/>
        </p:blipFill>
        <p:spPr>
          <a:xfrm>
            <a:off x="6202440" y="532620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10" descr=""/>
          <p:cNvPicPr/>
          <p:nvPr/>
        </p:nvPicPr>
        <p:blipFill>
          <a:blip r:embed="rId16"/>
          <a:stretch/>
        </p:blipFill>
        <p:spPr>
          <a:xfrm>
            <a:off x="6058080" y="5864400"/>
            <a:ext cx="512640" cy="500040"/>
          </a:xfrm>
          <a:prstGeom prst="rect">
            <a:avLst/>
          </a:prstGeom>
          <a:ln w="0">
            <a:noFill/>
          </a:ln>
        </p:spPr>
      </p:pic>
      <p:sp>
        <p:nvSpPr>
          <p:cNvPr id="1608" name="Прямоугольник 11"/>
          <p:cNvSpPr/>
          <p:nvPr/>
        </p:nvSpPr>
        <p:spPr>
          <a:xfrm>
            <a:off x="4013280" y="4762440"/>
            <a:ext cx="1282680" cy="438120"/>
          </a:xfrm>
          <a:prstGeom prst="rect">
            <a:avLst/>
          </a:prstGeom>
          <a:solidFill>
            <a:srgbClr val="ffffc2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Прямоугольник 12"/>
          <p:cNvSpPr/>
          <p:nvPr/>
        </p:nvSpPr>
        <p:spPr>
          <a:xfrm>
            <a:off x="4005360" y="5481720"/>
            <a:ext cx="1271520" cy="50004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Прямоугольник 17"/>
          <p:cNvSpPr/>
          <p:nvPr/>
        </p:nvSpPr>
        <p:spPr>
          <a:xfrm>
            <a:off x="3700440" y="6294600"/>
            <a:ext cx="1595520" cy="43956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19"/>
          <p:cNvSpPr/>
          <p:nvPr/>
        </p:nvSpPr>
        <p:spPr>
          <a:xfrm>
            <a:off x="5464080" y="6232680"/>
            <a:ext cx="1374840" cy="50148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Овал 1"/>
          <p:cNvSpPr/>
          <p:nvPr/>
        </p:nvSpPr>
        <p:spPr>
          <a:xfrm>
            <a:off x="2268360" y="620640"/>
            <a:ext cx="3000600" cy="914400"/>
          </a:xfrm>
          <a:prstGeom prst="ellipse">
            <a:avLst/>
          </a:prstGeom>
          <a:solidFill>
            <a:srgbClr val="d6adff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лужебные част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Стрелка вниз 2"/>
          <p:cNvSpPr/>
          <p:nvPr/>
        </p:nvSpPr>
        <p:spPr>
          <a:xfrm rot="2569800">
            <a:off x="1892160" y="1370160"/>
            <a:ext cx="276480" cy="48564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Стрелка вниз 3"/>
          <p:cNvSpPr/>
          <p:nvPr/>
        </p:nvSpPr>
        <p:spPr>
          <a:xfrm flipV="1" rot="8893200">
            <a:off x="5614560" y="1370880"/>
            <a:ext cx="252360" cy="4762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2400" y="3273480"/>
            <a:ext cx="768240" cy="2292120"/>
          </a:xfrm>
          <a:prstGeom prst="rect">
            <a:avLst/>
          </a:prstGeom>
          <a:ln w="0">
            <a:noFill/>
          </a:ln>
        </p:spPr>
      </p:pic>
      <p:sp>
        <p:nvSpPr>
          <p:cNvPr id="1616" name="Скругленный прямоугольник 5"/>
          <p:cNvSpPr/>
          <p:nvPr/>
        </p:nvSpPr>
        <p:spPr>
          <a:xfrm>
            <a:off x="7170840" y="287820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уют формы глаг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7" name="Прямая со стрелкой 13"/>
          <p:cNvCxnSpPr/>
          <p:nvPr/>
        </p:nvCxnSpPr>
        <p:spPr>
          <a:xfrm flipH="1">
            <a:off x="2626920" y="2924280"/>
            <a:ext cx="48816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8" name="Прямая со стрелкой 14"/>
          <p:cNvCxnSpPr/>
          <p:nvPr/>
        </p:nvCxnSpPr>
        <p:spPr>
          <a:xfrm flipH="1">
            <a:off x="5713200" y="2374920"/>
            <a:ext cx="389520" cy="52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9" name="Прямая со стрелкой 15"/>
          <p:cNvCxnSpPr/>
          <p:nvPr/>
        </p:nvCxnSpPr>
        <p:spPr>
          <a:xfrm>
            <a:off x="8071920" y="3676320"/>
            <a:ext cx="1080" cy="44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0" name="Прямая со стрелкой 16"/>
          <p:cNvCxnSpPr/>
          <p:nvPr/>
        </p:nvCxnSpPr>
        <p:spPr>
          <a:xfrm>
            <a:off x="7367760" y="2241360"/>
            <a:ext cx="2829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1" name="Овал 31"/>
          <p:cNvSpPr/>
          <p:nvPr/>
        </p:nvSpPr>
        <p:spPr>
          <a:xfrm>
            <a:off x="250920" y="1844640"/>
            <a:ext cx="2382840" cy="785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2" name="Прямая со стрелкой 32"/>
          <p:cNvCxnSpPr/>
          <p:nvPr/>
        </p:nvCxnSpPr>
        <p:spPr>
          <a:xfrm flipH="1">
            <a:off x="616680" y="2604960"/>
            <a:ext cx="27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3" name="Прямоугольник 49"/>
          <p:cNvSpPr/>
          <p:nvPr/>
        </p:nvSpPr>
        <p:spPr>
          <a:xfrm>
            <a:off x="5572080" y="4148280"/>
            <a:ext cx="1222560" cy="3776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50"/>
          <p:cNvSpPr/>
          <p:nvPr/>
        </p:nvSpPr>
        <p:spPr>
          <a:xfrm>
            <a:off x="3941640" y="4113360"/>
            <a:ext cx="1312920" cy="492120"/>
          </a:xfrm>
          <a:prstGeom prst="rect">
            <a:avLst/>
          </a:prstGeom>
          <a:solidFill>
            <a:srgbClr val="ffffc2"/>
          </a:soli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оугольник 51"/>
          <p:cNvSpPr/>
          <p:nvPr/>
        </p:nvSpPr>
        <p:spPr>
          <a:xfrm>
            <a:off x="5405400" y="4997520"/>
            <a:ext cx="138744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7053120" y="4172040"/>
            <a:ext cx="2011680" cy="707760"/>
          </a:xfrm>
          <a:prstGeom prst="rect">
            <a:avLst/>
          </a:prstGeom>
          <a:solidFill>
            <a:srgbClr val="e0ebeb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ло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Овал 29"/>
          <p:cNvSpPr/>
          <p:nvPr/>
        </p:nvSpPr>
        <p:spPr>
          <a:xfrm>
            <a:off x="5724360" y="1773360"/>
            <a:ext cx="2436840" cy="7855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Скругленный прямоугольник 30"/>
          <p:cNvSpPr/>
          <p:nvPr/>
        </p:nvSpPr>
        <p:spPr>
          <a:xfrm>
            <a:off x="1101600" y="3733920"/>
            <a:ext cx="1774800" cy="68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Picture 2" descr=""/>
          <p:cNvPicPr/>
          <p:nvPr/>
        </p:nvPicPr>
        <p:blipFill>
          <a:blip r:embed="rId2"/>
          <a:stretch/>
        </p:blipFill>
        <p:spPr>
          <a:xfrm rot="18879000">
            <a:off x="1772280" y="2615040"/>
            <a:ext cx="433440" cy="971640"/>
          </a:xfrm>
          <a:prstGeom prst="rect">
            <a:avLst/>
          </a:prstGeom>
          <a:ln w="0">
            <a:noFill/>
          </a:ln>
        </p:spPr>
      </p:pic>
      <p:sp>
        <p:nvSpPr>
          <p:cNvPr id="1630" name="Скругленный прямоугольник 33"/>
          <p:cNvSpPr/>
          <p:nvPr/>
        </p:nvSpPr>
        <p:spPr>
          <a:xfrm>
            <a:off x="4686480" y="2935440"/>
            <a:ext cx="1665000" cy="72360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ют различные 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37"/>
          <p:cNvSpPr/>
          <p:nvPr/>
        </p:nvSpPr>
        <p:spPr>
          <a:xfrm>
            <a:off x="5405400" y="5622840"/>
            <a:ext cx="1420920" cy="4082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2" name="Прямая со стрелкой 54"/>
          <p:cNvCxnSpPr>
            <a:stCxn id="1626" idx="2"/>
          </p:cNvCxnSpPr>
          <p:nvPr/>
        </p:nvCxnSpPr>
        <p:spPr>
          <a:xfrm>
            <a:off x="8058240" y="4879800"/>
            <a:ext cx="79920" cy="44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3" name="Овал 6"/>
          <p:cNvSpPr/>
          <p:nvPr/>
        </p:nvSpPr>
        <p:spPr>
          <a:xfrm>
            <a:off x="2700360" y="1989000"/>
            <a:ext cx="2173320" cy="7509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Стрелка вниз 7"/>
          <p:cNvSpPr/>
          <p:nvPr/>
        </p:nvSpPr>
        <p:spPr>
          <a:xfrm>
            <a:off x="3780000" y="1557360"/>
            <a:ext cx="125280" cy="3319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Скругленный прямоугольник 18" descr=""/>
          <p:cNvPicPr/>
          <p:nvPr/>
        </p:nvPicPr>
        <p:blipFill>
          <a:blip r:embed="rId3"/>
          <a:stretch/>
        </p:blipFill>
        <p:spPr>
          <a:xfrm>
            <a:off x="3151080" y="3333600"/>
            <a:ext cx="768600" cy="2311560"/>
          </a:xfrm>
          <a:prstGeom prst="rect">
            <a:avLst/>
          </a:prstGeom>
          <a:ln w="0">
            <a:noFill/>
          </a:ln>
        </p:spPr>
      </p:pic>
      <p:sp>
        <p:nvSpPr>
          <p:cNvPr id="1636" name="Скругленный прямоугольник 9"/>
          <p:cNvSpPr/>
          <p:nvPr/>
        </p:nvSpPr>
        <p:spPr>
          <a:xfrm>
            <a:off x="7040520" y="5384880"/>
            <a:ext cx="2011320" cy="69192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7" name="Прямая со стрелкой 34"/>
          <p:cNvCxnSpPr/>
          <p:nvPr/>
        </p:nvCxnSpPr>
        <p:spPr>
          <a:xfrm flipH="1">
            <a:off x="3563280" y="2852640"/>
            <a:ext cx="11880" cy="481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38" name="Picture 2" descr=""/>
          <p:cNvPicPr/>
          <p:nvPr/>
        </p:nvPicPr>
        <p:blipFill>
          <a:blip r:embed="rId4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2" descr=""/>
          <p:cNvPicPr/>
          <p:nvPr/>
        </p:nvPicPr>
        <p:blipFill>
          <a:blip r:embed="rId5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3" descr=""/>
          <p:cNvPicPr/>
          <p:nvPr/>
        </p:nvPicPr>
        <p:blipFill>
          <a:blip r:embed="rId6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2" descr=""/>
          <p:cNvPicPr/>
          <p:nvPr/>
        </p:nvPicPr>
        <p:blipFill>
          <a:blip r:embed="rId7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4" descr=""/>
          <p:cNvPicPr/>
          <p:nvPr/>
        </p:nvPicPr>
        <p:blipFill>
          <a:blip r:embed="rId8"/>
          <a:stretch/>
        </p:blipFill>
        <p:spPr>
          <a:xfrm rot="15115800">
            <a:off x="4547160" y="4543560"/>
            <a:ext cx="390600" cy="40824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5" descr=""/>
          <p:cNvPicPr/>
          <p:nvPr/>
        </p:nvPicPr>
        <p:blipFill>
          <a:blip r:embed="rId9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5" descr=""/>
          <p:cNvPicPr/>
          <p:nvPr/>
        </p:nvPicPr>
        <p:blipFill>
          <a:blip r:embed="rId10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6" descr=""/>
          <p:cNvPicPr/>
          <p:nvPr/>
        </p:nvPicPr>
        <p:blipFill>
          <a:blip r:embed="rId11"/>
          <a:stretch/>
        </p:blipFill>
        <p:spPr>
          <a:xfrm>
            <a:off x="4692600" y="6014880"/>
            <a:ext cx="512640" cy="5004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3" descr=""/>
          <p:cNvPicPr/>
          <p:nvPr/>
        </p:nvPicPr>
        <p:blipFill>
          <a:blip r:embed="rId12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3" descr=""/>
          <p:cNvPicPr/>
          <p:nvPr/>
        </p:nvPicPr>
        <p:blipFill>
          <a:blip r:embed="rId13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8" descr=""/>
          <p:cNvPicPr/>
          <p:nvPr/>
        </p:nvPicPr>
        <p:blipFill>
          <a:blip r:embed="rId14"/>
          <a:stretch/>
        </p:blipFill>
        <p:spPr>
          <a:xfrm>
            <a:off x="6059520" y="460548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9" descr=""/>
          <p:cNvPicPr/>
          <p:nvPr/>
        </p:nvPicPr>
        <p:blipFill>
          <a:blip r:embed="rId15"/>
          <a:stretch/>
        </p:blipFill>
        <p:spPr>
          <a:xfrm>
            <a:off x="6202440" y="532620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0" descr=""/>
          <p:cNvPicPr/>
          <p:nvPr/>
        </p:nvPicPr>
        <p:blipFill>
          <a:blip r:embed="rId16"/>
          <a:stretch/>
        </p:blipFill>
        <p:spPr>
          <a:xfrm>
            <a:off x="6058080" y="5864400"/>
            <a:ext cx="512640" cy="500040"/>
          </a:xfrm>
          <a:prstGeom prst="rect">
            <a:avLst/>
          </a:prstGeom>
          <a:ln w="0">
            <a:noFill/>
          </a:ln>
        </p:spPr>
      </p:pic>
      <p:sp>
        <p:nvSpPr>
          <p:cNvPr id="1651" name="Прямоугольник 11"/>
          <p:cNvSpPr/>
          <p:nvPr/>
        </p:nvSpPr>
        <p:spPr>
          <a:xfrm>
            <a:off x="4013280" y="4762440"/>
            <a:ext cx="1282680" cy="438120"/>
          </a:xfrm>
          <a:prstGeom prst="rect">
            <a:avLst/>
          </a:prstGeom>
          <a:solidFill>
            <a:srgbClr val="ffffc2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2"/>
          <p:cNvSpPr/>
          <p:nvPr/>
        </p:nvSpPr>
        <p:spPr>
          <a:xfrm>
            <a:off x="4005360" y="5481720"/>
            <a:ext cx="1271520" cy="50004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17"/>
          <p:cNvSpPr/>
          <p:nvPr/>
        </p:nvSpPr>
        <p:spPr>
          <a:xfrm>
            <a:off x="3700440" y="6294600"/>
            <a:ext cx="1595520" cy="43956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19"/>
          <p:cNvSpPr/>
          <p:nvPr/>
        </p:nvSpPr>
        <p:spPr>
          <a:xfrm>
            <a:off x="5464080" y="6232680"/>
            <a:ext cx="1374840" cy="50148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Овал 1"/>
          <p:cNvSpPr/>
          <p:nvPr/>
        </p:nvSpPr>
        <p:spPr>
          <a:xfrm>
            <a:off x="2268360" y="620640"/>
            <a:ext cx="3000600" cy="914400"/>
          </a:xfrm>
          <a:prstGeom prst="ellipse">
            <a:avLst/>
          </a:prstGeom>
          <a:solidFill>
            <a:srgbClr val="d6adff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лужебные част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Стрелка вниз 2"/>
          <p:cNvSpPr/>
          <p:nvPr/>
        </p:nvSpPr>
        <p:spPr>
          <a:xfrm rot="2569800">
            <a:off x="1892160" y="1370160"/>
            <a:ext cx="276480" cy="48564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Стрелка вниз 3"/>
          <p:cNvSpPr/>
          <p:nvPr/>
        </p:nvSpPr>
        <p:spPr>
          <a:xfrm flipV="1" rot="8893200">
            <a:off x="5614560" y="1370880"/>
            <a:ext cx="252360" cy="4762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22400" y="3273480"/>
            <a:ext cx="768240" cy="2292120"/>
          </a:xfrm>
          <a:prstGeom prst="rect">
            <a:avLst/>
          </a:prstGeom>
          <a:ln w="0">
            <a:noFill/>
          </a:ln>
        </p:spPr>
      </p:pic>
      <p:sp>
        <p:nvSpPr>
          <p:cNvPr id="1659" name="Скругленный прямоугольник 5"/>
          <p:cNvSpPr/>
          <p:nvPr/>
        </p:nvSpPr>
        <p:spPr>
          <a:xfrm>
            <a:off x="7170840" y="2878200"/>
            <a:ext cx="1665360" cy="72396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уют формы глаг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0" name="Прямая со стрелкой 13"/>
          <p:cNvCxnSpPr/>
          <p:nvPr/>
        </p:nvCxnSpPr>
        <p:spPr>
          <a:xfrm flipH="1">
            <a:off x="2626920" y="2924280"/>
            <a:ext cx="48816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1" name="Прямая со стрелкой 14"/>
          <p:cNvCxnSpPr/>
          <p:nvPr/>
        </p:nvCxnSpPr>
        <p:spPr>
          <a:xfrm flipH="1">
            <a:off x="5713200" y="2374920"/>
            <a:ext cx="389520" cy="52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2" name="Прямая со стрелкой 15"/>
          <p:cNvCxnSpPr/>
          <p:nvPr/>
        </p:nvCxnSpPr>
        <p:spPr>
          <a:xfrm>
            <a:off x="8071920" y="3676320"/>
            <a:ext cx="1080" cy="44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3" name="Прямая со стрелкой 16"/>
          <p:cNvCxnSpPr/>
          <p:nvPr/>
        </p:nvCxnSpPr>
        <p:spPr>
          <a:xfrm>
            <a:off x="7367760" y="2241360"/>
            <a:ext cx="282960" cy="61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4" name="Овал 31"/>
          <p:cNvSpPr/>
          <p:nvPr/>
        </p:nvSpPr>
        <p:spPr>
          <a:xfrm>
            <a:off x="250920" y="1844640"/>
            <a:ext cx="2382840" cy="785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5" name="Прямая со стрелкой 32"/>
          <p:cNvCxnSpPr/>
          <p:nvPr/>
        </p:nvCxnSpPr>
        <p:spPr>
          <a:xfrm flipH="1">
            <a:off x="616680" y="2604960"/>
            <a:ext cx="27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6" name="Прямоугольник 49"/>
          <p:cNvSpPr/>
          <p:nvPr/>
        </p:nvSpPr>
        <p:spPr>
          <a:xfrm>
            <a:off x="5572080" y="4148280"/>
            <a:ext cx="1222560" cy="3776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м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50"/>
          <p:cNvSpPr/>
          <p:nvPr/>
        </p:nvSpPr>
        <p:spPr>
          <a:xfrm>
            <a:off x="3941640" y="4113360"/>
            <a:ext cx="1312920" cy="492120"/>
          </a:xfrm>
          <a:prstGeom prst="rect">
            <a:avLst/>
          </a:prstGeom>
          <a:solidFill>
            <a:srgbClr val="ffffc2"/>
          </a:soli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Прямоугольник 51"/>
          <p:cNvSpPr/>
          <p:nvPr/>
        </p:nvSpPr>
        <p:spPr>
          <a:xfrm>
            <a:off x="5405400" y="4997520"/>
            <a:ext cx="1387440" cy="40788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оч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Прямоугольник 52"/>
          <p:cNvSpPr/>
          <p:nvPr/>
        </p:nvSpPr>
        <p:spPr>
          <a:xfrm>
            <a:off x="7053120" y="4172040"/>
            <a:ext cx="2011680" cy="707760"/>
          </a:xfrm>
          <a:prstGeom prst="rect">
            <a:avLst/>
          </a:prstGeom>
          <a:solidFill>
            <a:srgbClr val="e0ebeb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лага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ло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Овал 29"/>
          <p:cNvSpPr/>
          <p:nvPr/>
        </p:nvSpPr>
        <p:spPr>
          <a:xfrm>
            <a:off x="5724360" y="1773360"/>
            <a:ext cx="2436840" cy="7855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Скругленный прямоугольник 30"/>
          <p:cNvSpPr/>
          <p:nvPr/>
        </p:nvSpPr>
        <p:spPr>
          <a:xfrm>
            <a:off x="1101600" y="3733920"/>
            <a:ext cx="1774800" cy="68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2" descr=""/>
          <p:cNvPicPr/>
          <p:nvPr/>
        </p:nvPicPr>
        <p:blipFill>
          <a:blip r:embed="rId2"/>
          <a:stretch/>
        </p:blipFill>
        <p:spPr>
          <a:xfrm rot="18879000">
            <a:off x="1772280" y="2615040"/>
            <a:ext cx="433440" cy="971640"/>
          </a:xfrm>
          <a:prstGeom prst="rect">
            <a:avLst/>
          </a:prstGeom>
          <a:ln w="0">
            <a:noFill/>
          </a:ln>
        </p:spPr>
      </p:pic>
      <p:sp>
        <p:nvSpPr>
          <p:cNvPr id="1673" name="Скругленный прямоугольник 33"/>
          <p:cNvSpPr/>
          <p:nvPr/>
        </p:nvSpPr>
        <p:spPr>
          <a:xfrm>
            <a:off x="4686480" y="2935440"/>
            <a:ext cx="1665000" cy="72360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ажают различные 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Прямоугольник 37"/>
          <p:cNvSpPr/>
          <p:nvPr/>
        </p:nvSpPr>
        <p:spPr>
          <a:xfrm>
            <a:off x="5405400" y="5622840"/>
            <a:ext cx="1420920" cy="4082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5" name="Прямая со стрелкой 54"/>
          <p:cNvCxnSpPr>
            <a:stCxn id="1669" idx="2"/>
          </p:cNvCxnSpPr>
          <p:nvPr/>
        </p:nvCxnSpPr>
        <p:spPr>
          <a:xfrm>
            <a:off x="8058240" y="4879800"/>
            <a:ext cx="79920" cy="44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6" name="Овал 6"/>
          <p:cNvSpPr/>
          <p:nvPr/>
        </p:nvSpPr>
        <p:spPr>
          <a:xfrm>
            <a:off x="2700360" y="1989000"/>
            <a:ext cx="2173320" cy="7509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Стрелка вниз 7"/>
          <p:cNvSpPr/>
          <p:nvPr/>
        </p:nvSpPr>
        <p:spPr>
          <a:xfrm>
            <a:off x="3780000" y="1557360"/>
            <a:ext cx="125280" cy="33192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Скругленный прямоугольник 18" descr=""/>
          <p:cNvPicPr/>
          <p:nvPr/>
        </p:nvPicPr>
        <p:blipFill>
          <a:blip r:embed="rId3"/>
          <a:stretch/>
        </p:blipFill>
        <p:spPr>
          <a:xfrm>
            <a:off x="3151080" y="3333600"/>
            <a:ext cx="768600" cy="2311560"/>
          </a:xfrm>
          <a:prstGeom prst="rect">
            <a:avLst/>
          </a:prstGeom>
          <a:ln w="0">
            <a:noFill/>
          </a:ln>
        </p:spPr>
      </p:pic>
      <p:sp>
        <p:nvSpPr>
          <p:cNvPr id="1679" name="Скругленный прямоугольник 9"/>
          <p:cNvSpPr/>
          <p:nvPr/>
        </p:nvSpPr>
        <p:spPr>
          <a:xfrm>
            <a:off x="7040520" y="5384880"/>
            <a:ext cx="2011320" cy="691920"/>
          </a:xfrm>
          <a:prstGeom prst="roundRect">
            <a:avLst>
              <a:gd name="adj" fmla="val 16667"/>
            </a:avLst>
          </a:prstGeom>
          <a:solidFill>
            <a:srgbClr val="dde9e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л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0" name="Прямая со стрелкой 34"/>
          <p:cNvCxnSpPr/>
          <p:nvPr/>
        </p:nvCxnSpPr>
        <p:spPr>
          <a:xfrm flipH="1">
            <a:off x="3563280" y="2852640"/>
            <a:ext cx="11880" cy="481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81" name="Picture 2" descr=""/>
          <p:cNvPicPr/>
          <p:nvPr/>
        </p:nvPicPr>
        <p:blipFill>
          <a:blip r:embed="rId4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2" descr=""/>
          <p:cNvPicPr/>
          <p:nvPr/>
        </p:nvPicPr>
        <p:blipFill>
          <a:blip r:embed="rId5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3" descr=""/>
          <p:cNvPicPr/>
          <p:nvPr/>
        </p:nvPicPr>
        <p:blipFill>
          <a:blip r:embed="rId6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2" descr=""/>
          <p:cNvPicPr/>
          <p:nvPr/>
        </p:nvPicPr>
        <p:blipFill>
          <a:blip r:embed="rId7"/>
          <a:stretch/>
        </p:blipFill>
        <p:spPr>
          <a:xfrm rot="14975400">
            <a:off x="4614120" y="3848400"/>
            <a:ext cx="390240" cy="4078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4" descr=""/>
          <p:cNvPicPr/>
          <p:nvPr/>
        </p:nvPicPr>
        <p:blipFill>
          <a:blip r:embed="rId8"/>
          <a:stretch/>
        </p:blipFill>
        <p:spPr>
          <a:xfrm rot="15115800">
            <a:off x="4547160" y="4543560"/>
            <a:ext cx="390600" cy="40824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5" descr=""/>
          <p:cNvPicPr/>
          <p:nvPr/>
        </p:nvPicPr>
        <p:blipFill>
          <a:blip r:embed="rId9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5" descr=""/>
          <p:cNvPicPr/>
          <p:nvPr/>
        </p:nvPicPr>
        <p:blipFill>
          <a:blip r:embed="rId10"/>
          <a:stretch/>
        </p:blipFill>
        <p:spPr>
          <a:xfrm flipH="1" rot="2599200">
            <a:off x="4692240" y="5209560"/>
            <a:ext cx="512640" cy="46872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6" descr=""/>
          <p:cNvPicPr/>
          <p:nvPr/>
        </p:nvPicPr>
        <p:blipFill>
          <a:blip r:embed="rId11"/>
          <a:stretch/>
        </p:blipFill>
        <p:spPr>
          <a:xfrm>
            <a:off x="4692600" y="6014880"/>
            <a:ext cx="512640" cy="50040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" descr=""/>
          <p:cNvPicPr/>
          <p:nvPr/>
        </p:nvPicPr>
        <p:blipFill>
          <a:blip r:embed="rId12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13"/>
          <a:stretch/>
        </p:blipFill>
        <p:spPr>
          <a:xfrm rot="11126400">
            <a:off x="5822640" y="3849480"/>
            <a:ext cx="390600" cy="40788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8" descr=""/>
          <p:cNvPicPr/>
          <p:nvPr/>
        </p:nvPicPr>
        <p:blipFill>
          <a:blip r:embed="rId14"/>
          <a:stretch/>
        </p:blipFill>
        <p:spPr>
          <a:xfrm>
            <a:off x="6059520" y="460548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9" descr=""/>
          <p:cNvPicPr/>
          <p:nvPr/>
        </p:nvPicPr>
        <p:blipFill>
          <a:blip r:embed="rId15"/>
          <a:stretch/>
        </p:blipFill>
        <p:spPr>
          <a:xfrm>
            <a:off x="6202440" y="5326200"/>
            <a:ext cx="512640" cy="50004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10" descr=""/>
          <p:cNvPicPr/>
          <p:nvPr/>
        </p:nvPicPr>
        <p:blipFill>
          <a:blip r:embed="rId16"/>
          <a:stretch/>
        </p:blipFill>
        <p:spPr>
          <a:xfrm>
            <a:off x="6058080" y="5864400"/>
            <a:ext cx="512640" cy="500040"/>
          </a:xfrm>
          <a:prstGeom prst="rect">
            <a:avLst/>
          </a:prstGeom>
          <a:ln w="0">
            <a:noFill/>
          </a:ln>
        </p:spPr>
      </p:pic>
      <p:sp>
        <p:nvSpPr>
          <p:cNvPr id="1694" name="Прямоугольник 11"/>
          <p:cNvSpPr/>
          <p:nvPr/>
        </p:nvSpPr>
        <p:spPr>
          <a:xfrm>
            <a:off x="4013280" y="4762440"/>
            <a:ext cx="1282680" cy="438120"/>
          </a:xfrm>
          <a:prstGeom prst="rect">
            <a:avLst/>
          </a:prstGeom>
          <a:solidFill>
            <a:srgbClr val="ffffc2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и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рямоугольник 12"/>
          <p:cNvSpPr/>
          <p:nvPr/>
        </p:nvSpPr>
        <p:spPr>
          <a:xfrm>
            <a:off x="4005360" y="5481720"/>
            <a:ext cx="1271520" cy="50004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рямоугольник 17"/>
          <p:cNvSpPr/>
          <p:nvPr/>
        </p:nvSpPr>
        <p:spPr>
          <a:xfrm>
            <a:off x="3700440" y="6294600"/>
            <a:ext cx="1595520" cy="43956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клиц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Прямоугольник 19"/>
          <p:cNvSpPr/>
          <p:nvPr/>
        </p:nvSpPr>
        <p:spPr>
          <a:xfrm>
            <a:off x="5464080" y="6232680"/>
            <a:ext cx="1374840" cy="501480"/>
          </a:xfrm>
          <a:prstGeom prst="rect">
            <a:avLst/>
          </a:prstGeom>
          <a:solidFill>
            <a:srgbClr val="ffffc2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 Box 4"/>
          <p:cNvSpPr/>
          <p:nvPr/>
        </p:nvSpPr>
        <p:spPr>
          <a:xfrm>
            <a:off x="1116000" y="2494080"/>
            <a:ext cx="7559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ире нет ничего лучше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ятнее дружбы; исключить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зни дружбу все равно,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лишить мир солнечного с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це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Прямоугольник 1"/>
          <p:cNvSpPr/>
          <p:nvPr/>
        </p:nvSpPr>
        <p:spPr>
          <a:xfrm>
            <a:off x="1676160" y="62064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рее наступит весна. М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довольствием отправились на прогулку в лес.  Радовались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ечным лучам, птичьему пению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вай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м мечтать, и мечты сбуд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, что пришла весна!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иплет нос мороз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ет метель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ной так ярко светит солнце, так звонко поют птицы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есное время года!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Picture 4" descr=""/>
          <p:cNvPicPr/>
          <p:nvPr/>
        </p:nvPicPr>
        <p:blipFill>
          <a:blip r:embed="rId1"/>
          <a:stretch/>
        </p:blipFill>
        <p:spPr>
          <a:xfrm>
            <a:off x="4067280" y="5403960"/>
            <a:ext cx="392580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Первичное 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1979640" y="1197000"/>
            <a:ext cx="590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ва 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еще 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зв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жел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ж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Первичное 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2050920" y="1197000"/>
            <a:ext cx="511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-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очн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ва ли -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мне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еще и -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иле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-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иле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-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аза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-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иле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зве -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жели -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же -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иление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!!    !?    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Овал 4"/>
          <p:cNvSpPr/>
          <p:nvPr/>
        </p:nvSpPr>
        <p:spPr>
          <a:xfrm>
            <a:off x="2987640" y="1628640"/>
            <a:ext cx="3202200" cy="1079640"/>
          </a:xfrm>
          <a:prstGeom prst="ellipse">
            <a:avLst/>
          </a:prstGeom>
          <a:solidFill>
            <a:srgbClr val="669999"/>
          </a:solidFill>
          <a:ln w="25560">
            <a:solidFill>
              <a:srgbClr val="49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е по груп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Скругленный прямоугольник 6"/>
          <p:cNvSpPr/>
          <p:nvPr/>
        </p:nvSpPr>
        <p:spPr>
          <a:xfrm>
            <a:off x="322200" y="3720960"/>
            <a:ext cx="2376720" cy="12938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 о пользе утренней заря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Скругленный прямоугольник 7"/>
          <p:cNvSpPr/>
          <p:nvPr/>
        </p:nvSpPr>
        <p:spPr>
          <a:xfrm>
            <a:off x="3011400" y="4091040"/>
            <a:ext cx="2664000" cy="11383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, какими качествами должен обладать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ый прямоугольник 8"/>
          <p:cNvSpPr/>
          <p:nvPr/>
        </p:nvSpPr>
        <p:spPr>
          <a:xfrm>
            <a:off x="6012000" y="3701880"/>
            <a:ext cx="2911320" cy="133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е к одноклассникам о необходимости беречь русски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Стрелка вниз 9"/>
          <p:cNvSpPr/>
          <p:nvPr/>
        </p:nvSpPr>
        <p:spPr>
          <a:xfrm rot="1920000">
            <a:off x="2854080" y="264780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Стрелка вниз 10"/>
          <p:cNvSpPr/>
          <p:nvPr/>
        </p:nvSpPr>
        <p:spPr>
          <a:xfrm rot="19122600">
            <a:off x="6273720" y="25808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Стрелка вниз 11"/>
          <p:cNvSpPr/>
          <p:nvPr/>
        </p:nvSpPr>
        <p:spPr>
          <a:xfrm>
            <a:off x="4545000" y="280980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Прямоугольник 2"/>
          <p:cNvSpPr/>
          <p:nvPr/>
        </p:nvSpPr>
        <p:spPr>
          <a:xfrm>
            <a:off x="78732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Прямоугольник 1"/>
          <p:cNvSpPr/>
          <p:nvPr/>
        </p:nvSpPr>
        <p:spPr>
          <a:xfrm>
            <a:off x="250920" y="426960"/>
            <a:ext cx="7705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2960" indent="-642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Запомни и соблюд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2960" indent="-642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простые прави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468360" y="256536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ай своего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й каждого выс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огласен – предлаг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Овал 4"/>
          <p:cNvSpPr/>
          <p:nvPr/>
        </p:nvSpPr>
        <p:spPr>
          <a:xfrm>
            <a:off x="2987640" y="1628640"/>
            <a:ext cx="3202200" cy="1079640"/>
          </a:xfrm>
          <a:prstGeom prst="ellipse">
            <a:avLst/>
          </a:prstGeom>
          <a:solidFill>
            <a:srgbClr val="669999"/>
          </a:solidFill>
          <a:ln w="25560">
            <a:solidFill>
              <a:srgbClr val="49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е по груп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Скругленный прямоугольник 6"/>
          <p:cNvSpPr/>
          <p:nvPr/>
        </p:nvSpPr>
        <p:spPr>
          <a:xfrm>
            <a:off x="322200" y="3720960"/>
            <a:ext cx="2376720" cy="12938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 о пользе утренней заря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Скругленный прямоугольник 7"/>
          <p:cNvSpPr/>
          <p:nvPr/>
        </p:nvSpPr>
        <p:spPr>
          <a:xfrm>
            <a:off x="3011400" y="4091040"/>
            <a:ext cx="2664000" cy="11383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, какими качествами должен обладать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Скругленный прямоугольник 8"/>
          <p:cNvSpPr/>
          <p:nvPr/>
        </p:nvSpPr>
        <p:spPr>
          <a:xfrm>
            <a:off x="6012000" y="3701880"/>
            <a:ext cx="2911320" cy="133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е к одноклассникам о необходимости беречь русски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трелка вниз 9"/>
          <p:cNvSpPr/>
          <p:nvPr/>
        </p:nvSpPr>
        <p:spPr>
          <a:xfrm rot="1920000">
            <a:off x="2854080" y="264780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трелка вниз 10"/>
          <p:cNvSpPr/>
          <p:nvPr/>
        </p:nvSpPr>
        <p:spPr>
          <a:xfrm rot="19122600">
            <a:off x="6273720" y="258084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Стрелка вниз 11"/>
          <p:cNvSpPr/>
          <p:nvPr/>
        </p:nvSpPr>
        <p:spPr>
          <a:xfrm>
            <a:off x="4545000" y="280980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e2e2aa"/>
          </a:solidFill>
          <a:ln w="25560">
            <a:solidFill>
              <a:srgbClr val="a6a6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Прямоугольник 2"/>
          <p:cNvSpPr/>
          <p:nvPr/>
        </p:nvSpPr>
        <p:spPr>
          <a:xfrm>
            <a:off x="78732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Прямоугольник 3"/>
          <p:cNvSpPr/>
          <p:nvPr/>
        </p:nvSpPr>
        <p:spPr>
          <a:xfrm>
            <a:off x="4802400" y="5516640"/>
            <a:ext cx="334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!!    !?    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рямоугольник 1"/>
          <p:cNvSpPr/>
          <p:nvPr/>
        </p:nvSpPr>
        <p:spPr>
          <a:xfrm>
            <a:off x="1654920" y="765000"/>
            <a:ext cx="62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рямоугольник 2"/>
          <p:cNvSpPr/>
          <p:nvPr/>
        </p:nvSpPr>
        <p:spPr>
          <a:xfrm>
            <a:off x="611280" y="215100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П. 36, упр. 4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ворческая раб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Если бы я бы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Прямоугольник 1"/>
          <p:cNvSpPr/>
          <p:nvPr/>
        </p:nvSpPr>
        <p:spPr>
          <a:xfrm>
            <a:off x="1641600" y="765000"/>
            <a:ext cx="42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2"/>
          <p:cNvSpPr/>
          <p:nvPr/>
        </p:nvSpPr>
        <p:spPr>
          <a:xfrm>
            <a:off x="611280" y="2151000"/>
            <a:ext cx="770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1. Тяжела ты, шапка Моном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2. Повторение - мать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3. Учась, узнаешь, как мало ты зн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4. Если за день ничему не научился - зря прожил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georgia"/>
              </a:rPr>
              <a:t>«Вопросы на засыпку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611280" y="1719000"/>
            <a:ext cx="80755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Какая змея бывает наречием и  усилительной частиц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Какая частица состоит из трех частиц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Какую частицу нужно прочитать наоборот, чтобы получить название мягкого осадка на дне водоем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Какую разговорную частицу заваривают и пью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georgia"/>
              </a:rPr>
              <a:t>«Вопросы на засыпку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611280" y="1719000"/>
            <a:ext cx="80755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Какая частица может определить место  шахматной фигу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В диктанте по тексту из романа Толстого «Анна Каренина»  ученик написал: «Как-нибудь счастлив, все-таки жаль свободы». Исправьте ошибку и объясните, почему она допущ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TextBox 3"/>
          <p:cNvSpPr/>
          <p:nvPr/>
        </p:nvSpPr>
        <p:spPr>
          <a:xfrm>
            <a:off x="500040" y="10447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жба – э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Box 4"/>
          <p:cNvSpPr/>
          <p:nvPr/>
        </p:nvSpPr>
        <p:spPr>
          <a:xfrm>
            <a:off x="642960" y="15778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заимопо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Box 5"/>
          <p:cNvSpPr/>
          <p:nvPr/>
        </p:nvSpPr>
        <p:spPr>
          <a:xfrm>
            <a:off x="2928960" y="236376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6"/>
          <p:cNvSpPr/>
          <p:nvPr/>
        </p:nvSpPr>
        <p:spPr>
          <a:xfrm>
            <a:off x="1000080" y="3220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вер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7"/>
          <p:cNvSpPr/>
          <p:nvPr/>
        </p:nvSpPr>
        <p:spPr>
          <a:xfrm>
            <a:off x="3071880" y="37148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8"/>
          <p:cNvSpPr/>
          <p:nvPr/>
        </p:nvSpPr>
        <p:spPr>
          <a:xfrm>
            <a:off x="5429160" y="414324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час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10"/>
          <p:cNvSpPr/>
          <p:nvPr/>
        </p:nvSpPr>
        <p:spPr>
          <a:xfrm>
            <a:off x="5643720" y="29354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2"/>
          <p:cNvSpPr/>
          <p:nvPr/>
        </p:nvSpPr>
        <p:spPr>
          <a:xfrm>
            <a:off x="4214880" y="51436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б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georgia"/>
              </a:rPr>
              <a:t>Рефлексия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83769"/>
                </a:solidFill>
                <a:latin typeface="georgia, serif"/>
              </a:rPr>
              <a:t> </a:t>
            </a:r>
            <a:r>
              <a:rPr b="1" lang="ru-RU" sz="3000" spc="-1" strike="noStrike">
                <a:solidFill>
                  <a:srgbClr val="283769"/>
                </a:solidFill>
                <a:latin typeface="georgia, serif"/>
              </a:rPr>
              <a:t>Впишите нужные частицы и определите их разря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,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83769"/>
                </a:solidFill>
                <a:latin typeface="georgia, serif"/>
              </a:rPr>
              <a:t> </a:t>
            </a: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Ребята _____ принесут в класс по цвет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______ всю зиму у нас на окне будет цветущий с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______завтра сходим в ки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Я сам пошел ____    (на)верх, что(бы) осмотре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83769"/>
                </a:solidFill>
                <a:latin typeface="georgia"/>
              </a:rPr>
              <a:t>Если сегодня (не)будет дождя, то мы завтра _____пойдем в пох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632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сическая разминка</a:t>
            </a:r>
            <a:br>
              <a:rPr sz="24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9" name="Прямоугольник 1"/>
          <p:cNvSpPr/>
          <p:nvPr/>
        </p:nvSpPr>
        <p:spPr>
          <a:xfrm>
            <a:off x="468360" y="1700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яшливы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ый -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ты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й -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сическая разминка</a:t>
            </a:r>
            <a:br>
              <a:rPr sz="24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1" name="Прямоугольник 1"/>
          <p:cNvSpPr/>
          <p:nvPr/>
        </p:nvSpPr>
        <p:spPr>
          <a:xfrm>
            <a:off x="468360" y="1700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й -                  ч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яшливый -         аккура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-                 слад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-                 тё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ый -                 исти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тый -               ц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й -            акти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сическая разминка</a:t>
            </a:r>
            <a:br>
              <a:rPr sz="24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3" name="Прямоугольник 1"/>
          <p:cNvSpPr/>
          <p:nvPr/>
        </p:nvSpPr>
        <p:spPr>
          <a:xfrm>
            <a:off x="468360" y="1700280"/>
            <a:ext cx="81360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й -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яшливый -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ура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-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ый -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ый -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тый -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й -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Text Box 4"/>
          <p:cNvSpPr/>
          <p:nvPr/>
        </p:nvSpPr>
        <p:spPr>
          <a:xfrm>
            <a:off x="1116000" y="2494080"/>
            <a:ext cx="7559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ире нет ничего лучше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ятнее дружбы; исключить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зни дружбу все равно,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лишить мир солнечного с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це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Прямоугольник 1"/>
          <p:cNvSpPr/>
          <p:nvPr/>
        </p:nvSpPr>
        <p:spPr>
          <a:xfrm>
            <a:off x="1676160" y="62064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42960" indent="-642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69720" y="850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Arial"/>
              </a:rPr>
              <a:t>Лестница  достижений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7" name="Прямоугольник 18"/>
          <p:cNvSpPr/>
          <p:nvPr/>
        </p:nvSpPr>
        <p:spPr>
          <a:xfrm>
            <a:off x="528480" y="5445000"/>
            <a:ext cx="1595520" cy="70020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рямоугольник 19"/>
          <p:cNvSpPr/>
          <p:nvPr/>
        </p:nvSpPr>
        <p:spPr>
          <a:xfrm>
            <a:off x="1539720" y="4716360"/>
            <a:ext cx="1584360" cy="72864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Прямоугольник 20"/>
          <p:cNvSpPr/>
          <p:nvPr/>
        </p:nvSpPr>
        <p:spPr>
          <a:xfrm>
            <a:off x="2627280" y="4027320"/>
            <a:ext cx="1557360" cy="71604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21"/>
          <p:cNvSpPr/>
          <p:nvPr/>
        </p:nvSpPr>
        <p:spPr>
          <a:xfrm>
            <a:off x="3708360" y="3335400"/>
            <a:ext cx="1552680" cy="69192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Box 26"/>
          <p:cNvSpPr/>
          <p:nvPr/>
        </p:nvSpPr>
        <p:spPr>
          <a:xfrm>
            <a:off x="4788000" y="50356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ебные 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2"/>
          <p:cNvSpPr/>
          <p:nvPr/>
        </p:nvSpPr>
        <p:spPr>
          <a:xfrm>
            <a:off x="4788000" y="2637000"/>
            <a:ext cx="1457280" cy="68580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Прямоугольник 3"/>
          <p:cNvSpPr/>
          <p:nvPr/>
        </p:nvSpPr>
        <p:spPr>
          <a:xfrm>
            <a:off x="5619600" y="2009880"/>
            <a:ext cx="1413000" cy="62712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4"/>
          <p:cNvSpPr/>
          <p:nvPr/>
        </p:nvSpPr>
        <p:spPr>
          <a:xfrm>
            <a:off x="6551640" y="1384200"/>
            <a:ext cx="1368360" cy="62568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90520" y="942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00000"/>
                </a:solidFill>
                <a:latin typeface="Arial"/>
              </a:rPr>
              <a:t>Лестница  достижений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6" name="Прямоугольник 18"/>
          <p:cNvSpPr/>
          <p:nvPr/>
        </p:nvSpPr>
        <p:spPr>
          <a:xfrm>
            <a:off x="528480" y="5445000"/>
            <a:ext cx="1595520" cy="70020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19"/>
          <p:cNvSpPr/>
          <p:nvPr/>
        </p:nvSpPr>
        <p:spPr>
          <a:xfrm>
            <a:off x="1539720" y="4716360"/>
            <a:ext cx="1584360" cy="72864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Прямоугольник 20"/>
          <p:cNvSpPr/>
          <p:nvPr/>
        </p:nvSpPr>
        <p:spPr>
          <a:xfrm>
            <a:off x="2627280" y="4027320"/>
            <a:ext cx="1557360" cy="71604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Прямоугольник 21"/>
          <p:cNvSpPr/>
          <p:nvPr/>
        </p:nvSpPr>
        <p:spPr>
          <a:xfrm>
            <a:off x="3708360" y="3335400"/>
            <a:ext cx="1552680" cy="69192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Box 26"/>
          <p:cNvSpPr/>
          <p:nvPr/>
        </p:nvSpPr>
        <p:spPr>
          <a:xfrm>
            <a:off x="4788000" y="50356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жебные 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рямоугольник 2"/>
          <p:cNvSpPr/>
          <p:nvPr/>
        </p:nvSpPr>
        <p:spPr>
          <a:xfrm>
            <a:off x="4788000" y="2637000"/>
            <a:ext cx="1457280" cy="68580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3"/>
          <p:cNvSpPr/>
          <p:nvPr/>
        </p:nvSpPr>
        <p:spPr>
          <a:xfrm>
            <a:off x="5619600" y="2009880"/>
            <a:ext cx="1413000" cy="62712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Прямоугольник 4"/>
          <p:cNvSpPr/>
          <p:nvPr/>
        </p:nvSpPr>
        <p:spPr>
          <a:xfrm>
            <a:off x="6551640" y="1384200"/>
            <a:ext cx="1368360" cy="625680"/>
          </a:xfrm>
          <a:prstGeom prst="rect">
            <a:avLst/>
          </a:prstGeom>
          <a:solidFill>
            <a:srgbClr val="669999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4:07:00Z</dcterms:created>
  <dc:creator>Бучнева</dc:creator>
  <dc:description/>
  <dc:language>en-US</dc:language>
  <cp:lastModifiedBy>Людмила</cp:lastModifiedBy>
  <dcterms:modified xsi:type="dcterms:W3CDTF">2017-03-21T18:29:26Z</dcterms:modified>
  <cp:revision>67</cp:revision>
  <dc:subject/>
  <dc:title>Девятнадцатое ноября  Классная работа</dc:title>
</cp:coreProperties>
</file>