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2F2-B16D-461E-8756-9BBBFF18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226-2A00-4AE8-872C-8867EAD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1E5-F37F-449D-ACCE-ACE9B7D7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917-9B2E-437F-AF5B-486C908F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D97-A96F-4A51-9947-E4C6987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9A3-DB4E-40E1-A373-9EBEBE7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B10-9D76-4CBD-B173-E7BA4A8B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6FA-CC3A-49D8-8CAA-9F3DBB1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D34-9A8B-4961-BAE8-E7978F6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69F-C5C2-44E7-BF07-727FE348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B8F-6994-4EB7-9A83-7547C73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6A5-AFA8-4837-A652-E7341F5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C255-54D1-4C84-93F3-3D8BE74644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9898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Классный час </a:t>
            </a:r>
            <a:br>
              <a:rPr sz="5400"/>
            </a:br>
            <a:r>
              <a:rPr b="1" lang="ru-RU" sz="8000" spc="-1" strike="noStrike">
                <a:solidFill>
                  <a:srgbClr val="ffffff"/>
                </a:solidFill>
                <a:latin typeface="Bookman Old Style"/>
              </a:rPr>
              <a:t>« Мы – будущие студенты»</a:t>
            </a:r>
            <a:br>
              <a:rPr sz="5400"/>
            </a:br>
            <a:br>
              <a:rPr sz="5400"/>
            </a:b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8600" spc="-1" strike="noStrike">
                <a:solidFill>
                  <a:srgbClr val="ffffff"/>
                </a:solidFill>
                <a:latin typeface="Bookman Old Style"/>
              </a:rPr>
              <a:t>ЭТО </a:t>
            </a:r>
            <a:br>
              <a:rPr sz="8600"/>
            </a:br>
            <a:r>
              <a:rPr b="1" lang="ru-RU" sz="8600" spc="-1" strike="noStrike">
                <a:solidFill>
                  <a:srgbClr val="ffffff"/>
                </a:solidFill>
                <a:latin typeface="Bookman Old Style"/>
              </a:rPr>
              <a:t>МОЙ </a:t>
            </a:r>
            <a:br>
              <a:rPr sz="8600"/>
            </a:br>
            <a:r>
              <a:rPr b="1" lang="ru-RU" sz="8600" spc="-1" strike="noStrike">
                <a:solidFill>
                  <a:srgbClr val="ffffff"/>
                </a:solidFill>
                <a:latin typeface="Bookman Old Style"/>
              </a:rPr>
              <a:t>ВЫБОР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« ТЁМНАЯ ЛОШАДКА»</a:t>
            </a: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CoolEffect.wav" descr=""/>
          <p:cNvPicPr/>
          <p:nvPr/>
        </p:nvPicPr>
        <p:blipFill>
          <a:blip r:embed="rId1"/>
          <a:stretch/>
        </p:blipFill>
        <p:spPr>
          <a:xfrm>
            <a:off x="4500720" y="5000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750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кой веб - дизайне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Провизо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нолог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eeece1"/>
                </a:solidFill>
                <a:latin typeface="Bookman Old Style"/>
                <a:ea typeface="Times New Roman"/>
              </a:rPr>
              <a:t>Тестирование</a:t>
            </a:r>
            <a:r>
              <a:rPr b="0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вый тип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6-8 треугольн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торой тип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5 треугольников 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ретий тип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4 треугольника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твертый тип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3 треугольника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ятый тип: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2 треугольника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Шестой тип: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треугольник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19400" y="1916280"/>
            <a:ext cx="826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Ищ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Найд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089360" y="1916280"/>
            <a:ext cx="742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Bookman Old Style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Bookman Old Style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 мире насчитывается более 55 тысяч професс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Содержимое 3" descr="images.jpg"/>
          <p:cNvPicPr/>
          <p:nvPr/>
        </p:nvPicPr>
        <p:blipFill>
          <a:blip r:embed="rId1"/>
          <a:stretch/>
        </p:blipFill>
        <p:spPr>
          <a:xfrm>
            <a:off x="1152360" y="1438200"/>
            <a:ext cx="6491520" cy="549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548360" y="64296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Segoe Script"/>
              </a:rPr>
              <a:t>Профессия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05000" y="192888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Специальность</a:t>
            </a:r>
            <a:r>
              <a:rPr b="1" i="1" lang="ru-RU" sz="2800" spc="-1" strike="noStrike">
                <a:solidFill>
                  <a:srgbClr val="632523"/>
                </a:solidFill>
                <a:latin typeface="Segoe Script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384560" y="300024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Квалификация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1377360" y="392904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Должность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548360" y="64296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Segoe Script"/>
              </a:rPr>
              <a:t>Профессия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245840" y="714240"/>
            <a:ext cx="42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это трудовая деятельность челове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которая дает ему средства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существования и развития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305000" y="192888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Специальность</a:t>
            </a:r>
            <a:r>
              <a:rPr b="1" i="1" lang="ru-RU" sz="2800" spc="-1" strike="noStrike">
                <a:solidFill>
                  <a:srgbClr val="632523"/>
                </a:solidFill>
                <a:latin typeface="Segoe Script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4815360" y="200016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вид занятий в рамках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профе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384560" y="300024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Квалификация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5020920" y="300024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это уровень профессиона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мастер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377360" y="392904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Segoe Script"/>
              </a:rPr>
              <a:t>Должность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100400" y="39290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это место, занимаемое человеком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alibri"/>
              </a:rPr>
              <a:t>орган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Наш разбег в ХХ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век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Правило №1 «Надо уметь мечтать!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Правило №2 «Умейте быстро выбирать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Правило №3 «Только вперёд»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Правило №4 «Ты - главный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авило №5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«Скажите «Нет!» своим страхам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Правило №6 « Постоянно думать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«Чей </a:t>
            </a: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это </a:t>
            </a: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выбор?»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Содержимое 3" descr="slide_19.jpg"/>
          <p:cNvPicPr/>
          <p:nvPr/>
        </p:nvPicPr>
        <p:blipFill>
          <a:blip r:embed="rId1"/>
          <a:stretch/>
        </p:blipFill>
        <p:spPr>
          <a:xfrm>
            <a:off x="1071720" y="571680"/>
            <a:ext cx="7596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man Old Style"/>
              </a:rPr>
              <a:t>ХОЧУ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man Old Style"/>
              </a:rPr>
              <a:t>МОГУ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man Old Style"/>
              </a:rPr>
              <a:t>НАДО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97040" y="428760"/>
            <a:ext cx="83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Segoe Script"/>
              </a:rPr>
              <a:t>ХОЧУ  -  МОГУ  -  НАД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00040" y="1285920"/>
            <a:ext cx="257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Это все, что мне нравится, к чему лежит ду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071880" y="128592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Это все , что мне по силам, по способнос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214680" y="1357200"/>
            <a:ext cx="29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Это все, что нужно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общества,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трелка вниз 5"/>
          <p:cNvSpPr/>
          <p:nvPr/>
        </p:nvSpPr>
        <p:spPr>
          <a:xfrm>
            <a:off x="4143240" y="250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трелка вниз 6"/>
          <p:cNvSpPr/>
          <p:nvPr/>
        </p:nvSpPr>
        <p:spPr>
          <a:xfrm>
            <a:off x="6786720" y="2428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трелка вниз 7"/>
          <p:cNvSpPr/>
          <p:nvPr/>
        </p:nvSpPr>
        <p:spPr>
          <a:xfrm>
            <a:off x="1285920" y="2428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915120" y="3786120"/>
            <a:ext cx="76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Segoe Script"/>
              </a:rPr>
              <a:t>ОСОЗНАННЫЙ ВЫБОР ПРОФЕ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Пользователь\Рабочий стол\img.jpeg"/>
          <p:cNvPicPr/>
          <p:nvPr/>
        </p:nvPicPr>
        <p:blipFill>
          <a:blip r:embed="rId1"/>
          <a:stretch/>
        </p:blipFill>
        <p:spPr>
          <a:xfrm>
            <a:off x="2462040" y="4479840"/>
            <a:ext cx="5072400" cy="4378320"/>
          </a:xfrm>
          <a:prstGeom prst="rect">
            <a:avLst/>
          </a:prstGeom>
          <a:ln w="0">
            <a:noFill/>
          </a:ln>
        </p:spPr>
      </p:pic>
      <p:sp>
        <p:nvSpPr>
          <p:cNvPr id="72" name="Плюс 10"/>
          <p:cNvSpPr/>
          <p:nvPr/>
        </p:nvSpPr>
        <p:spPr>
          <a:xfrm>
            <a:off x="2786040" y="285840"/>
            <a:ext cx="914400" cy="914400"/>
          </a:xfrm>
          <a:prstGeom prst="pie">
            <a:avLst/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люс 11"/>
          <p:cNvSpPr/>
          <p:nvPr/>
        </p:nvSpPr>
        <p:spPr>
          <a:xfrm>
            <a:off x="6000840" y="285840"/>
            <a:ext cx="914400" cy="914400"/>
          </a:xfrm>
          <a:prstGeom prst="pie">
            <a:avLst/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1</cp:lastModifiedBy>
  <dcterms:modified xsi:type="dcterms:W3CDTF">2018-02-15T05:34:25Z</dcterms:modified>
  <cp:revision>96</cp:revision>
  <dc:subject/>
  <dc:title>Игра «Угадай профессию»</dc:title>
</cp:coreProperties>
</file>