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278-7988-4699-9935-7A483456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344-5E81-400D-A7DD-00C21B48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295-737C-4E38-BC79-9C39A67F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FDE-E478-4318-B1E3-937094B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161-A263-4B9D-8A1E-E656B63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3B5-B370-4FB9-B3AE-FB70233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D23-60A3-4CA7-BC23-860DCC9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F75-46E1-4B7C-B661-28A4565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D8E-F114-4667-9479-688159D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7F9-5151-4615-848D-C645A29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BA9-C641-459C-AF83-FF2F8A1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2B7-A3FF-498C-AB0B-EEC1D8F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9746CF-1020-474A-95D9-72EB710550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47880" y="826920"/>
            <a:ext cx="855648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Употребление </a:t>
            </a:r>
            <a:endParaRPr b="0" lang="en-US" sz="80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глагола</a:t>
            </a:r>
            <a:endParaRPr b="0" lang="en-US" sz="80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o be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80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79280"/>
            <a:ext cx="93600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дание 2. Теперь попробуй в  предложениях.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79640"/>
            <a:ext cx="465948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1. He .....  my broth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2. We … good friend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3. She … a docto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4. They … pupi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5.  I … from Afric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You …. my sist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 The cat … black and whit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 My mother … a teacher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 Our friends … Russian.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58880" y="1979280"/>
            <a:ext cx="482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1. 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my broth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2. W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good friend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3. S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a docto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4. They</a:t>
            </a:r>
            <a:r>
              <a:rPr b="1" lang="en-US" sz="3200" spc="-1" strike="noStrike" u="sng">
                <a:solidFill>
                  <a:srgbClr val="e6e6e6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pupi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5.  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m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from Afric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You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y sist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 The ca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lack and whit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 My mothe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a teacher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 Our friend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n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899640" cy="21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дание 3.  Построй новые предложения,         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спользуя слов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бразец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: My friend is English. -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You are English, too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600"/>
            </a:b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3042720"/>
            <a:ext cx="861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</a:rPr>
              <a:t>Alice is from America.  Jane….             2.  I am Russian.  My friends…              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   3.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</a:rPr>
              <a:t>My cat is black. His dog …                  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 4.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</a:rPr>
              <a:t>You are a good pupil. Your sister…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3ff2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5.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23ff23"/>
                </a:solidFill>
                <a:latin typeface="Times New Roman"/>
              </a:rPr>
              <a:t>My family is big. Their  families…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42480"/>
            <a:ext cx="93394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дание 3.  Построй новые предложения,                                                 используя слов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бразец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: My friend is English. -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You are English, too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0000" y="2503440"/>
            <a:ext cx="82803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6.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Ann is from Canada.  We …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7.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is name is Bob. My name …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8.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My brother is nine. I…         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9.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My sister is at home. My parents …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His aunt is a doctor. You…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720" y="360000"/>
            <a:ext cx="55800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Если с чем-то не согласен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Наш глагол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to</a:t>
            </a: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be</a:t>
            </a: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То частиц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на помощь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Тут же прилетит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500720" y="2700360"/>
            <a:ext cx="52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700360" y="32688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Отрицание получилось,</a:t>
            </a:r>
            <a:br>
              <a:rPr sz="3200"/>
            </a:b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Если вдруг частица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br>
              <a:rPr sz="3200"/>
            </a:b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За глаголом по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60360" y="2340000"/>
            <a:ext cx="19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3273480" y="2340000"/>
            <a:ext cx="19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6840360" y="2340000"/>
            <a:ext cx="2340000" cy="4680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5278320" y="2340000"/>
            <a:ext cx="1619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109440"/>
            <a:ext cx="953928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Задание 4. Вставьте нужные формы глагола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to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Be</a:t>
            </a:r>
            <a:r>
              <a:rPr b="1" i="1" lang="ru-RU" sz="3200" spc="-1" strike="noStrike">
                <a:solidFill>
                  <a:srgbClr val="00ff00"/>
                </a:solidFill>
                <a:latin typeface="Times New Roman"/>
              </a:rPr>
              <a:t> и дайте его сокращенную  форму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 с отрицанием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Образец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:  Ann is not American. -  Ann isn’t Amer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0720" y="2519280"/>
            <a:ext cx="5580000" cy="72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1.   He  …  not a bab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2.  My aunt  … not from Moscow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3.  The boys  …  not bi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4.  Our cousins …  not  Englis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5.  They  …  not sister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6.   I …   not a pupil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7.  You  …  not  a doct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8.  She … not ba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9.  We ….  not 7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40360" y="5543640"/>
            <a:ext cx="4859280" cy="1295280"/>
          </a:xfrm>
          <a:prstGeom prst="rect">
            <a:avLst/>
          </a:prstGeom>
          <a:noFill/>
          <a:ln w="36000">
            <a:solidFill>
              <a:srgbClr val="23ff23"/>
            </a:solidFill>
            <a:round/>
          </a:ln>
        </p:spPr>
        <p:txBody>
          <a:bodyPr lIns="18000" rIns="18000" tIns="43200" bIns="180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3b8dc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e6ff00"/>
                </a:solidFill>
                <a:latin typeface="Times New Roman"/>
              </a:rPr>
              <a:t>is  +   not  =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sn’t</a:t>
            </a:r>
            <a:br>
              <a:rPr sz="4000"/>
            </a:br>
            <a:r>
              <a:rPr b="0" lang="en-US" sz="4000" spc="-1" strike="noStrike">
                <a:solidFill>
                  <a:srgbClr val="e6ff00"/>
                </a:solidFill>
                <a:latin typeface="Times New Roman"/>
              </a:rPr>
              <a:t>  are  +   not  =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ren’t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9466200" cy="18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dcff"/>
                </a:solidFill>
                <a:latin typeface="Times New Roman"/>
              </a:rPr>
              <a:t>Задание 5.  Представьте себе, что  поймали                                   разведчика, но он все  отрицает</a:t>
            </a:r>
            <a:r>
              <a:rPr b="1" i="1" lang="en-US" sz="3200" spc="-1" strike="noStrike">
                <a:solidFill>
                  <a:srgbClr val="00dcff"/>
                </a:solidFill>
                <a:latin typeface="Times New Roman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00d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Образец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:  The dogs are big. – The dogs are not                                                                      (aren’t) big.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0000" y="2160360"/>
            <a:ext cx="6792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You are a pupil.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2.   His name is Vasy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3.   They are your friends.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4.   Your mother is a doctor.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5.   My friend is Russian.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6.   The baby is small.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7.   Our cat is white.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8.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Her father is a driver.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9.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You are English.       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  <a:ea typeface="Times New Roman"/>
              </a:rPr>
              <a:t>10.  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Their friends are from America…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160720" y="2879640"/>
            <a:ext cx="1979640" cy="414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157640" y="2879640"/>
            <a:ext cx="2143080" cy="41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6300720" y="2879640"/>
            <a:ext cx="1800360" cy="414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560520" y="179280"/>
            <a:ext cx="55591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Есть в английском  языке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Правило одно.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Ты его не забывай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Важное о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500720" y="1339920"/>
            <a:ext cx="521964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В предложеньи у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Место лишь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Он стоит за подлежа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ff23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9999976158142"/>
                                  </p:iterate>
                                  <p:childTnLst>
                                    <p:set>
                                      <p:cBhvr>
                                        <p:cTn id="185" dur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18920" y="179280"/>
            <a:ext cx="504036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23ff23"/>
                </a:solidFill>
                <a:latin typeface="Times New Roman"/>
              </a:rPr>
              <a:t>Это верно, но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</a:rPr>
              <a:t>Поменяем их местами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imes New Roman"/>
              </a:rPr>
              <a:t>И вопрос составим с вам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5800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900000" y="360360"/>
          <a:ext cx="8821800" cy="6527880"/>
        </p:xfrm>
        <a:graphic>
          <a:graphicData uri="http://schemas.openxmlformats.org/drawingml/2006/table">
            <a:tbl>
              <a:tblPr/>
              <a:tblGrid>
                <a:gridCol w="4513320"/>
                <a:gridCol w="4308480"/>
              </a:tblGrid>
              <a:tr h="6527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m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pup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pup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pup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pup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pupil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upi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upi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upils.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a pupil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ou a pupil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e a pupil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he a pupil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I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t a pupil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e pupil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ou pupil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r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y pupils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77840"/>
            <a:ext cx="594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00ae00"/>
                </a:solidFill>
                <a:latin typeface="Arial"/>
              </a:rPr>
              <a:t>          </a:t>
            </a:r>
            <a:r>
              <a:rPr b="1" i="1" lang="ru-RU" sz="72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to BE</a:t>
            </a:r>
            <a:endParaRPr b="1" i="1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79640" y="1800360"/>
            <a:ext cx="3419280" cy="521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2200" y="1792440"/>
            <a:ext cx="4718160" cy="5047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ед тобой глагол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удь осторожен с ним, смотр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роль наш любит пошутить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внешность свою изменить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177480"/>
            <a:ext cx="989964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Задание 6.   Тетя Варя к вам пришла.  Глуховатая                      она. Любит переспрашивать, очень   много                   спрашивать.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915984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1.  Her name is Pam.    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Our friends are sportsmen.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3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Nick and Mike  are brothers.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4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My mother is at work.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5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You are a baby.       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6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The kittens are small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7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He is a good friend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8.  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Jill is eight.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9.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My sisters are pupils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320"/>
                </a:solidFill>
                <a:latin typeface="Times New Roman"/>
                <a:ea typeface="Times New Roman"/>
              </a:rPr>
              <a:t>10.  </a:t>
            </a:r>
            <a:r>
              <a:rPr b="1" lang="en-US" sz="3600" spc="-1" strike="noStrike">
                <a:solidFill>
                  <a:srgbClr val="ffd320"/>
                </a:solidFill>
                <a:latin typeface="Times New Roman"/>
              </a:rPr>
              <a:t>I am a teacher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Задание 7.   Вставьте пропущенные формы                          глагола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be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 и задайте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вопросы.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1800000"/>
            <a:ext cx="73800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5000"/>
          </a:bodyPr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My name … Jane.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Bill … our friend.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is uncle … from England.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. 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Kate and Jane … sisters.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My parents ….  doctors.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. 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Our friends  …  from America.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Pam and Sam  … at school.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His cousin … a driver.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9.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My mother … in Canada now.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buNone/>
              <a:tabLst>
                <a:tab algn="l" pos="0"/>
                <a:tab algn="l" pos="2746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0. 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I … ten. 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Задание 8.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стройте предложения.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8880" y="1800000"/>
            <a:ext cx="87804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a worker, his father, is.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lephant, is, it.  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ill and Bill, from, are, New York?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,  not, a pupil, is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her, our, a teacher,  is.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ack and Kate, are, doctors, not.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m, a driver, I.           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, his, are, brother?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, from, they, Italy.            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2286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s, their, at home, brother, not.          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0960" y="17784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                     </a:t>
            </a:r>
            <a:r>
              <a:rPr b="1" i="1" lang="ru-RU" sz="8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to BE</a:t>
            </a:r>
            <a:endParaRPr b="1" i="1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378000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9640" y="1800360"/>
            <a:ext cx="52578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видишь маску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 мой друг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Скорее оглянись вокруг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Times New Roman"/>
              </a:rPr>
              <a:t>Не думай долго, не гадай –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ечно рядом будет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I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192240"/>
            <a:ext cx="69994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ff9966"/>
                </a:solidFill>
                <a:latin typeface="Arial"/>
              </a:rPr>
              <a:t>         </a:t>
            </a:r>
            <a:r>
              <a:rPr b="1" i="1" lang="ru-RU" sz="7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9966"/>
                </a:solidFill>
                <a:latin typeface="Times New Roman"/>
              </a:rPr>
              <a:t>t</a:t>
            </a:r>
            <a:r>
              <a:rPr b="1" i="1" lang="ru-RU" sz="7200" spc="-1" strike="noStrike">
                <a:solidFill>
                  <a:srgbClr val="dc2300"/>
                </a:solidFill>
                <a:latin typeface="Times New Roman"/>
              </a:rPr>
              <a:t>o BE</a:t>
            </a:r>
            <a:endParaRPr b="1" i="1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19080" y="1800360"/>
            <a:ext cx="3942000" cy="521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56200" y="1812600"/>
            <a:ext cx="4843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 если видишь маску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удивляйся, не сердись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кой наряд надел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еред словами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, she, he.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3959280" cy="57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79640" y="539280"/>
            <a:ext cx="5040360" cy="6596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ни хитер глагол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формы у него лишь тр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это вовсе не беда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сли встретишь  форму                                              </a:t>
            </a: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are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егда увидишь рядом с ней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стоименья </a:t>
            </a:r>
            <a:r>
              <a:rPr b="1" lang="en-US" sz="3600" spc="-1" strike="noStrike">
                <a:solidFill>
                  <a:srgbClr val="00ae00"/>
                </a:solidFill>
                <a:latin typeface="Times New Roman"/>
              </a:rPr>
              <a:t>we, you, they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776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800" spc="-1" strike="noStrike">
                <a:solidFill>
                  <a:srgbClr val="ff9966"/>
                </a:solidFill>
                <a:latin typeface="Arial"/>
              </a:rPr>
              <a:t>          </a:t>
            </a:r>
            <a:r>
              <a:rPr b="1" i="1" lang="ru-RU" sz="7200" spc="-1" strike="noStrike">
                <a:solidFill>
                  <a:srgbClr val="dc2300"/>
                </a:solidFill>
                <a:latin typeface="Times New Roman"/>
              </a:rPr>
              <a:t>to B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40000" y="1979640"/>
            <a:ext cx="2340000" cy="504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199280" y="1979640"/>
            <a:ext cx="2160720" cy="504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319640" y="1979640"/>
            <a:ext cx="23400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079640" y="357120"/>
            <a:ext cx="8078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. Вспомни, какие маски надевает король            t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e с местоим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759280" y="1979640"/>
            <a:ext cx="1619280" cy="37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079640" y="3060720"/>
            <a:ext cx="1800000" cy="37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7380360" y="1979640"/>
            <a:ext cx="1800000" cy="381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879640" y="3060720"/>
            <a:ext cx="197964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079640" y="179280"/>
            <a:ext cx="7920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. Вспомни, какие маски надевает король            t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e с местоим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00000" y="2519280"/>
            <a:ext cx="18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2700360" y="2519280"/>
            <a:ext cx="2160720" cy="43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160360" cy="41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5040360" y="1619280"/>
            <a:ext cx="197964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100160" y="266760"/>
            <a:ext cx="7718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. Вспомни, какие маски надевает король            to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e с местоим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1979640"/>
            <a:ext cx="2519280" cy="504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5219640" y="1979640"/>
            <a:ext cx="251928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8:13:35Z</dcterms:created>
  <dc:creator>диана козаева</dc:creator>
  <dc:description/>
  <dc:language>en-US</dc:language>
  <cp:lastModifiedBy>Владелец</cp:lastModifiedBy>
  <dcterms:modified xsi:type="dcterms:W3CDTF">2015-12-14T06:05:55Z</dcterms:modified>
  <cp:revision>16</cp:revision>
  <dc:subject/>
  <dc:title>Каркусова Диляра Маирбековна            школа №7 им. А.С. Пушкина                             г.Владикавказ</dc:title>
</cp:coreProperties>
</file>