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817E-EBBB-4CBA-B9A0-5BDE51B1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6B85-70BD-4C14-8DCC-3F69195D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1C53-11D7-40B3-AA54-61FFE12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559D-9B31-4BE2-B452-512ABB3A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106-1127-4746-9020-B7DE3A54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F19D-5411-48CE-847E-B09ED83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FD32-21A3-423C-B64C-C0BB1738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3F4-38D8-4FA9-B03A-179F0AD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36F9-8515-4DAE-9B94-E4514BD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582E-E4D7-4AA9-9950-77FEEB6E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4B2A-4D13-40CB-8146-9716184E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7F48-B393-4C37-AEC2-8862AF50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1D3-411F-438B-A476-927DF8C2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E553-5352-422E-8CB4-028E9C3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9BE-0663-4F4C-91E0-AD19129D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0FAE-A471-4865-8BA2-A80EFDEC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9457-158C-4D8D-A3E5-93BA204E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3A2F-5D6F-475A-BB40-C5AE4CF6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C5F5-18CD-46D0-AC90-7642310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7F32-73C1-477E-9953-88122C80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99FB-4732-4861-A744-544EB7E5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0D5A-500D-4007-B0AE-65EF17B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3BF1-A438-408F-9897-C0E64707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40F4-2907-4E16-A399-53DFD8A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9871-9C8C-428C-843F-A9000176A3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FEF-6BED-4111-8BE4-DD4417F705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37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3005280" cy="11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2128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527640" cy="8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953240" cy="431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8760" y="4869000"/>
            <a:ext cx="797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Ц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3549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32240" y="5013360"/>
            <a:ext cx="50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894280" cy="3755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8920" y="4724280"/>
            <a:ext cx="818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5043600" cy="39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760" y="3429000"/>
            <a:ext cx="655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9132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160" y="4653000"/>
            <a:ext cx="721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Х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1956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1760" y="4869000"/>
            <a:ext cx="86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И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Ж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Б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60684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2040" y="4292640"/>
            <a:ext cx="831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ДУ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Ш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НЫ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9999cc"/>
                </a:solidFill>
                <a:latin typeface="Chicago"/>
              </a:rPr>
              <a:t> 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Ш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353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040" y="5029200"/>
            <a:ext cx="4152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496040" cy="402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4640" y="4952880"/>
            <a:ext cx="483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182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1160" y="3429000"/>
            <a:ext cx="7622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328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4508640"/>
            <a:ext cx="69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Б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1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3200" y="4952880"/>
            <a:ext cx="667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Д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081400" cy="4254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4941720"/>
            <a:ext cx="511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Н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81400" y="4724280"/>
            <a:ext cx="3483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Х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909960" cy="49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800" y="5013360"/>
            <a:ext cx="5028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72600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2160" y="5013360"/>
            <a:ext cx="6561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М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543800" cy="290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8200" y="4876920"/>
            <a:ext cx="464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72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0880" y="4724280"/>
            <a:ext cx="646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С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324480" cy="3835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26720" y="4797360"/>
            <a:ext cx="6677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313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7760" y="3809880"/>
            <a:ext cx="854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Е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К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Т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БИ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63520" y="4876920"/>
            <a:ext cx="450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724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94400" y="4797360"/>
            <a:ext cx="711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8:31:47Z</dcterms:created>
  <dc:creator>yuliya</dc:creator>
  <dc:description/>
  <dc:language>en-US</dc:language>
  <cp:lastModifiedBy>Лена Данилова</cp:lastModifiedBy>
  <dcterms:modified xsi:type="dcterms:W3CDTF">2005-02-20T16:30:11Z</dcterms:modified>
  <cp:revision>9</cp:revision>
  <dc:subject/>
  <dc:title>Заголовок слайда отсутствует</dc:title>
</cp:coreProperties>
</file>