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5716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85880" y="1279440"/>
            <a:ext cx="5527440" cy="345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560" y="4925880"/>
            <a:ext cx="568008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05A69-C30B-4680-A8C8-28013CAC5A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85880" y="1279440"/>
            <a:ext cx="5527440" cy="345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560" y="4925880"/>
            <a:ext cx="568008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402120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A93A1-C0A1-4CCF-8673-82BC34F9F0C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7FA-9B44-4E1E-B3C4-897B3D7A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76755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9520" y="3416040"/>
            <a:ext cx="76755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B30-FBCD-40F1-AFC7-9CFEA374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2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9520" y="341604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2520" y="341604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7E9-6260-4B30-88FC-4A0FE06C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760" y="152100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0360" y="152100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9520" y="341604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760" y="341604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0360" y="341604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F2F-B31A-4648-A5EA-AA130AC5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9AFC-78A9-4130-9D7F-D489EACA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9520" y="1521000"/>
            <a:ext cx="767556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9141-4C7A-4E7B-BEBE-C11A215A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76755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0595-88FB-4F6B-AAF5-3621A48F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374544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2520" y="1521000"/>
            <a:ext cx="374544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B7E5-756E-47F8-8C9C-79ABA72B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88AC-8F62-4584-8DEA-DA18E96C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04560"/>
            <a:ext cx="7886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308C-418D-42AB-9452-8EE8D9C7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2520" y="1521000"/>
            <a:ext cx="374544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9520" y="341604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8BC8-A6AA-4C40-AFFF-27F868BD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9520" y="1521000"/>
            <a:ext cx="767556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A5B-D6F6-4DDD-8903-AEC61CCB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374544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2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2520" y="341604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CA42-057B-4BFA-A2A0-20A9CA19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2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9520" y="3416040"/>
            <a:ext cx="76755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6498-0465-46C8-A2BD-7BED06F0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76755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9520" y="3416040"/>
            <a:ext cx="76755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D1B2-A0E9-4297-8F54-66EE210F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2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9520" y="341604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2520" y="341604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303D-1590-493A-B071-72E919C8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4760" y="152100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0360" y="152100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9520" y="341604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4760" y="341604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0360" y="3416040"/>
            <a:ext cx="2471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EEB3-6528-41C3-80C0-ADEA26C3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76755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2A9-AF26-4714-8008-09599EE6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374544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2520" y="1521000"/>
            <a:ext cx="374544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415-4E54-47A2-B0A4-38FEF81B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C73-E6A6-4C1B-AD53-D46CD0AF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04560"/>
            <a:ext cx="7886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21F-6D20-4670-8402-0EF1040C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2520" y="1521000"/>
            <a:ext cx="374544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9520" y="341604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79E-1876-4FF5-8578-4EB1436D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374544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2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2520" y="341604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813-B29D-4E6A-BFFD-C424E3AD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9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2520" y="1521000"/>
            <a:ext cx="374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9520" y="3416040"/>
            <a:ext cx="76755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86A-A33F-4D76-BA93-CBCAE67C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521000"/>
            <a:ext cx="76755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5297040"/>
            <a:ext cx="30859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B1467-E9F2-4E4B-B8EE-752B0EF01CD8}" type="slidenum">
              <a:rPr b="0" lang="ru-RU" sz="9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3400" y="655560"/>
            <a:ext cx="457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“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827840" y="2286000"/>
            <a:ext cx="457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”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9520" y="1521000"/>
            <a:ext cx="76755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5297040"/>
            <a:ext cx="30859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8CA24-D3E6-4D6E-BA0E-D58AB8B5703F}" type="slidenum">
              <a:rPr b="0" lang="ru-RU" sz="9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hyperlink" Target="https://youtu.be/Ll3PsrDw4TU" TargetMode="External"/><Relationship Id="rId6" Type="http://schemas.openxmlformats.org/officeDocument/2006/relationships/hyperlink" Target="https://youtu.be/oBAbUJayfDY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4376160" y="14288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772400" cy="1620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1640" y="3218040"/>
            <a:ext cx="7304040" cy="20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                                                                          </a:t>
            </a: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Проект ученика 4 класса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                                                                          </a:t>
            </a: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ГБОУ Школа № 121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                                                                          </a:t>
            </a: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Руководитель: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Михайлова Оксана Анатольевна,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2"/>
          <a:stretch/>
        </p:blipFill>
        <p:spPr>
          <a:xfrm>
            <a:off x="250920" y="1562040"/>
            <a:ext cx="44924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725400" y="27792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Вот наш инкубатор, птенчики и перепелиные яйца!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324000" y="1633680"/>
            <a:ext cx="2952720" cy="2160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" descr=""/>
          <p:cNvPicPr/>
          <p:nvPr/>
        </p:nvPicPr>
        <p:blipFill>
          <a:blip r:embed="rId2"/>
          <a:stretch/>
        </p:blipFill>
        <p:spPr>
          <a:xfrm>
            <a:off x="3492360" y="2685960"/>
            <a:ext cx="210528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" descr=""/>
          <p:cNvPicPr/>
          <p:nvPr/>
        </p:nvPicPr>
        <p:blipFill>
          <a:blip r:embed="rId3"/>
          <a:stretch/>
        </p:blipFill>
        <p:spPr>
          <a:xfrm>
            <a:off x="5867280" y="1633680"/>
            <a:ext cx="3032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900000" y="2649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Результаты нашей работы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498600" y="841320"/>
            <a:ext cx="8064360" cy="64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92d050"/>
              </a:buClr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Изучил основные правила разведения перепелов и инкубирования перепелиных яиц;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92d050"/>
              </a:buClr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Разработал и с помощью взрослых построил инкубатор и брустер для разведения перепелок;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92d050"/>
              </a:buClr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Проинкубировал перепелиные яйца, добился выведения птенчиков в инкубаторе;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92d050"/>
              </a:buClr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Вырастил на даче перепелок и получаю от них яички, которые передаю дедушке для поддержания его здоровья.  Тем самым я помогаю дедушке справиться со своим заболеванием;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92d050"/>
              </a:buClr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Я пообщался с мастерами своего дела – специалистами в разных областях, много от них узнал, научился своими руками изготавливать полезные изделия, а также работать в команде;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92d050"/>
              </a:buClr>
              <a:buFont typeface="Corbel"/>
              <a:buAutoNum type="arabicPeriod" startAt="6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Выступил с рассказом перед классом, ребята очень заинтересовались моей работой;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92d050"/>
              </a:buClr>
              <a:buFont typeface="Corbel"/>
              <a:buAutoNum type="arabicPeriod" startAt="6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 </a:t>
            </a: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Со своим проектом участвую в различных конкурсах проектных работ – «Стремление»,  Всероссийском конкурсе «Горизонты открытий» и других конкурсах;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92d050"/>
              </a:buClr>
              <a:buFont typeface="Corbel"/>
              <a:buAutoNum type="arabicPeriod" startAt="8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Выращивание перепелок для себя на своем дачном участке  – это вклад в здоровое питание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          </a:t>
            </a: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семьи.     Полученные при таком выращивании перепелиные яйца:  безопасны,  полезны, 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          </a:t>
            </a: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всесезонны.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92d050"/>
              </a:buClr>
              <a:buFont typeface="Corbel"/>
              <a:buAutoNum type="arabicPeriod" startAt="9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В будущем я решил  увеличить поголовье  перепелов, закладывая в инкубатор уже собранные из него ранее  инкубационные яички. Хочу обеспечивать свою семью перепелиными яйцами постоянно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2d050"/>
                </a:solidFill>
                <a:latin typeface="Corbe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92d050"/>
              </a:buClr>
              <a:buFont typeface="Corbe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755640" y="3366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1547640" y="1201680"/>
            <a:ext cx="6553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738360" y="1201680"/>
            <a:ext cx="792000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2d050"/>
              </a:buClr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Corbel"/>
              </a:rPr>
              <a:t>Любую идею можно воплотить в жизнь , приложив усилия, имея знания, опыт и возможность общаться со специалистами и профессионалами своего дела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Corbel"/>
              </a:rPr>
              <a:t>2. В любой работе необходима помощь друзей. С ними работать интереснее и 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Corbel"/>
              </a:rPr>
              <a:t>      </a:t>
            </a:r>
            <a:r>
              <a:rPr b="1" lang="ru-RU" sz="1600" spc="-1" strike="noStrike">
                <a:solidFill>
                  <a:srgbClr val="92d050"/>
                </a:solidFill>
                <a:latin typeface="Corbel"/>
              </a:rPr>
              <a:t>продуктивнее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Corbel"/>
              </a:rPr>
              <a:t>3. Изготовление различных устройств своими руками – это познавательно и 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Corbel"/>
              </a:rPr>
              <a:t>     </a:t>
            </a:r>
            <a:r>
              <a:rPr b="1" lang="ru-RU" sz="1600" spc="-1" strike="noStrike">
                <a:solidFill>
                  <a:srgbClr val="92d050"/>
                </a:solidFill>
                <a:latin typeface="Corbel"/>
              </a:rPr>
              <a:t>увлекательно! Я рад, что смог участвовать в  изготовлении полезного и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Corbel"/>
              </a:rPr>
              <a:t>     </a:t>
            </a:r>
            <a:r>
              <a:rPr b="1" lang="ru-RU" sz="1600" spc="-1" strike="noStrike">
                <a:solidFill>
                  <a:srgbClr val="92d050"/>
                </a:solidFill>
                <a:latin typeface="Corbel"/>
              </a:rPr>
              <a:t>интересного устройства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Corbel"/>
              </a:rPr>
              <a:t>4.  Человек не рождается специалистом, а становится им по мере усердного труда над своим делом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1" lang="ru-RU" sz="1600" spc="-1" strike="noStrike">
                <a:solidFill>
                  <a:srgbClr val="92d050"/>
                </a:solidFill>
                <a:latin typeface="Corbel"/>
              </a:rPr>
              <a:t>В планах еще построить на даче у дедушки маленькую миниферму по выращиванию перепелов. А еще я хочу проинкубировать куриные яички и посмотреть, что из этого получится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547640" y="4809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О Г Л А В Л Е Н И 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39640" y="985680"/>
            <a:ext cx="806472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1.   Знакомьтесь, это я!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92d050"/>
              </a:buClr>
              <a:buFont typeface="Corbel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Проблема со здоровьем у дедушки         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3.     Возникшие вопрос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4.   Идея –  сделать  инкубатор и вывести перепелов для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любимого дедушки</a:t>
            </a:r>
            <a:br>
              <a:rPr sz="2000"/>
            </a:b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5.   Реализация проекта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           </a:t>
            </a: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- кто мне помог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- работа над проектом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           </a:t>
            </a: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- представление информации в виде презентации и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                                                                                             </a:t>
            </a: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изготовленной кормушки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6.   Результаты работы</a:t>
            </a:r>
            <a:br>
              <a:rPr sz="2000"/>
            </a:br>
            <a:r>
              <a:rPr b="1" lang="ru-RU" sz="2000" spc="-1" strike="noStrike">
                <a:solidFill>
                  <a:srgbClr val="92d050"/>
                </a:solidFill>
                <a:latin typeface="Corbel"/>
                <a:ea typeface="Arial"/>
              </a:rPr>
              <a:t>7.   Выводы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Знакомьтесь, это я!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8" name="Объект 2" descr=""/>
          <p:cNvPicPr/>
          <p:nvPr/>
        </p:nvPicPr>
        <p:blipFill>
          <a:blip r:embed="rId1"/>
          <a:stretch/>
        </p:blipFill>
        <p:spPr>
          <a:xfrm>
            <a:off x="262080" y="914400"/>
            <a:ext cx="8291520" cy="4267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2"/>
          <a:stretch/>
        </p:blipFill>
        <p:spPr>
          <a:xfrm>
            <a:off x="6227640" y="1920960"/>
            <a:ext cx="264816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24000" y="480960"/>
            <a:ext cx="8135640" cy="75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Проблема со здоровьем у дедушки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У моего любимого дедушки Володи есть давняя проблема с желудком, у него язва.  Он ее лечит не только с помощью лекарственных средств, но и способами народной медицины. Члены семьи тоже стараются  помогать  дедушке. В интернете мама прочитала, что язву желудка можно попробовать вылечить перепелиными яйцами.  Но в магазине они стоят очень дорого, а употреблять их надо долгое время, поэтому покупка становится проблематичной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                        </a:t>
            </a:r>
            <a:r>
              <a:rPr b="1" lang="ru-RU" sz="2000" spc="-1" strike="noStrike" u="sng">
                <a:solidFill>
                  <a:srgbClr val="92d050"/>
                </a:solidFill>
                <a:uFillTx/>
                <a:latin typeface="Corbel"/>
              </a:rPr>
              <a:t>У меня возник вопрос: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а нельзя ли получить перепелиные яйца самостоятельно, вырастив перепёлок в домашних условиях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395280" y="193680"/>
            <a:ext cx="85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У меня появилась идея: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orbel"/>
              </a:rPr>
              <a:t>надо вырастить перепелок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orbel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orbel"/>
              </a:rPr>
              <a:t>самостоятельно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576360" y="2065320"/>
            <a:ext cx="7705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Во – первых, это будет помощью моему больному дедушке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Во – вторых, у нас будет свой, доступный в любое время ,</a:t>
            </a:r>
            <a:r>
              <a:rPr b="1" lang="en-US" sz="2000" spc="-1" strike="noStrike">
                <a:solidFill>
                  <a:srgbClr val="92d050"/>
                </a:solidFill>
                <a:latin typeface="Corbel"/>
              </a:rPr>
              <a:t>      </a:t>
            </a: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экологически чистый продукт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В – третьих, это очень полезный продукт для поддержания здоровья человека, повышения иммунитета и профилактики различных заболева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rbel"/>
              </a:rPr>
              <a:t>Поэтому мы решили, что перепелиные яйца обязательно должны быть на нашем столе!!!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324000" y="4809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Кто мне помогал в подготовке проекта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39640" y="112716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2d050"/>
              </a:buClr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orbel"/>
              </a:rPr>
              <a:t>Мои родители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buClr>
                <a:srgbClr val="92d050"/>
              </a:buClr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orbel"/>
              </a:rPr>
              <a:t>Библиотекарь Якимова Наталья Викторов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buClr>
                <a:srgbClr val="92d050"/>
              </a:buClr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orbel"/>
              </a:rPr>
              <a:t>Кубанский фермер Здрогов Михаил Иванович с семьёй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buClr>
                <a:srgbClr val="92d050"/>
              </a:buClr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orbel"/>
              </a:rPr>
              <a:t>Специалист по изготовлению клеток для перепелов Сироклин Иван Алексеевич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buClr>
                <a:srgbClr val="92d050"/>
              </a:buClr>
              <a:buFont typeface="Corbe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orbel"/>
              </a:rPr>
              <a:t>Моя учительница Михайлова Оксана Анатольев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5148360" y="4264200"/>
            <a:ext cx="375264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628560" y="304920"/>
            <a:ext cx="7886880" cy="463320"/>
          </a:xfrm>
          <a:prstGeom prst="rect">
            <a:avLst/>
          </a:prstGeom>
          <a:ln w="0">
            <a:noFill/>
          </a:ln>
        </p:spPr>
      </p:pic>
      <p:pic>
        <p:nvPicPr>
          <p:cNvPr id="107" name="Текст 2" descr=""/>
          <p:cNvPicPr/>
          <p:nvPr/>
        </p:nvPicPr>
        <p:blipFill>
          <a:blip r:embed="rId2"/>
          <a:stretch/>
        </p:blipFill>
        <p:spPr>
          <a:xfrm>
            <a:off x="560520" y="628560"/>
            <a:ext cx="84074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318960" y="1936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Некоторые этапы работы над проектом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2603520" y="29988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арисовка чертежа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4486320" y="2957400"/>
            <a:ext cx="250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Вырезание отверстий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для лампы и диммера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7039080" y="2930400"/>
            <a:ext cx="160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репление дверцы к инкубатору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2925720" y="895320"/>
            <a:ext cx="1513080" cy="21207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"/>
          <p:cNvPicPr/>
          <p:nvPr/>
        </p:nvPicPr>
        <p:blipFill>
          <a:blip r:embed="rId2"/>
          <a:stretch/>
        </p:blipFill>
        <p:spPr>
          <a:xfrm>
            <a:off x="5056200" y="905040"/>
            <a:ext cx="1539720" cy="2052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"/>
          <p:cNvPicPr/>
          <p:nvPr/>
        </p:nvPicPr>
        <p:blipFill>
          <a:blip r:embed="rId3"/>
          <a:stretch/>
        </p:blipFill>
        <p:spPr>
          <a:xfrm>
            <a:off x="7085160" y="912960"/>
            <a:ext cx="1514160" cy="20174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"/>
          <p:cNvPicPr/>
          <p:nvPr/>
        </p:nvPicPr>
        <p:blipFill>
          <a:blip r:embed="rId4"/>
          <a:stretch/>
        </p:blipFill>
        <p:spPr>
          <a:xfrm>
            <a:off x="2700360" y="3508200"/>
            <a:ext cx="1474920" cy="19274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0"/>
          <p:cNvSpPr/>
          <p:nvPr/>
        </p:nvSpPr>
        <p:spPr>
          <a:xfrm>
            <a:off x="2568600" y="542916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Изготовление поилки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7" name="Рисунок 13" descr=""/>
          <p:cNvPicPr/>
          <p:nvPr/>
        </p:nvPicPr>
        <p:blipFill>
          <a:blip r:embed="rId5"/>
          <a:stretch/>
        </p:blipFill>
        <p:spPr>
          <a:xfrm>
            <a:off x="450720" y="3508200"/>
            <a:ext cx="1513080" cy="1927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5"/>
          <p:cNvSpPr/>
          <p:nvPr/>
        </p:nvSpPr>
        <p:spPr>
          <a:xfrm>
            <a:off x="343080" y="54309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тепление инкубатора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6"/>
          <a:stretch/>
        </p:blipFill>
        <p:spPr>
          <a:xfrm>
            <a:off x="4781520" y="3508200"/>
            <a:ext cx="1612800" cy="19274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687920" y="54291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ход за птенцами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1" name="Рисунок 4" descr=""/>
          <p:cNvPicPr/>
          <p:nvPr/>
        </p:nvPicPr>
        <p:blipFill>
          <a:blip r:embed="rId7"/>
          <a:stretch/>
        </p:blipFill>
        <p:spPr>
          <a:xfrm>
            <a:off x="7085160" y="3508200"/>
            <a:ext cx="1514160" cy="1928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7172280" y="5437080"/>
            <a:ext cx="14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бор яичек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3" name="Рисунок 1" descr=""/>
          <p:cNvPicPr/>
          <p:nvPr/>
        </p:nvPicPr>
        <p:blipFill>
          <a:blip r:embed="rId8"/>
          <a:stretch/>
        </p:blipFill>
        <p:spPr>
          <a:xfrm>
            <a:off x="250920" y="912960"/>
            <a:ext cx="2309760" cy="2120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639720" y="3033720"/>
            <a:ext cx="18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оставление плана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209520" y="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которые этапы работы над проектом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(ссылки на видео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09760" y="163044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09760" y="340848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9760" y="2349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9" name="Рисунок 2" descr=""/>
          <p:cNvPicPr/>
          <p:nvPr/>
        </p:nvPicPr>
        <p:blipFill>
          <a:blip r:embed="rId1"/>
          <a:stretch/>
        </p:blipFill>
        <p:spPr>
          <a:xfrm>
            <a:off x="198360" y="200016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"/>
          <p:cNvPicPr/>
          <p:nvPr/>
        </p:nvPicPr>
        <p:blipFill>
          <a:blip r:embed="rId2"/>
          <a:stretch/>
        </p:blipFill>
        <p:spPr>
          <a:xfrm>
            <a:off x="209520" y="344520"/>
            <a:ext cx="1122480" cy="1495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3"/>
          <a:stretch/>
        </p:blipFill>
        <p:spPr>
          <a:xfrm>
            <a:off x="247680" y="3719520"/>
            <a:ext cx="1123920" cy="17334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4"/>
          <a:stretch/>
        </p:blipFill>
        <p:spPr>
          <a:xfrm>
            <a:off x="1547640" y="3719520"/>
            <a:ext cx="1235160" cy="17334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3132000" y="1814400"/>
            <a:ext cx="532764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fbca98"/>
                </a:solidFill>
                <a:uFillTx/>
                <a:latin typeface="Corbel"/>
                <a:hlinkClick r:id="rId5"/>
              </a:rPr>
              <a:t>https://youtu.be/Ll3PsrDw4TU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- проклевывани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fbca98"/>
                </a:solidFill>
                <a:uFillTx/>
                <a:latin typeface="Corbel"/>
                <a:hlinkClick r:id="rId6"/>
              </a:rPr>
              <a:t>https://youtu.be/oBAbUJayfDY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- уход за птенцами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4" name="Рисунок 1" descr=""/>
          <p:cNvPicPr/>
          <p:nvPr/>
        </p:nvPicPr>
        <p:blipFill>
          <a:blip r:embed="rId7"/>
          <a:stretch/>
        </p:blipFill>
        <p:spPr>
          <a:xfrm>
            <a:off x="2916360" y="3108240"/>
            <a:ext cx="17589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6:03:28Z</dcterms:created>
  <dc:creator>User</dc:creator>
  <dc:description/>
  <dc:language>en-US</dc:language>
  <cp:lastModifiedBy>Ksusha</cp:lastModifiedBy>
  <dcterms:modified xsi:type="dcterms:W3CDTF">2020-06-08T14:40:17Z</dcterms:modified>
  <cp:revision>279</cp:revision>
  <dc:subject/>
  <dc:title>Слайд 1</dc:title>
</cp:coreProperties>
</file>