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CC2-9874-4662-9E05-4E3E256C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073-A7AF-4991-A33F-017AA5B7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12A-1C7F-4D16-ADEA-598D1933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47C-6F01-4FD2-9053-E96B855B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826-87C2-4DFC-8DA8-03CC4E8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C446-2957-44C1-89DF-A1770293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96F-AEB0-4C12-BD5F-9E5EE76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A7B-F55E-4F6B-B1D9-557DA7C8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596-0648-4AC0-8060-5EF00FF8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42C-F1FB-43A5-A8CE-4848B29E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9FF-1955-428D-A256-39A0F75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71D-B019-40D7-98BD-8575B27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4C92-CCD5-4F1D-A6A2-32C6630E4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Shishkin_Rye_XL.jpg"/>
          <p:cNvPicPr/>
          <p:nvPr/>
        </p:nvPicPr>
        <p:blipFill>
          <a:blip r:embed="rId2"/>
          <a:stretch/>
        </p:blipFill>
        <p:spPr>
          <a:xfrm>
            <a:off x="1258920" y="1125360"/>
            <a:ext cx="6629400" cy="4535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Иван Иванович Шишкин</a:t>
            </a:r>
            <a:br>
              <a:rPr sz="4400"/>
            </a:br>
            <a:r>
              <a:rPr b="0" lang="ru-RU" sz="44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(1832 – 1898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85080" y="1460160"/>
            <a:ext cx="115920" cy="3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" spc="-1" strike="noStrike">
              <a:solidFill>
                <a:srgbClr val="fdeada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84807"/>
                </a:solidFill>
                <a:latin typeface="Calibri"/>
              </a:rPr>
              <a:t>Дом – музей И. И. Шишкина, Елабу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413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300" spc="-1" strike="noStrike">
                <a:solidFill>
                  <a:srgbClr val="984807"/>
                </a:solidFill>
                <a:latin typeface="Calibri"/>
              </a:rPr>
              <a:t>В Елабуге сохранился дом, из которого И. Шишкин отправился в Москву учиться живописи. Сейчас в нем находиться единственный в России «персональный» музей великого пейзажист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886280" y="2637000"/>
            <a:ext cx="3295800" cy="3396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1476360" y="2846520"/>
            <a:ext cx="3024360" cy="3303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11640" y="1484280"/>
            <a:ext cx="3456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«Природа всегда нова», - говорил 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4220640"/>
            <a:ext cx="7416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  <a:ea typeface="Times New Roman"/>
              </a:rPr>
              <a:t>Выходец из купеческой среды, Шишкин круто переписал заданный его происхождением сценарий жизни и стал знаменитым пейзажистом, создавшим величественную эпопею русского ле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879640" cy="3286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Жизнь и эпо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16360" y="1341000"/>
            <a:ext cx="5256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Иван Шишкин родился 13 января 1832 года в Елабуге Вятской губернии (Республика Татарстан) в семье купца второй гильдии Ивана Васильевича Шишкина. И. В. Шишкин был незаурядной личностью. Именно отец, заметив увлечение сына искусством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042920" y="1123920"/>
            <a:ext cx="1800360" cy="2616120"/>
          </a:xfrm>
          <a:prstGeom prst="rect">
            <a:avLst/>
          </a:prstGeom>
          <a:ln w="0">
            <a:noFill/>
          </a:ln>
        </p:spPr>
      </p:pic>
      <p:sp>
        <p:nvSpPr>
          <p:cNvPr id="50" name="Содержимое 2"/>
          <p:cNvSpPr/>
          <p:nvPr/>
        </p:nvSpPr>
        <p:spPr>
          <a:xfrm>
            <a:off x="900000" y="3716280"/>
            <a:ext cx="7344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стал выписывать ему специальные статьи и биографии известных художников. Именно он, решив его судьбу, отпустил молодого человека в 1852 году в Москву учиться в Училище живописи и ваяния. В 1848 году он ушел из Первой мужской гимназии Казани, мотивировав это нежеланием «сделаться чиновником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355640" y="981000"/>
            <a:ext cx="38163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С 1852 по 1856 год Шишкин учился в недавно открытом московском Училище живописи и ваяния. Его наставником был А. Мокрицкий – помогший начинающему живописцу найти себ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1248976399_1-6.jpg"/>
          <p:cNvPicPr/>
          <p:nvPr/>
        </p:nvPicPr>
        <p:blipFill>
          <a:blip r:embed="rId2"/>
          <a:stretch/>
        </p:blipFill>
        <p:spPr>
          <a:xfrm>
            <a:off x="1000080" y="765000"/>
            <a:ext cx="357192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Содержимое 2"/>
          <p:cNvSpPr/>
          <p:nvPr/>
        </p:nvSpPr>
        <p:spPr>
          <a:xfrm>
            <a:off x="826920" y="3573360"/>
            <a:ext cx="640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В 1856 году Шишкин поступил в петербургскую Академию художеств, а в 1860 году он окончил Академию с Большой золотой медалью. К этому времени художник видел себя в будущем только пейзажистом. Еще учась в Москве, он записал в дневнике: «Пейзажист – истинный художник, он чувствует глубже, чище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50let_moscow_academy.JPG"/>
          <p:cNvPicPr/>
          <p:nvPr/>
        </p:nvPicPr>
        <p:blipFill>
          <a:blip r:embed="rId3"/>
          <a:stretch/>
        </p:blipFill>
        <p:spPr>
          <a:xfrm>
            <a:off x="7236000" y="3933720"/>
            <a:ext cx="1439640" cy="1449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427280" y="692280"/>
            <a:ext cx="41972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Шишкин часто бывал на родине, где собирал материалы для новых своих произведений. Так, например, поездка в Елабугу в 1871 году подвигла его к написанию знаменитой картины «Сосновый сбор. Мачтовый лес в Вятской губернии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50-b.jpg"/>
          <p:cNvPicPr/>
          <p:nvPr/>
        </p:nvPicPr>
        <p:blipFill>
          <a:blip r:embed="rId2"/>
          <a:stretch/>
        </p:blipFill>
        <p:spPr>
          <a:xfrm>
            <a:off x="900000" y="836640"/>
            <a:ext cx="3959280" cy="2817720"/>
          </a:xfrm>
          <a:prstGeom prst="rect">
            <a:avLst/>
          </a:prstGeom>
          <a:ln w="0">
            <a:noFill/>
          </a:ln>
        </p:spPr>
      </p:pic>
      <p:sp>
        <p:nvSpPr>
          <p:cNvPr id="57" name="Содержимое 2"/>
          <p:cNvSpPr/>
          <p:nvPr/>
        </p:nvSpPr>
        <p:spPr>
          <a:xfrm>
            <a:off x="826920" y="3716280"/>
            <a:ext cx="7561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Одна из Шишкинских современниц рассказывала: «Работал он ежедневно. Возвращался к работе в определенные часы, чтобы было одинаковое освещение. Я знала, что в 2 часа пополудни он обязательно будет на лугу писать дубы, что под вечер, когда седой туман уже окутывает даль, он сидит у пруда, пишет ивы и что утром, ни свет ни заря, его можно найти у поворота в деревню, где катятся волны колосящейся ржи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360" y="836280"/>
            <a:ext cx="5410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Он много ездил по России – писал этюды. Постоянно выставлялся на выставках. В 1894 – 95 годах возглавлял пейзажную мастерскую Академ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  <a:ea typeface="Times New Roman"/>
              </a:rPr>
              <a:t>Шишкин и умер за работой. 8 марта 1898 года он с утра рисовал в мастерской. Потом навестил родных. Потом, пожаловавшись на недомогание, вернулся в мастерскую. В какой-то момент помощник увидел, что мастер падает со стула. Подбежав к нему, он увидел, что Шишкин уже не дыш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087640" cy="3967200"/>
          </a:xfrm>
          <a:prstGeom prst="rect">
            <a:avLst/>
          </a:prstGeom>
          <a:ln w="0">
            <a:noFill/>
          </a:ln>
        </p:spPr>
      </p:pic>
      <p:sp>
        <p:nvSpPr>
          <p:cNvPr id="60" name="Содержимое 4"/>
          <p:cNvSpPr/>
          <p:nvPr/>
        </p:nvSpPr>
        <p:spPr>
          <a:xfrm>
            <a:off x="5651640" y="4941720"/>
            <a:ext cx="280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  <a:ea typeface="Times New Roman"/>
              </a:rPr>
              <a:t>Памятник И. Шишкину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84807"/>
                </a:solidFill>
                <a:latin typeface="Calibri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984807"/>
                </a:solidFill>
                <a:latin typeface="Calibri"/>
                <a:ea typeface="Times New Roman"/>
              </a:rPr>
              <a:t>его родной Елабуг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Хронология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5640" y="98100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32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Родился в Елабуге в купеческой сем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44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Поступает в казанскую гимназ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48 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Бросает гимназию, дабы «не сделаться чиновником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52 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Поступает в московское Училище живописи и ва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56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Оканчивает Училище и поступает в петербургскую Академию художе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60 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Оканчивает Академию с Большой золотой медал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62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Едет за границу. В течении трех лет живет в Германии, Швейцарии, Чехии, Франции, Голландии, Бельг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65 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Возвращается в Россию. За картину «Вид в окрестностях Дюссельдорфа» получает звание академ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69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Женится на Е. А. Васильевой, сестре художника Ф. Василье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72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Картина «Мачтовый лес в Вятской губернии» побеждает на конкурсе. Умирает его отец. Умирает маленький сын худож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74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Умирает жена и в 1875 Умирает еще один сы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94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Возглавляет пейзажную мастерскую в Академии художе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1898</a:t>
            </a:r>
            <a:r>
              <a:rPr b="0" lang="ru-RU" sz="2000" spc="-1" strike="noStrike">
                <a:solidFill>
                  <a:srgbClr val="984807"/>
                </a:solidFill>
                <a:latin typeface="Calibri"/>
              </a:rPr>
              <a:t> 8 марта (20 марта по новому стилю) умер Шишкин в Петербург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4807"/>
                </a:solidFill>
                <a:latin typeface="Calibri"/>
              </a:rPr>
              <a:t>Стиль и тех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280" y="2708280"/>
            <a:ext cx="7715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В молодом Шишкине стремление к реалистическому изображению природных форм боролось с принципами академизма; первое победило, постепенно дополнявшись мягким лирическим начало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В юношеской тетради Шишкина находим такую запись: «Одно только безусловное подражание природе может вполне удовлетворять требованиям ландшафтного живописца. Картина с натуры должна быть без фантазии. Природу должно искать во всей ее простоте, рисунок должен следовать за ней во всех прихотях формы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284720" y="1197000"/>
            <a:ext cx="42688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«Природа всегда нова . . 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136.jpg"/>
          <p:cNvPicPr/>
          <p:nvPr/>
        </p:nvPicPr>
        <p:blipFill>
          <a:blip r:embed="rId2"/>
          <a:stretch/>
        </p:blipFill>
        <p:spPr>
          <a:xfrm>
            <a:off x="1258920" y="981000"/>
            <a:ext cx="2881440" cy="1859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25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920" y="907560"/>
            <a:ext cx="829152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В царское достоинство купеческого отпрыска Ивана Шишкина возвел критик В. Стасов, написав «Шишкин – художник народный. Всю жизнь он изучал русский, преимущественно северный лес, русское дерево, русскую чащу, русскую глушь. Это его царство, и тут он не имеет соперников, он - единственный». Действительно, начиная с конца 1860 – х годов и до самой смерти Шишкин был ведущим русским пейзажистом, с картинами которого сверяли собственные достижения другие художники. Шишкин достойно нес это звание, не разменивая свой дар на модные увлечения и поражая современников какой – то внушающей душевное спокойствие устойчивостью и былинной мудр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984807"/>
                </a:solidFill>
                <a:latin typeface="Calibri"/>
              </a:rPr>
              <a:t>Шишкин едва ли не первым сумел проникнуть в самую душу русской приро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9:37:44Z</dcterms:created>
  <dc:creator>Соня</dc:creator>
  <dc:description/>
  <dc:language>en-US</dc:language>
  <cp:lastModifiedBy>Татьяна Афонина</cp:lastModifiedBy>
  <dcterms:modified xsi:type="dcterms:W3CDTF">2014-04-28T18:23:23Z</dcterms:modified>
  <cp:revision>51</cp:revision>
  <dc:subject/>
  <dc:title>Слайд 1</dc:title>
</cp:coreProperties>
</file>