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D3F-3460-4BE9-9E1C-D17B96BF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FF8-BD03-43BE-A964-FB18DEE1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320-2D21-481F-871B-0C09C714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04F-F7D6-48D8-A029-28AB1F3E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E9C-A422-4196-89D4-773A0B3A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8D9-E605-4853-ABEB-C16B097B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BCB-A56E-42E1-A73C-91A9E4BD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506-FF30-4E73-9A6C-9D0F7D8B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31C-31E7-4BBD-9635-5520F5C8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4121-0696-4FF3-994D-F31C251D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9AB-2140-4D33-B722-D4E164D7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6F4-BD09-4FAD-951B-E82F6B59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2CF6-B1AE-4635-8D2A-7C050B4A18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Пять мест, увековеченных Иваном Шишкины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C:\Users\Татьяна Афонина\Pictures\0010-010-Portret-khudozhnika-I.I.SHishkina[1].jpg"/>
          <p:cNvPicPr/>
          <p:nvPr/>
        </p:nvPicPr>
        <p:blipFill>
          <a:blip r:embed="rId1"/>
          <a:stretch/>
        </p:blipFill>
        <p:spPr>
          <a:xfrm>
            <a:off x="1428840" y="2071800"/>
            <a:ext cx="614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Сиверский ле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ишкин владел усадьбой в деревне Выре (сейчас Гатчинский район Ленинградской области). Он купил усадьбу в 1881 году. Шишкинская дача находилась за рекой Оредеж. С началом лета он переезжает сюда вместе с молодой женой Ольгой Антоновной Лагодой-Шишкиной, тоже талантливой художницей. На живописных берегах Оредежа в Сиверском лесу Шишкин особенно плодотворно работал, здесь были созданы многие его этю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И.И.Шишкин 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«Ручей в лесу. Сиверска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Татьяна Афонина\Pictures\ручей в лесу.jpg"/>
          <p:cNvPicPr/>
          <p:nvPr/>
        </p:nvPicPr>
        <p:blipFill>
          <a:blip r:embed="rId1"/>
          <a:stretch/>
        </p:blipFill>
        <p:spPr>
          <a:xfrm>
            <a:off x="2714760" y="1571760"/>
            <a:ext cx="38574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елигер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трове Городомля Шишкин создал свою знаменитую картину «Утро в сосновом бору». Cамая известная картина Ивана Шишкина, написанная им в 1889 году в соавторстве с Константином Савицким (его кисти принадлежат всеми любимые медведи). Животные получились у Савицкого настолько удачно, что он даже расписался на картине по ее окончании. Но когда картину приобрел Третьяков, то оставил лишь подпись Ивана Шишкина, так как считал, что в картине, «начиная от замысла и кончая исполнением, все говорит о манере живописи, о творческом методе, свойственном именно Шишкину». Сейчас картина находится в Государственной Третьяковской галер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лнечный свет на картине пронизывает ветви деревьев и придает лесу особенную невесомость. Остров Городомля расположен на озере Селигер в Тверской области. Остров покрыт хвойными лесами, а внутри него есть озеро с двумя островами. Это место как будто специально создано для того, чтобы с него писали пейзажи. Именно здесь написана и еще одна известная картина Ивана Шишкина — «Корабельная роща» (1898). Эта картина — завещание художника, она написана в год кончины Ивана Шишкина. Именно в этом полотне как бы обобщен весь опыт долгой и непростой жизни мастера. Картина «Корабельная роща» сейчас принадлежит Русскому музе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И.И.Шишкин «Корабельная рощ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" descr="C:\Users\Татьяна Афонина\Pictures\корабельная роща.jpg"/>
          <p:cNvPicPr/>
          <p:nvPr/>
        </p:nvPicPr>
        <p:blipFill>
          <a:blip r:embed="rId1"/>
          <a:stretch/>
        </p:blipFill>
        <p:spPr>
          <a:xfrm>
            <a:off x="1071720" y="1428840"/>
            <a:ext cx="73450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Елабуг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Близ Елабуги (Татарстан) художник написал несколько картин. Одна из них — «Рожь». Картина была написана художником в 1878 году. В ней Шишкин мастерски изобразил колосящуюся золотистую рожь, охраняемую соснами-великанами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ам Шишкин так описал свою картину и созданный образ: «Раздолье. Простор. Угодье, рожь. Благодать. Русское богатство»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артина писалась после совершенной художником в 1877 году поездки в Елабугу (Татарстан). На протяжении многих лет именно на своей родной земле Иван Шишкин черпал вдохновение. В основу картины лег один из карандашных набросков с лаконичной авторской надписью: «Эта». Именно картиной «Рожь» завершаются в 1870-х годах завоевания Шишкина-пейзажиста. Эта картина сейчас находится в Государственной Третьяковской галере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218160" y="216720"/>
            <a:ext cx="1003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2200" rIns="0" tIns="4284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457200"/>
            <a:ext cx="184320" cy="3697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.И.Шишкин «Рожь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C:\Users\Татьяна Афонина\Pictures\shishkin_rozh[1].jpg"/>
          <p:cNvPicPr/>
          <p:nvPr/>
        </p:nvPicPr>
        <p:blipFill>
          <a:blip r:embed="rId1"/>
          <a:stretch/>
        </p:blipFill>
        <p:spPr>
          <a:xfrm>
            <a:off x="357120" y="1571760"/>
            <a:ext cx="83631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Вологодский ле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 картине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релом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зображен лес в Вологодской области, под впечатлением о посещении которого в 1887 году Иван Иванович и написал полотно. Картина была закончена в 1888 году. На картине, будто на сцене, разворачивается драматичное действие. Поваленные еловые деревья создают сложную картину движения. Иван Шишкин изображает экспрессивную картину гибели леса, борьбу между жизнью и смертью, невидимые силы приро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И.И.Шишкин «Бурел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Татьяна Афонина\Pictures\бурелом.jpg"/>
          <p:cNvPicPr/>
          <p:nvPr/>
        </p:nvPicPr>
        <p:blipFill>
          <a:blip r:embed="rId1"/>
          <a:stretch/>
        </p:blipFill>
        <p:spPr>
          <a:xfrm>
            <a:off x="285840" y="1214280"/>
            <a:ext cx="84056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алаа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 Валааме художник провел пять сезонов: 1858, 1859, 1860, 1867, 1878 годы. За ранние валаамские работы (три рисунка пером и восемь живописных этюдов с видами Валаама, среди них «Сосна на Валааме», «Вид острова Валаам») в 1858 году художник получил большую серебряную медаль Академии художеств. В течение следующих сезонов создаются полотна «Вид на Валааме» («Ущелье Валаама»), «Скалы на острове Валаам. Кукко» (1859-й — малая золотая медаль), пейзаж «Вид на острове Валааме. Местность Кукко» (1860-й — большая золотая медаль). До сих пор на Валааме бережно сохраняется раскидистая гигантская сосна, которая так и называется — сосна Шишки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И.И.Шишкин «Сосна на Валааме»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Users\Татьяна Афонина\Pictures\сосна на Валааме.jpg"/>
          <p:cNvPicPr/>
          <p:nvPr/>
        </p:nvPicPr>
        <p:blipFill>
          <a:blip r:embed="rId1"/>
          <a:stretch/>
        </p:blipFill>
        <p:spPr>
          <a:xfrm>
            <a:off x="2643120" y="1285920"/>
            <a:ext cx="372744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12:43:24Z</dcterms:created>
  <dc:creator>Татьяна Афонина</dc:creator>
  <dc:description/>
  <dc:language>en-US</dc:language>
  <cp:lastModifiedBy>Татьяна Афонина</cp:lastModifiedBy>
  <dcterms:modified xsi:type="dcterms:W3CDTF">2014-04-28T18:24:28Z</dcterms:modified>
  <cp:revision>4</cp:revision>
  <dc:subject/>
  <dc:title>Пять мест, увековеченных Иваном Шишкиным</dc:title>
</cp:coreProperties>
</file>