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D25-4E59-4EC2-9668-B8E4672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561-D55A-4EFC-B174-4D449EE2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A94-8B8F-428C-AFB4-F946C47B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60D-0B7D-4862-B085-E4845930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3DD-C094-48D7-BA0C-E44DB447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8EA-F1E1-4DD9-B8E5-3F003820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6A8-8AF2-45A6-AA22-907CEC2E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E32-1A94-4E94-8BD0-2D9F5856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2A3-86D3-4447-9077-7C328DCB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8E54-6E4D-4120-B396-64562BD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6F5-1098-43FA-B70C-182B8717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2F9-4228-4CC7-8479-F54601F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28ED-CA6F-4007-ADD2-747C01CD7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Shishkin_Rye_XL.jpg"/>
          <p:cNvPicPr/>
          <p:nvPr/>
        </p:nvPicPr>
        <p:blipFill>
          <a:blip r:embed="rId2"/>
          <a:stretch/>
        </p:blipFill>
        <p:spPr>
          <a:xfrm>
            <a:off x="1258920" y="1125360"/>
            <a:ext cx="6629400" cy="453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Иван Иванович Шишкин</a:t>
            </a:r>
            <a:br>
              <a:rPr sz="4400"/>
            </a:br>
            <a:r>
              <a:rPr b="0" lang="ru-RU" sz="44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(1832 – 18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85080" y="1460160"/>
            <a:ext cx="115920" cy="3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fdeada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6295680"/>
            <a:ext cx="389916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Корабельная роща (189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252360" y="-360"/>
            <a:ext cx="8569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Эта картина – художественное завещание мастера, торжественный финал той эпопеи леса, что он увлеченно писал на протяжении всей своей жизни. Она свидетельствует о том, что и в старости художник не утерял твердости руки и зоркости взгляда. Создавая «Корабельную рощу», Шишкин активно использовал свои пленэрные этюды, сделанные на родине, в Елабуг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6" descr="fonstola.ru-72794.jpg"/>
          <p:cNvPicPr/>
          <p:nvPr/>
        </p:nvPicPr>
        <p:blipFill>
          <a:blip r:embed="rId2"/>
          <a:stretch/>
        </p:blipFill>
        <p:spPr>
          <a:xfrm>
            <a:off x="611280" y="2060640"/>
            <a:ext cx="691344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Стиль и 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5280" y="2708280"/>
            <a:ext cx="7715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В молодом Шишкине стремление к реалистическому изображению природных форм боролось с принципами академизма; первое победило, постепенно дополнявшись мягким лирическим нача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В юношеской тетради Шишкина находим такую запись: «Одно только безусловное подражание природе может вполне удовлетворять требованиям ландшафтного живописца. Картина с натуры должна быть без фантазии. Природу должно искать во всей ее простоте, рисунок должен следовать за ней во всех прихотях формы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Заголовок 1"/>
          <p:cNvSpPr/>
          <p:nvPr/>
        </p:nvSpPr>
        <p:spPr>
          <a:xfrm>
            <a:off x="4284720" y="1197000"/>
            <a:ext cx="4268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«Природа всегда нова . . 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136.jpg"/>
          <p:cNvPicPr/>
          <p:nvPr/>
        </p:nvPicPr>
        <p:blipFill>
          <a:blip r:embed="rId2"/>
          <a:stretch/>
        </p:blipFill>
        <p:spPr>
          <a:xfrm>
            <a:off x="1258920" y="981000"/>
            <a:ext cx="288144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25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25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84807"/>
                </a:solidFill>
                <a:latin typeface="Calibri"/>
              </a:rPr>
              <a:t>КАРТИННАЯ ГАЛЕРЕ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137800" cy="5495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0" y="5732640"/>
            <a:ext cx="8321760" cy="72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180640" cy="5616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5805360"/>
            <a:ext cx="8172360" cy="514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4176720" cy="620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0" y="6308640"/>
            <a:ext cx="83170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7488360" cy="562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0" y="5843520"/>
            <a:ext cx="8317080" cy="1014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984807"/>
                </a:solidFill>
                <a:latin typeface="Calibri"/>
              </a:rPr>
              <a:t>ЗНАМЕНИТЫЕ РАБОТЫ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Лесная глушь (187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3933720"/>
            <a:ext cx="8147160" cy="8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Государственный Русский музей, Санкт - 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308640"/>
            <a:ext cx="46432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Лесная глушь (187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11280" y="691920"/>
            <a:ext cx="4427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Начало 1870-х – время рассвета в творчестве Шишкина. 1870 годом дотируется осно - вание Товарищества перед - вижных художественных выста - вок. В 1872 году на </a:t>
            </a:r>
            <a:r>
              <a:rPr b="0" lang="en-US" sz="2200" spc="-1" strike="noStrike">
                <a:solidFill>
                  <a:srgbClr val="984807"/>
                </a:solidFill>
                <a:latin typeface="Calibri"/>
              </a:rPr>
              <a:t>II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 передвиж - ной выставке художник показал картину «Лесная глушь». Имен -но за неё Шишкин в том же году получил звание профессора; это было неложным знаком общего признания, почти слав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619520" cy="6381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Утро в сосновом лесу (1889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4220640"/>
            <a:ext cx="813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Государственная Третьяковская галерея, Моск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237360"/>
            <a:ext cx="374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Утро в сосновом лесу (1889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24360" y="188640"/>
            <a:ext cx="871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Предполагается, что её «сюжет» подсказал автору передвижник Савицкий. Он же написал медведей. Более того, первоначально на картине стояло две подписи – Шишкина и Савицкого, но Третьяков, купивший эту работу. Снял подпись Савицкого, считая ее оригинальным произведением Шишкин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5" descr="501e10239131e94ff83c55d64ef8068a.jpg"/>
          <p:cNvPicPr/>
          <p:nvPr/>
        </p:nvPicPr>
        <p:blipFill>
          <a:blip r:embed="rId2"/>
          <a:stretch/>
        </p:blipFill>
        <p:spPr>
          <a:xfrm>
            <a:off x="0" y="2276640"/>
            <a:ext cx="8317080" cy="4017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Дождь в дубовом лесу (189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429228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Государственная Третьяковская галерея, Моск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308640"/>
            <a:ext cx="4464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Дождь в дубовом лесу (189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97080" y="0"/>
            <a:ext cx="87138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1890-е годы – кризисный для передвижников период. В это время их пытались «задвинуть» на второй план художники, исповедовавшие новые идеи. Шишкин умел меняться. Умерший в 1887 году Крамской перед смертью успел разглядеть это, сказав, что Шишкин наконец-то «тон почуял». «Дождь в дубовом лесу» - тому подтвержд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46160" y="1773360"/>
            <a:ext cx="1879560" cy="4608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1979640" y="1773360"/>
            <a:ext cx="563868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Корабельная роща (18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4221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Государственный Русский музей, Санкт - Петербур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9:37:44Z</dcterms:created>
  <dc:creator>Соня</dc:creator>
  <dc:description/>
  <dc:language>en-US</dc:language>
  <cp:lastModifiedBy>Татьяна Афонина</cp:lastModifiedBy>
  <dcterms:modified xsi:type="dcterms:W3CDTF">2014-04-28T18:24:02Z</dcterms:modified>
  <cp:revision>51</cp:revision>
  <dc:subject/>
  <dc:title>Слайд 1</dc:title>
</cp:coreProperties>
</file>