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8EF-056E-4258-A791-F23D791F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3A5-2C12-419A-81D0-B68BDE72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2B5-E41A-4540-95E2-D8E0A956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95F-3215-4DC1-9F93-698E7856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133-895C-46A9-950E-876D8A51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60A-8972-4DE4-A31B-927B1014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C20-42F8-4046-9C5A-709FDAD1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169-6C57-4EF3-AD82-339F9360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E56-4FB6-4A69-AA9E-CBC7E69A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CEA-734B-49D5-B9AB-EB57183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E42-385D-477E-A1C5-95DA4D0F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799-F3A2-42BE-8155-9F0A147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9747-A6D8-48BD-88F2-4EB351996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Рисунок 3" descr="Волга"/>
          <p:cNvPicPr/>
          <p:nvPr/>
        </p:nvPicPr>
        <p:blipFill>
          <a:blip r:embed="rId1"/>
          <a:stretch/>
        </p:blipFill>
        <p:spPr>
          <a:xfrm>
            <a:off x="1071720" y="642960"/>
            <a:ext cx="7358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285920" y="642960"/>
            <a:ext cx="6215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  ПЕРВИЧНОГО УСВО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285840" y="130176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Является ли приведенная  ниже формулировка определением понятия «рек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Это  постоянный водный поток, текущий в выработанном им углублении – рус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А) 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Б)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3984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Ответьте на вопрос.  Выберите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Место впадения реки в другую реку, море, озеро, водохранилище назыв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А) исто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Б) усть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В) прито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1357200" y="321480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785960" y="5500800"/>
            <a:ext cx="5713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14200" y="32004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тветьте на вопрос.  Выберите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Часть дна речной долины, затопляемая во время разлива реки, называется ……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А) пой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Б) ру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В) прито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3750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Вставьте в предложения нужные сло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чало реки называется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Calibri"/>
              </a:rPr>
              <a:t>истоком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Calibri"/>
              </a:rPr>
              <a:t>Обычная река начинается с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Calibri"/>
              </a:rPr>
              <a:t>озера 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Calibri"/>
              </a:rPr>
              <a:t>, ледника,  с маленького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Calibri"/>
              </a:rPr>
              <a:t>ручейка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Calibri"/>
              </a:rPr>
              <a:t>,  с  другой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Calibri"/>
              </a:rPr>
              <a:t>ре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1785960" y="1500120"/>
            <a:ext cx="5713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1000080" y="5286240"/>
            <a:ext cx="20001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слово = 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7" descr="C:\Users\user\Desktop\P1190965.JPG"/>
          <p:cNvPicPr/>
          <p:nvPr/>
        </p:nvPicPr>
        <p:blipFill>
          <a:blip r:embed="rId1"/>
          <a:srcRect l="6458" t="22509" r="53751" b="7973"/>
          <a:stretch/>
        </p:blipFill>
        <p:spPr>
          <a:xfrm>
            <a:off x="500040" y="142884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C:\Users\user\Desktop\P1190965.JPG"/>
          <p:cNvPicPr/>
          <p:nvPr/>
        </p:nvPicPr>
        <p:blipFill>
          <a:blip r:embed="rId2"/>
          <a:srcRect l="53910" t="22509" r="4947" b="7973"/>
          <a:stretch/>
        </p:blipFill>
        <p:spPr>
          <a:xfrm>
            <a:off x="4857840" y="1428840"/>
            <a:ext cx="3181320" cy="30002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0" y="3265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Приведите соответствие  рисунка и вида усть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714240" y="4857840"/>
            <a:ext cx="2428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)  эстуа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5214960" y="4929120"/>
            <a:ext cx="242892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)  Дель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214200" y="8064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2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По физической карте России ( атлас стр. 14-15 ) определите какой это приток - правый или ле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у Енисея – Ангар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(правый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у Волги – Кам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(левый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у Оби - Иртыш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(лев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) у Лены – Алдан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(прав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5072040" y="1500120"/>
            <a:ext cx="57168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4357800" y="2286000"/>
            <a:ext cx="5713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4500720" y="3143160"/>
            <a:ext cx="5713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4643280" y="4000680"/>
            <a:ext cx="57168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214200" y="837720"/>
            <a:ext cx="835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Подпишите название частей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т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;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л.русл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;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ст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ть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Части реки"/>
          <p:cNvPicPr/>
          <p:nvPr/>
        </p:nvPicPr>
        <p:blipFill>
          <a:blip r:embed="rId1"/>
          <a:stretch/>
        </p:blipFill>
        <p:spPr>
          <a:xfrm>
            <a:off x="1214280" y="2143080"/>
            <a:ext cx="6500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500040" y="214200"/>
            <a:ext cx="8429760" cy="6000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 ряд, 2 ряд -  параграф  41, в контурной карте нанести реки (используя перечень номенклатуры по гидросфер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 ряд- параграф 41,  сообщение об одной из крупных рек Земного ш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окина Н., Ильясова В., Иванов Н., Васарчук Н.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араграф 41, вопросы и задания на стр. 1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428760" y="1386720"/>
            <a:ext cx="828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е из приведенных ниже суждений является определением понятия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дросфер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это водная оболочка Зем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это воздушная оболочка Зем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это каменная оболочка Зем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1785960" y="500040"/>
            <a:ext cx="50007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оверка задания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6572160" y="3000240"/>
            <a:ext cx="5000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571680" y="1441080"/>
            <a:ext cx="8072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Какие  из приведенных ниже водоемов не являются водами суш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оз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мор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подземные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3286080" y="3286080"/>
            <a:ext cx="50004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428760" y="118512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Восстановите последовательность определ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Гидросфера это водная оболочка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Круговорот воды в природе это единый,  никогда не прекращающийся процесс между Мировым океаном, атмосферой, суш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 Река это постоянный водный поток, который протекает в выработанном  им углублении - рус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1500120" y="571680"/>
            <a:ext cx="564372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ЗАДАНИЯ №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7143840" y="1714680"/>
            <a:ext cx="5713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5214960" y="3429000"/>
            <a:ext cx="5713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8215200" y="4643280"/>
            <a:ext cx="57168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и в природе и на географической карт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000080" y="500040"/>
            <a:ext cx="642960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оверка задания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4240" y="1285920"/>
          <a:ext cx="7572600" cy="5327640"/>
        </p:xfrm>
        <a:graphic>
          <a:graphicData uri="http://schemas.openxmlformats.org/drawingml/2006/table">
            <a:tbl>
              <a:tblPr/>
              <a:tblGrid>
                <a:gridCol w="444600"/>
                <a:gridCol w="1503360"/>
                <a:gridCol w="5624640"/>
              </a:tblGrid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это  постоянный водный поток, текущий в выработанном им углублении – русл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 начало ре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ь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 место, впадения реки в другую реку, море, озер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 углубление, по которому  протекает ре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чной бассей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 </a:t>
                      </a: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участок земной поверхности, с которого вся вода стекает в ре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то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Это река, впадающая в другую ре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стуар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 воронкообразное устье ре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ль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 </a:t>
                      </a: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форма устья реки с притоками, на которые делится главное русло, чаще имеющие форму треугольника или вее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ч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 </a:t>
                      </a: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главная река со всеми приток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й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Часть дна речной долины, затопляемая во время разлива ре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оразд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Это граница, разделяющая соседние бассе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571760" y="428760"/>
            <a:ext cx="621504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задания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0" y="128556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мощью текста вставьте нужные слова 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1. Обычно русло реки расположено на дне более широкого углубления – речной долин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Обычная река начинается с озера, ледника,  с маленького ручейка,  ручейки собираются в маленькие речки, а маленькие речки сливаются в реки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71680" y="50004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стье – место впадения реки в другую реку, море, озеро, водохранилище (конец ре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ток – река, впадающая в другую реку. Притоки могут быть правыми и левыми. Для того чтобы  определить, каким является приток для главного русла, нужно «встать» по направлению течения, т.е. лицом к устью, и если река впадает справа, то это правый приток,  а если слева – то ле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643040" y="571680"/>
            <a:ext cx="60008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задания №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7"/>
          <p:cNvSpPr/>
          <p:nvPr/>
        </p:nvSpPr>
        <p:spPr>
          <a:xfrm>
            <a:off x="3214800" y="1643040"/>
            <a:ext cx="202392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8"/>
          <p:cNvCxnSpPr/>
          <p:nvPr/>
        </p:nvCxnSpPr>
        <p:spPr>
          <a:xfrm>
            <a:off x="4214520" y="2499840"/>
            <a:ext cx="1080" cy="30564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cxnSp>
        <p:nvCxnSpPr>
          <p:cNvPr id="63" name="Прямая со стрелкой 19"/>
          <p:cNvCxnSpPr/>
          <p:nvPr/>
        </p:nvCxnSpPr>
        <p:spPr>
          <a:xfrm>
            <a:off x="4286160" y="2785680"/>
            <a:ext cx="448560" cy="21996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cxnSp>
        <p:nvCxnSpPr>
          <p:cNvPr id="64" name="Прямая со стрелкой 20"/>
          <p:cNvCxnSpPr/>
          <p:nvPr/>
        </p:nvCxnSpPr>
        <p:spPr>
          <a:xfrm flipH="1">
            <a:off x="3714120" y="2785680"/>
            <a:ext cx="448200" cy="21996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sp>
        <p:nvSpPr>
          <p:cNvPr id="65" name="Овал 21"/>
          <p:cNvSpPr/>
          <p:nvPr/>
        </p:nvSpPr>
        <p:spPr>
          <a:xfrm>
            <a:off x="1714680" y="2857680"/>
            <a:ext cx="20430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а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2"/>
          <p:cNvSpPr/>
          <p:nvPr/>
        </p:nvSpPr>
        <p:spPr>
          <a:xfrm>
            <a:off x="4714920" y="2786040"/>
            <a:ext cx="2071800" cy="600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кончание ре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3"/>
          <p:cNvCxnSpPr/>
          <p:nvPr/>
        </p:nvCxnSpPr>
        <p:spPr>
          <a:xfrm>
            <a:off x="2642760" y="3429000"/>
            <a:ext cx="1080" cy="4579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sp>
        <p:nvSpPr>
          <p:cNvPr id="68" name="Овал 24"/>
          <p:cNvSpPr/>
          <p:nvPr/>
        </p:nvSpPr>
        <p:spPr>
          <a:xfrm>
            <a:off x="1785960" y="3857760"/>
            <a:ext cx="1685880" cy="523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25"/>
          <p:cNvCxnSpPr/>
          <p:nvPr/>
        </p:nvCxnSpPr>
        <p:spPr>
          <a:xfrm>
            <a:off x="5857920" y="3429000"/>
            <a:ext cx="10080" cy="4579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sp>
        <p:nvSpPr>
          <p:cNvPr id="70" name="Овал 26"/>
          <p:cNvSpPr/>
          <p:nvPr/>
        </p:nvSpPr>
        <p:spPr>
          <a:xfrm>
            <a:off x="4500720" y="3857760"/>
            <a:ext cx="218592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27"/>
          <p:cNvCxnSpPr/>
          <p:nvPr/>
        </p:nvCxnSpPr>
        <p:spPr>
          <a:xfrm flipH="1">
            <a:off x="1571040" y="4285800"/>
            <a:ext cx="353160" cy="38196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cxnSp>
        <p:nvCxnSpPr>
          <p:cNvPr id="72" name="Прямая со стрелкой 28"/>
          <p:cNvCxnSpPr/>
          <p:nvPr/>
        </p:nvCxnSpPr>
        <p:spPr>
          <a:xfrm flipH="1">
            <a:off x="1571400" y="4429080"/>
            <a:ext cx="800640" cy="154368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cxnSp>
        <p:nvCxnSpPr>
          <p:cNvPr id="73" name="Прямая со стрелкой 29"/>
          <p:cNvCxnSpPr/>
          <p:nvPr/>
        </p:nvCxnSpPr>
        <p:spPr>
          <a:xfrm>
            <a:off x="2738520" y="4429080"/>
            <a:ext cx="48240" cy="6433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cxnSp>
        <p:nvCxnSpPr>
          <p:cNvPr id="74" name="Прямая со стрелкой 30"/>
          <p:cNvCxnSpPr/>
          <p:nvPr/>
        </p:nvCxnSpPr>
        <p:spPr>
          <a:xfrm>
            <a:off x="3357720" y="4286160"/>
            <a:ext cx="390960" cy="4579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cxnSp>
        <p:nvCxnSpPr>
          <p:cNvPr id="75" name="Прямая со стрелкой 32"/>
          <p:cNvCxnSpPr/>
          <p:nvPr/>
        </p:nvCxnSpPr>
        <p:spPr>
          <a:xfrm flipH="1">
            <a:off x="4500000" y="4429080"/>
            <a:ext cx="500760" cy="9295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cxnSp>
        <p:nvCxnSpPr>
          <p:cNvPr id="76" name="Прямая со стрелкой 33"/>
          <p:cNvCxnSpPr/>
          <p:nvPr/>
        </p:nvCxnSpPr>
        <p:spPr>
          <a:xfrm>
            <a:off x="5714640" y="4429080"/>
            <a:ext cx="1080" cy="4579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cxnSp>
        <p:nvCxnSpPr>
          <p:cNvPr id="77" name="Прямая со стрелкой 34"/>
          <p:cNvCxnSpPr/>
          <p:nvPr/>
        </p:nvCxnSpPr>
        <p:spPr>
          <a:xfrm>
            <a:off x="6357960" y="4357800"/>
            <a:ext cx="76680" cy="45792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cxnSp>
        <p:nvCxnSpPr>
          <p:cNvPr id="78" name="Прямая со стрелкой 35"/>
          <p:cNvCxnSpPr/>
          <p:nvPr/>
        </p:nvCxnSpPr>
        <p:spPr>
          <a:xfrm>
            <a:off x="6714720" y="4142880"/>
            <a:ext cx="477000" cy="14364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sp>
        <p:nvSpPr>
          <p:cNvPr id="79" name="Овал 36"/>
          <p:cNvSpPr/>
          <p:nvPr/>
        </p:nvSpPr>
        <p:spPr>
          <a:xfrm>
            <a:off x="642960" y="6000840"/>
            <a:ext cx="1685880" cy="523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ч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37"/>
          <p:cNvSpPr/>
          <p:nvPr/>
        </p:nvSpPr>
        <p:spPr>
          <a:xfrm>
            <a:off x="2071800" y="5143680"/>
            <a:ext cx="1685880" cy="523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8"/>
          <p:cNvSpPr/>
          <p:nvPr/>
        </p:nvSpPr>
        <p:spPr>
          <a:xfrm>
            <a:off x="3357720" y="4786200"/>
            <a:ext cx="1085760" cy="381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9"/>
          <p:cNvSpPr/>
          <p:nvPr/>
        </p:nvSpPr>
        <p:spPr>
          <a:xfrm>
            <a:off x="285840" y="4643280"/>
            <a:ext cx="1685880" cy="524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ая р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40"/>
          <p:cNvSpPr/>
          <p:nvPr/>
        </p:nvSpPr>
        <p:spPr>
          <a:xfrm>
            <a:off x="3929040" y="5429160"/>
            <a:ext cx="1486080" cy="552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41"/>
          <p:cNvSpPr/>
          <p:nvPr/>
        </p:nvSpPr>
        <p:spPr>
          <a:xfrm>
            <a:off x="4714920" y="4857840"/>
            <a:ext cx="164304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о-хранилищ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2"/>
          <p:cNvSpPr/>
          <p:nvPr/>
        </p:nvSpPr>
        <p:spPr>
          <a:xfrm>
            <a:off x="6286680" y="4714920"/>
            <a:ext cx="1199880" cy="39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3"/>
          <p:cNvSpPr/>
          <p:nvPr/>
        </p:nvSpPr>
        <p:spPr>
          <a:xfrm>
            <a:off x="7143840" y="4143240"/>
            <a:ext cx="1295280" cy="476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ая р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44"/>
          <p:cNvCxnSpPr/>
          <p:nvPr/>
        </p:nvCxnSpPr>
        <p:spPr>
          <a:xfrm flipH="1">
            <a:off x="6357600" y="5143680"/>
            <a:ext cx="286560" cy="70020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cxnSp>
        <p:nvCxnSpPr>
          <p:cNvPr id="88" name="Прямая со стрелкой 45"/>
          <p:cNvCxnSpPr/>
          <p:nvPr/>
        </p:nvCxnSpPr>
        <p:spPr>
          <a:xfrm>
            <a:off x="7429320" y="5000400"/>
            <a:ext cx="657720" cy="600840"/>
          </a:xfrm>
          <a:prstGeom prst="straightConnector1">
            <a:avLst/>
          </a:prstGeom>
          <a:ln w="9360">
            <a:solidFill>
              <a:srgbClr val="4579b8"/>
            </a:solidFill>
            <a:miter/>
            <a:tailEnd len="med" type="arrow" w="med"/>
          </a:ln>
        </p:spPr>
      </p:cxnSp>
      <p:sp>
        <p:nvSpPr>
          <p:cNvPr id="89" name="Овал 46"/>
          <p:cNvSpPr/>
          <p:nvPr/>
        </p:nvSpPr>
        <p:spPr>
          <a:xfrm>
            <a:off x="7358040" y="5643720"/>
            <a:ext cx="148608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стуар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7"/>
          <p:cNvSpPr/>
          <p:nvPr/>
        </p:nvSpPr>
        <p:spPr>
          <a:xfrm>
            <a:off x="5786280" y="5786280"/>
            <a:ext cx="1200240" cy="39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ль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7:29:56Z</dcterms:created>
  <dc:creator>DNA7 X86</dc:creator>
  <dc:description/>
  <dc:language>en-US</dc:language>
  <cp:lastModifiedBy>DNA7 X86</cp:lastModifiedBy>
  <dcterms:modified xsi:type="dcterms:W3CDTF">2014-07-08T09:49:25Z</dcterms:modified>
  <cp:revision>33</cp:revision>
  <dc:subject/>
  <dc:title>Слайд 1</dc:title>
</cp:coreProperties>
</file>