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47D-AE85-4B37-B2B4-5B675AB9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B36-110C-4A75-A835-D626F590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D58-4205-4B91-A2B1-0B49B8C8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5C6-B151-442A-BF4D-9C17F849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EB93C-6A25-462B-BB09-3092E7A3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3D08D-3EE5-4F92-88B2-37FCDA13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BEAD9-3E04-497F-90B8-9AABD775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B306B-E577-4AD7-8282-FB0170DD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6BBC1-D3EA-4CE0-AD2C-0995EB7A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0ACC2-BB9F-4421-B490-4A504F36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AE8CA-4FF3-491E-9A1D-E231C180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B9C-B021-42A3-9AB2-11B64603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7B247-9E68-448D-878F-BFB69C44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8CA04-F35F-4CA1-A7D2-A4993E01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96AF1-B212-41A7-A279-E87AFBAD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03AD9-E762-4F0F-B0C4-F186488A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778D3-049C-4E14-B4EC-3BA33509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D90-C9E6-406D-98BA-49F30BB9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BA2-29D6-49EF-BD65-EA3DFDF4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3C8-C722-42D0-A774-688A916C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689-284C-47FE-8EA6-D24604EE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A2A-0FBF-4F07-9560-536BAA10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9DC-9381-42D0-B48F-95053AB3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76A-255A-487D-9298-74CC0D60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FB14-61BC-4CD5-81CB-8777B64BEA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D053-59E5-4727-BF34-265D1DB51C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26920" y="692280"/>
            <a:ext cx="749016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ЕРВАЯ ПОМОЩ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19280" y="2133720"/>
            <a:ext cx="662472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  КРОВОТЕЧЕНИЯХ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51628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рок биологии в 8 класс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-577080"/>
            <a:ext cx="17384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1a"/>
                </a:solidFill>
                <a:latin typeface="Tahoma"/>
              </a:rPr>
              <a:t>При носовом (капиллярном) кровотечении человека необходимо посадить или уложить, приподняв ему голову; на переносицу положить холодный компресс; в носовую полость ввести кусочек ваты, смоченной перекисью водорода. Запрокидывать голову не следует: пострадавший может захлебнуться кров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32720" cy="63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Артериальное кровотечение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1a"/>
                </a:solidFill>
                <a:latin typeface="Tahoma"/>
              </a:rPr>
              <a:t>При глубоких ранениях может начаться артериальное кровотечение. Ярко-красная кровь бьет сильной пульсирующей струей. Артериальное кровотечение очень опасно. За короткое время человек может потерять много крови. В таких случаях необходимо зажать сосуд выше места ранения в тех местах, где прощупывается пульс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32720" cy="63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152280"/>
            <a:ext cx="842652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енозное кровотечени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1a"/>
                </a:solidFill>
                <a:latin typeface="Tahoma"/>
              </a:rPr>
              <a:t>При повреждении вен из раны вытекает темно-вишневая кровь. Такое кровотечение можно остановить наложением на место ранения давящей повяз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1a"/>
                </a:solidFill>
                <a:latin typeface="Tahoma"/>
              </a:rPr>
              <a:t>Если в глубокой ране находится травмирующий предмет, то до обращения к врачу его нельзя вынимать, поскольку это может вызвать сильное кровотеч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a"/>
                </a:solidFill>
                <a:latin typeface="Tahoma"/>
              </a:rPr>
              <a:t>Пока предмет находится в ране, кровеносные сосуды сжаты, рана меньше кровоточит. При наложении повязки надо следить, чтобы положение травмирующего предмета было по возможности фиксировано. При венозном кровотечении пострадавшего необходимо срочно отправить в больницу или травмпункт. Удаление попавшего в рану предмета может выполнить только опытный врач-хирург, располагающий необходимыми знаниями и инструмент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77760"/>
            <a:ext cx="871380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136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1a"/>
                </a:solidFill>
                <a:latin typeface="Tahoma"/>
              </a:rPr>
              <a:t>В результате несчастных случаев может начаться 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  <a:hlinkClick r:id="rId1" action="ppaction://hlinksldjump"/>
              </a:rPr>
              <a:t>кровотечение</a:t>
            </a:r>
            <a:r>
              <a:rPr b="0" lang="ru-RU" sz="3200" spc="-1" strike="noStrike">
                <a:solidFill>
                  <a:srgbClr val="00001a"/>
                </a:solidFill>
                <a:latin typeface="Tahoma"/>
              </a:rPr>
              <a:t>, иногда очень сильное. Потеря 50% крови (2-2,5 л) приводит к смерти человека. Поэтому очень важно уметь останавливать кров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2400"/>
            <a:ext cx="433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6769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Кровотечение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– истечение крови из кровеносных сосудов вследствие нарушения их целост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8028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638440"/>
            <a:ext cx="730080" cy="61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1a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1a"/>
                </a:solidFill>
                <a:latin typeface="Tahoma"/>
              </a:rPr>
              <a:t>Кровоте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1a"/>
                </a:solidFill>
                <a:latin typeface="Tahoma"/>
              </a:rPr>
              <a:t>      </a:t>
            </a:r>
            <a:r>
              <a:rPr b="0" lang="ru-RU" sz="2800" spc="-1" strike="noStrike" u="sng">
                <a:solidFill>
                  <a:srgbClr val="000099"/>
                </a:solidFill>
                <a:uFillTx/>
                <a:latin typeface="Tahoma"/>
                <a:hlinkClick r:id="rId1" action="ppaction://hlinksldjump"/>
              </a:rPr>
              <a:t>Внешние </a:t>
            </a:r>
            <a:r>
              <a:rPr b="0" lang="ru-RU" sz="2800" spc="-1" strike="noStrike">
                <a:solidFill>
                  <a:srgbClr val="00001a"/>
                </a:solidFill>
                <a:latin typeface="Tahoma"/>
              </a:rPr>
              <a:t>                        </a:t>
            </a:r>
            <a:r>
              <a:rPr b="0" lang="ru-RU" sz="2800" spc="-1" strike="noStrike" u="sng">
                <a:solidFill>
                  <a:srgbClr val="000099"/>
                </a:solidFill>
                <a:uFillTx/>
                <a:latin typeface="Tahoma"/>
                <a:hlinkClick r:id="rId2" action="ppaction://hlinksldjump"/>
              </a:rPr>
              <a:t>Внутрен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1a"/>
                </a:solidFill>
                <a:latin typeface="Tahoma"/>
              </a:rPr>
              <a:t>Капилляр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1a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00001a"/>
                </a:solidFill>
                <a:latin typeface="Tahoma"/>
              </a:rPr>
              <a:t>Артериа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1a"/>
                </a:solidFill>
                <a:latin typeface="Tahoma"/>
              </a:rPr>
              <a:t>                          </a:t>
            </a:r>
            <a:r>
              <a:rPr b="0" lang="ru-RU" sz="2800" spc="-1" strike="noStrike">
                <a:solidFill>
                  <a:srgbClr val="00001a"/>
                </a:solidFill>
                <a:latin typeface="Tahoma"/>
              </a:rPr>
              <a:t>Веноз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123640" y="981000"/>
            <a:ext cx="2303640" cy="792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981000"/>
            <a:ext cx="2305080" cy="792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258560" y="2060640"/>
            <a:ext cx="57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060640"/>
            <a:ext cx="151272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24000" y="2060640"/>
            <a:ext cx="251928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Внешние кровотечения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– излияние крови из организма во внешнюю сре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78850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Внутренние кровотечения –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излияние крови в полость организма (например, брюшную или грудную), когда кожные покровы остаются целы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77407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ВНУТРЕННЕЕ  КРОВОТЕЧ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1a"/>
                </a:solidFill>
                <a:latin typeface="Tahoma"/>
              </a:rPr>
              <a:t>Внутреннее кровотечение может возникнуть в результате травмы или заболе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1a"/>
                </a:solidFill>
                <a:latin typeface="Tahoma"/>
              </a:rPr>
              <a:t>Бледность, липкий холодный пот, поверхностное дыхание, частый слабый пульс – признаки внутреннего кровоте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КАПИЛЛЯРНОЕ  КРОВОТЕЧ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1a"/>
                </a:solidFill>
                <a:latin typeface="Tahoma"/>
              </a:rPr>
              <a:t>При повреждении капилляров кровь едва сочится, ее легко остановить. Рану промывают 3%-ным раствором перекиси водорода, смазывают йодной настойкой или зеленкой. Затем накладывают чистую марлевую повязку. Глубокую рану обрабатывать йодом нельзя. Смазывают только ее края. На рану накладывают салфетку с мазью, содержащей антибиотики или другие вещества, уничтожающие микроб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27:03Z</dcterms:created>
  <dc:creator>Смирнова</dc:creator>
  <dc:description/>
  <dc:language>en-US</dc:language>
  <cp:lastModifiedBy>Смирнова</cp:lastModifiedBy>
  <dcterms:modified xsi:type="dcterms:W3CDTF">2008-12-04T21:38:06Z</dcterms:modified>
  <cp:revision>3</cp:revision>
  <dc:subject/>
  <dc:title>Урок биологии в 8 класс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