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4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2.png" ContentType="image/png"/>
  <Override PartName="/ppt/media/image3.jpeg" ContentType="image/jpeg"/>
  <Override PartName="/ppt/media/image13.jpeg" ContentType="image/jpeg"/>
  <Override PartName="/ppt/media/image23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E89921-FB28-4C6D-94A1-3D6A6D9A9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4C9D21-7BE1-4F53-A120-8698C1AB3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5444E7-186C-483A-8C84-2C071EFDB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E20384-528F-44C7-B4FB-C737CB1A6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DBCAC6-0B75-4BA2-A467-378AF3B2D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9EC44D-E30E-4A97-8489-0471524C3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4BCE79-F79B-4A6B-98F5-069533FFF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8459DB-2BFA-49BE-AE9B-CC274AEDA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3CCC1B-EECB-4B0C-B11C-C53F477EB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D78DB2-72DC-4BF5-9D01-441360AFA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256228-18A7-4383-AFDA-47D28D769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52CE6B-158E-42EF-A0E7-93668D89F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7A0A6A-65FD-436F-A501-C752A7E6A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BD2861-88D9-4BA4-8E6E-88780657B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3042A7-22FE-4660-A294-DDA4F3B38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E14361-997D-467E-B940-1AA248666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9878BF-B45E-4FDB-B632-E5E65613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982589-9E3E-4E07-BB1F-6E3DB7372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A7264C-DBA2-4553-90C1-52D32A00A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8A13F1-94FB-4180-B1FD-21F07C0D4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1F13EC-4351-46A6-A3BF-A10C1F5BC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E37D32-433E-4180-8F73-651BE8E4E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468E62-2395-4DC8-A082-61AA9252D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0E7AF6-3C6D-4E8C-A44F-A0A52146D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09D1D2-1F57-4B83-87A7-8544217DA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0F9C04-00AD-42DF-A0D0-146AFABAB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605D20-A7C4-4F91-A94C-92DD673C9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15BCA3-29B3-462C-844F-6A07F7AAB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0331C7-396C-47EF-ACF3-720FE0EE6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EF3116-C4BF-4FF9-A66E-96434CF81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9828-81F9-4355-9DE8-7235DC90A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4D0F9E-E12B-41A9-85C1-AD134EBDF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B9466D-D7CC-4688-A6EB-D7946948B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18414A-68B5-43CC-A6A9-5904DB467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9035-DF56-4CF0-AEC9-1B0506B5C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3B64-58C7-4CBF-A520-0E52CD471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699C-A7D1-42B6-8B8C-176B908ED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17A6-4A17-466C-9CD9-630C050E0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F51E-4790-4717-BEA3-4F61B954B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5B9A-C61A-4DE7-9776-E39A1B014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59B5-8833-4042-B817-A0FFE401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85CE-7639-4E5E-9D92-34A072380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67A3-62E4-4971-8DEA-E218AFDA3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2899-DC32-41A6-B209-7D1113A1F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4677-8167-475D-8004-4060CAFC1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056C6-8A3C-4366-B61B-050A5C51A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677AD-1D30-4466-AB4E-03267842C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F7FB2-677C-47E0-A99E-F6148645A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B0D01-6377-4961-BE76-63374DC3F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C420E-353D-4465-941C-C17320D5C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D0B9E-2BC7-4423-926B-593540B46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104C1-45A3-4065-9AA8-CE579AC7A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160CD-7CE1-46DF-82C4-FDD707F41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8CCC6-EFC9-421B-9A47-6B8FA884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E241D-D1F8-4422-B3FB-CE05B3164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E1715-641C-4E88-968F-1C65B0079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5DE60-B06A-4E59-AF0E-F777204C8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01BA0-A777-4223-A9AF-376791573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83045-2326-45D9-91A7-53B305F36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C35AB-9110-43DB-BA35-4A79BB257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26513-4F22-4CD3-A6B3-235C0B198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2EDB9-DD56-4E70-8E55-8C6F12717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23934-CB04-41E5-86D5-40A1DBF8D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7825D-2488-452F-8853-C5B3418BD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04548-34B6-4FBA-A46F-18617FD30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6AE64-EFF5-4DF1-B9ED-41FFE7C31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F7F1C-7DFB-4125-BED7-AB4AE27D9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B210E-2C43-4740-8A15-F0724B9DF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C3383-7D94-4244-BD22-824E806B3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40424-60DB-4E3B-A7B9-8C0D94C3C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90509-F3C0-4E0E-8BA7-C6349E02A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9ED4C-5873-4361-88E3-359112EA2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F9037-EC77-4E7F-B2BD-45E5D2FA2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0E8D5-7AF9-4144-9259-828919786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C419F-6826-4BA9-92CD-D74A2E8D3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20B222-0FCD-4304-9AC8-D397CBAA4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A026A-50AF-4677-A143-7A3DF946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DAD80-3F78-4C3A-8F81-6CA232CFA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24DA6-AA78-4705-AC86-3597A5A8A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D0C69-D01F-4722-ABD4-68B87F50C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A8F32-BD76-404D-9804-B811126BC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18C68-746D-4227-8A5F-659A49219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ED544-6B56-4E75-AD9A-468C1A6B8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04BF9-5328-409B-BEA4-4C71F9C69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62439D-7F33-48FA-85CE-084707C0C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B2572-198D-41DC-9AFA-914A10C98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BA0E7-FBAF-4EEE-A4D0-15AF840D3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90471F-0CAA-46F9-B6B1-555E1769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A4019-E2DA-4910-ACF3-F3B2E4E6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2EA1F-742F-4227-A6B4-D9AC7493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636C2-5539-4588-A5F0-BB414A61A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B04D4-536E-4CBC-8755-E8C502A41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1F8A30-BE06-4418-8221-BB6121BDE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C5AEA-30CD-426D-984C-531D4FC56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C543F-5A1E-498A-84C2-7236EBA43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8F1BB-D9D4-4815-BDF0-582AA371B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CDC8FD-891F-4412-8861-6A9C623B2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981E09-B0D4-47D9-8041-926CBC73E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DA84F7-0846-4620-B72C-18D87B762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75B637-ED8B-4163-9D8D-1BA2372F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E5E83F-4D61-4348-B59B-CDBC9850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B6EEA5-BC35-4738-B06C-98EFF03C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32817A-0E97-4C68-B8F4-11A20D54A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8FA34A-8DB9-4FC9-A116-43CF02E5E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B72CF-F15F-4D42-9932-75F64C91E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3B82A3-1E81-482B-AEC4-2FE84375A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2C7088-2D2A-493A-8DFB-64F312357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6F78D2-CBBB-4BFD-9544-DFD32DA95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8E2AC1-34B1-4219-A44F-53511BD4E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D26AC7-CF96-4BEB-8CCB-2707471C9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60CEA4-9592-468A-B212-67A797100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A1A3CE-F46C-43D9-92A4-F1EBF57C2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3B9CB0-B1E4-4C0A-B729-6D6AF30F2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388501-08DD-4C56-B5E1-8739B7E9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B82666-E917-4ED3-B742-8308AA5F9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468F29-2140-4D0E-9747-A6CE4DB3D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2F0789-335A-4C9B-A541-14AC44C41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1F577D-1770-4D2A-9560-D4C50CCE8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99B704-215B-4BB6-8778-3B90FB454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8613D2-4E56-47BA-ABBA-95E1DB00B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B2952-EFDB-4198-9078-829D4AFBBA4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8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9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30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0DB63-3FB1-46E6-9F7F-7F6FA961E10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0F91D-7A83-4602-979E-5BCE64EF5E1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41152-5460-41BF-B9C3-89C37381664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9FD79-E4D1-4550-8AAD-CB7557A1D2E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F8E63-C100-4117-9B1F-303145038E3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23896-FDC6-4C7B-AE28-D0AE9D7BE3D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64DA0-B621-4B83-AAFB-1CBEBCDA57C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9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20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21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5EDD3-422F-476C-95DC-E2BF73D1ADD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C7124-1430-4A47-899D-FFF08BAA518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6.png"/><Relationship Id="rId5" Type="http://schemas.openxmlformats.org/officeDocument/2006/relationships/image" Target="../media/image20.jpe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Заголовок 1"/>
          <p:cNvSpPr/>
          <p:nvPr/>
        </p:nvSpPr>
        <p:spPr>
          <a:xfrm>
            <a:off x="611280" y="836640"/>
            <a:ext cx="806436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1f497d"/>
                </a:solidFill>
                <a:latin typeface="Arial"/>
                <a:ea typeface="Arial"/>
              </a:rPr>
              <a:t>Современные подходы к организации речевого развития младших школьников. Виды работы со словом на уроках  и во внеурочной деятельност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i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Юрлова Е. В.</a:t>
            </a:r>
            <a:br>
              <a:rPr sz="1800"/>
            </a:br>
            <a:r>
              <a:rPr b="0" i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учитель начальных классов</a:t>
            </a:r>
            <a:br>
              <a:rPr sz="1800"/>
            </a:br>
            <a:r>
              <a:rPr b="0" i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ГБОУ гимназии № 42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Санкт-Петербург</a:t>
            </a:r>
            <a:r>
              <a:rPr b="0" i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Прямоугольник 3"/>
          <p:cNvSpPr/>
          <p:nvPr/>
        </p:nvSpPr>
        <p:spPr>
          <a:xfrm>
            <a:off x="900000" y="692280"/>
            <a:ext cx="792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  <a:ea typeface="Arial"/>
              </a:rPr>
              <a:t>Игра  «Переведи пословицу на русский язык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ежде чем сказать, поверни язык семь раз. (Вьетнам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Прямоугольник 5"/>
          <p:cNvSpPr/>
          <p:nvPr/>
        </p:nvSpPr>
        <p:spPr>
          <a:xfrm>
            <a:off x="868320" y="2708280"/>
            <a:ext cx="770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емь раз отмерь, один раз отреж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Прямоугольник 6"/>
          <p:cNvSpPr/>
          <p:nvPr/>
        </p:nvSpPr>
        <p:spPr>
          <a:xfrm>
            <a:off x="900000" y="3778200"/>
            <a:ext cx="755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ерблюда под мостом не спрячешь. (Афганистан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Прямоугольник 7"/>
          <p:cNvSpPr/>
          <p:nvPr/>
        </p:nvSpPr>
        <p:spPr>
          <a:xfrm>
            <a:off x="956880" y="5191200"/>
            <a:ext cx="44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Шило в мешке не утаиш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75564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ФРАЗЕОЛОГИЗ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3735"/>
                </a:solidFill>
                <a:latin typeface="Arial"/>
              </a:rPr>
              <a:t>Отгадай словечк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1055520" y="3429000"/>
            <a:ext cx="806472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604a7b"/>
                </a:solidFill>
                <a:latin typeface="Arial"/>
              </a:rPr>
              <a:t>… </a:t>
            </a:r>
            <a:r>
              <a:rPr b="0" lang="ru-RU" sz="4400" spc="-1" strike="noStrike">
                <a:solidFill>
                  <a:srgbClr val="604a7b"/>
                </a:solidFill>
                <a:latin typeface="Arial"/>
              </a:rPr>
              <a:t>языком слизал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2" descr="http://www.schlock.ru/wp-content/uploads/2014/12/3632800.jpg"/>
          <p:cNvPicPr/>
          <p:nvPr/>
        </p:nvPicPr>
        <p:blipFill>
          <a:blip r:embed="rId1"/>
          <a:stretch/>
        </p:blipFill>
        <p:spPr>
          <a:xfrm>
            <a:off x="250920" y="2565360"/>
            <a:ext cx="4286160" cy="346248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zoom dir="out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3735"/>
                </a:solidFill>
                <a:latin typeface="Arial"/>
              </a:rPr>
              <a:t>Отгадай словечк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610920" y="3429000"/>
            <a:ext cx="806436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604a7b"/>
                </a:solidFill>
                <a:latin typeface="Arial"/>
              </a:rPr>
              <a:t>… </a:t>
            </a:r>
            <a:r>
              <a:rPr b="0" lang="ru-RU" sz="6600" spc="-1" strike="noStrike">
                <a:solidFill>
                  <a:srgbClr val="604a7b"/>
                </a:solidFill>
                <a:latin typeface="Arial"/>
              </a:rPr>
              <a:t>наплакал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Picture 2" descr="https://static.tildacdn.com/tild6239-3730-4664-b061-663732636633/noroot.jpg"/>
          <p:cNvPicPr/>
          <p:nvPr/>
        </p:nvPicPr>
        <p:blipFill>
          <a:blip r:embed="rId1"/>
          <a:stretch/>
        </p:blipFill>
        <p:spPr>
          <a:xfrm>
            <a:off x="468360" y="2205000"/>
            <a:ext cx="3932280" cy="393228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zoom dir="out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3735"/>
                </a:solidFill>
                <a:latin typeface="Arial"/>
              </a:rPr>
              <a:t>Отгадай словечк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108000" y="3429000"/>
            <a:ext cx="90122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604a7b"/>
                </a:solidFill>
                <a:latin typeface="Arial"/>
              </a:rPr>
              <a:t>Взять     …       за рога</a:t>
            </a:r>
            <a:r>
              <a:rPr b="0" lang="ru-RU" sz="4400" spc="-1" strike="noStrike">
                <a:solidFill>
                  <a:srgbClr val="604a7b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2" descr="http://karpov-an-al.narod.ru/frazeologiya/byk.jpg"/>
          <p:cNvPicPr/>
          <p:nvPr/>
        </p:nvPicPr>
        <p:blipFill>
          <a:blip r:embed="rId1"/>
          <a:stretch/>
        </p:blipFill>
        <p:spPr>
          <a:xfrm>
            <a:off x="2627280" y="2565360"/>
            <a:ext cx="3095640" cy="324648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zoom dir="out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3735"/>
                </a:solidFill>
                <a:latin typeface="Arial"/>
              </a:rPr>
              <a:t>Отгадай словечк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108000" y="3429000"/>
            <a:ext cx="90122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04a7b"/>
                </a:solidFill>
                <a:latin typeface="Arial"/>
              </a:rPr>
              <a:t>Погнаться за двумя 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Picture 2" descr="http://cdn01.ru/files/users/images/32/6b/326b52ea4ab7c3e4d4bb6f40ed54c666.jpg"/>
          <p:cNvPicPr/>
          <p:nvPr/>
        </p:nvPicPr>
        <p:blipFill>
          <a:blip r:embed="rId1"/>
          <a:stretch/>
        </p:blipFill>
        <p:spPr>
          <a:xfrm>
            <a:off x="4500720" y="2200320"/>
            <a:ext cx="4165560" cy="39164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zoom dir="out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3735"/>
                </a:solidFill>
                <a:latin typeface="Arial"/>
              </a:rPr>
              <a:t>Отгадай словечк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108000" y="3429000"/>
            <a:ext cx="90122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04a7b"/>
                </a:solidFill>
                <a:latin typeface="Arial"/>
              </a:rPr>
              <a:t>Делать из мухи 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2" descr="http://www.wmagic.net/images/2015/09/kak-ne-delat-iz-mukhi-slona.jpg"/>
          <p:cNvPicPr/>
          <p:nvPr/>
        </p:nvPicPr>
        <p:blipFill>
          <a:blip r:embed="rId1"/>
          <a:stretch/>
        </p:blipFill>
        <p:spPr>
          <a:xfrm>
            <a:off x="3635280" y="2349360"/>
            <a:ext cx="5238720" cy="285768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zoom dir="out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3735"/>
                </a:solidFill>
                <a:latin typeface="Arial"/>
              </a:rPr>
              <a:t>Отгадай словечк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108000" y="3429000"/>
            <a:ext cx="90122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604a7b"/>
                </a:solidFill>
                <a:latin typeface="Arial"/>
              </a:rPr>
              <a:t>… </a:t>
            </a:r>
            <a:r>
              <a:rPr b="0" lang="ru-RU" sz="6600" spc="-1" strike="noStrike">
                <a:solidFill>
                  <a:srgbClr val="604a7b"/>
                </a:solidFill>
                <a:latin typeface="Arial"/>
              </a:rPr>
              <a:t>съесть</a:t>
            </a:r>
            <a:r>
              <a:rPr b="0" lang="ru-RU" sz="4400" spc="-1" strike="noStrike">
                <a:solidFill>
                  <a:srgbClr val="604a7b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2" descr="http://vovet.ru/uploads/img/78/e0fceeb4effcd24bdb8c1436995d77d4.png"/>
          <p:cNvPicPr/>
          <p:nvPr/>
        </p:nvPicPr>
        <p:blipFill>
          <a:blip r:embed="rId1"/>
          <a:stretch/>
        </p:blipFill>
        <p:spPr>
          <a:xfrm>
            <a:off x="250920" y="1989000"/>
            <a:ext cx="5761080" cy="384048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zoom dir="out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640" y="150480"/>
            <a:ext cx="8785080" cy="670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04a7b"/>
                </a:solidFill>
                <a:latin typeface="Arial"/>
              </a:rPr>
              <a:t>Решила однажды Федора гостей позвать. Стала в доме убирать и пироги печь. Хлопочет, да не успевает, ведь если          . И муки в доме нет, словно         , и времени до прихода гостей осталось         . Расстроилась Федора. Пришел к ней Иванушка и говорит: «Да не        . Я на этом деле             , помогу тебе». Иван                 , и к приходу гостей пироги были готовы.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2" descr="https://static.tildacdn.com/tild6239-3730-4664-b061-663732636633/noroot.jpg"/>
          <p:cNvPicPr/>
          <p:nvPr/>
        </p:nvPicPr>
        <p:blipFill>
          <a:blip r:embed="rId1"/>
          <a:stretch/>
        </p:blipFill>
        <p:spPr>
          <a:xfrm>
            <a:off x="1979640" y="3733920"/>
            <a:ext cx="852480" cy="8524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2" descr="http://www.schlock.ru/wp-content/uploads/2014/12/3632800.jpg"/>
          <p:cNvPicPr/>
          <p:nvPr/>
        </p:nvPicPr>
        <p:blipFill>
          <a:blip r:embed="rId2"/>
          <a:stretch/>
        </p:blipFill>
        <p:spPr>
          <a:xfrm>
            <a:off x="1979640" y="2708280"/>
            <a:ext cx="1128600" cy="91296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2" descr="http://karpov-an-al.narod.ru/frazeologiya/byk.jpg"/>
          <p:cNvPicPr/>
          <p:nvPr/>
        </p:nvPicPr>
        <p:blipFill>
          <a:blip r:embed="rId3"/>
          <a:stretch/>
        </p:blipFill>
        <p:spPr>
          <a:xfrm>
            <a:off x="6254640" y="5305320"/>
            <a:ext cx="1622520" cy="114804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2" descr="http://vovet.ru/uploads/img/78/e0fceeb4effcd24bdb8c1436995d77d4.png"/>
          <p:cNvPicPr/>
          <p:nvPr/>
        </p:nvPicPr>
        <p:blipFill>
          <a:blip r:embed="rId4"/>
          <a:stretch/>
        </p:blipFill>
        <p:spPr>
          <a:xfrm>
            <a:off x="1042920" y="5468760"/>
            <a:ext cx="1147680" cy="76392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2" descr="http://cdn01.ru/files/users/images/32/6b/326b52ea4ab7c3e4d4bb6f40ed54c666.jpg"/>
          <p:cNvPicPr/>
          <p:nvPr/>
        </p:nvPicPr>
        <p:blipFill>
          <a:blip r:embed="rId5"/>
          <a:stretch/>
        </p:blipFill>
        <p:spPr>
          <a:xfrm>
            <a:off x="3794040" y="1714680"/>
            <a:ext cx="1128960" cy="106200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2" descr=""/>
          <p:cNvPicPr/>
          <p:nvPr/>
        </p:nvPicPr>
        <p:blipFill>
          <a:blip r:embed="rId6"/>
          <a:stretch/>
        </p:blipFill>
        <p:spPr>
          <a:xfrm>
            <a:off x="5724360" y="4540320"/>
            <a:ext cx="924120" cy="7668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Прямоугольник 3"/>
          <p:cNvSpPr/>
          <p:nvPr/>
        </p:nvSpPr>
        <p:spPr>
          <a:xfrm>
            <a:off x="749160" y="836640"/>
            <a:ext cx="8070840" cy="30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0066"/>
                </a:solidFill>
                <a:latin typeface="Arial"/>
                <a:ea typeface="Arial"/>
              </a:rPr>
              <a:t>Приём “Бином-фантазии” (Джанни Родар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Берутся два слова, существительных, лучше случайных, никак не ассоциирующихся друг с друг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Прямоугольник 4"/>
          <p:cNvSpPr/>
          <p:nvPr/>
        </p:nvSpPr>
        <p:spPr>
          <a:xfrm>
            <a:off x="749160" y="3346560"/>
            <a:ext cx="7705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Два случайных слова: “жираф” и “котенок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3" descr=""/>
          <p:cNvPicPr/>
          <p:nvPr/>
        </p:nvPicPr>
        <p:blipFill>
          <a:blip r:embed="rId1"/>
          <a:stretch/>
        </p:blipFill>
        <p:spPr>
          <a:xfrm>
            <a:off x="3276720" y="4149720"/>
            <a:ext cx="2016000" cy="215568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4" descr=""/>
          <p:cNvPicPr/>
          <p:nvPr/>
        </p:nvPicPr>
        <p:blipFill>
          <a:blip r:embed="rId2"/>
          <a:stretch/>
        </p:blipFill>
        <p:spPr>
          <a:xfrm>
            <a:off x="5435640" y="4305240"/>
            <a:ext cx="2401920" cy="18464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zoom dir="out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3735"/>
                </a:solidFill>
                <a:latin typeface="Arial"/>
              </a:rPr>
              <a:t>Отгадай загадки найди в них или в отгадках многозначные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68000" y="2565360"/>
            <a:ext cx="806436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04a7b"/>
                </a:solidFill>
                <a:latin typeface="Arial"/>
              </a:rPr>
              <a:t>У кого есть шляпа без головы и нога без сапог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6516360" y="3645000"/>
            <a:ext cx="2087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04a7b"/>
                </a:solidFill>
                <a:latin typeface="Arial"/>
              </a:rPr>
              <a:t>Гри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2" descr=""/>
          <p:cNvPicPr/>
          <p:nvPr/>
        </p:nvPicPr>
        <p:blipFill>
          <a:blip r:embed="rId1"/>
          <a:stretch/>
        </p:blipFill>
        <p:spPr>
          <a:xfrm>
            <a:off x="3203640" y="5084640"/>
            <a:ext cx="5683320" cy="160812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4" descr="http://gigabaza.ru/images/3/4746/m4782524c.jpg"/>
          <p:cNvPicPr/>
          <p:nvPr/>
        </p:nvPicPr>
        <p:blipFill>
          <a:blip r:embed="rId2"/>
          <a:stretch/>
        </p:blipFill>
        <p:spPr>
          <a:xfrm>
            <a:off x="755640" y="3879720"/>
            <a:ext cx="2016000" cy="28321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Прямоугольник 3"/>
          <p:cNvSpPr/>
          <p:nvPr/>
        </p:nvSpPr>
        <p:spPr>
          <a:xfrm>
            <a:off x="468360" y="692280"/>
            <a:ext cx="7991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66"/>
                </a:solidFill>
                <a:latin typeface="Arial"/>
                <a:ea typeface="Arial"/>
              </a:rPr>
              <a:t>Технология «Выворачивание сказки наизнанку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66"/>
                </a:solidFill>
                <a:latin typeface="Arial"/>
                <a:ea typeface="Arial"/>
              </a:rPr>
              <a:t>(Джанни Родари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События в сказке излагаются в той же последовательности, но вместо персонажей этой сказки вводятся новые персонажи или другие объекты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042920" y="227628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3735"/>
                </a:solidFill>
                <a:latin typeface="Arial"/>
              </a:rPr>
              <a:t>К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2" descr="http://allday2.com/uploads/posts/2015-02/1424849869_february-2-15.png"/>
          <p:cNvPicPr/>
          <p:nvPr/>
        </p:nvPicPr>
        <p:blipFill>
          <a:blip r:embed="rId1"/>
          <a:stretch/>
        </p:blipFill>
        <p:spPr>
          <a:xfrm>
            <a:off x="539640" y="1628640"/>
            <a:ext cx="3240360" cy="518976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4" descr="http://www.bsg-world.com/upload/arquivos/2010/07/29/14754/940x705_14754.jpg"/>
          <p:cNvPicPr/>
          <p:nvPr/>
        </p:nvPicPr>
        <p:blipFill>
          <a:blip r:embed="rId2"/>
          <a:stretch/>
        </p:blipFill>
        <p:spPr>
          <a:xfrm>
            <a:off x="4857840" y="1628640"/>
            <a:ext cx="3398760" cy="48117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3735"/>
                </a:solidFill>
                <a:latin typeface="Arial"/>
              </a:rPr>
              <a:t>БА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2" descr="http://www.td-angora.ru/upload/iblock/54e/54ea45e2c8082b14b4a74b009b0a64f2.jpeg"/>
          <p:cNvPicPr/>
          <p:nvPr/>
        </p:nvPicPr>
        <p:blipFill>
          <a:blip r:embed="rId1"/>
          <a:stretch/>
        </p:blipFill>
        <p:spPr>
          <a:xfrm>
            <a:off x="0" y="2421000"/>
            <a:ext cx="3816360" cy="380052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4" descr="http://www.cruiseinform.ru/upload/iblock/d02/d02ade37824ef4beda267cd79c3d4332.jpg"/>
          <p:cNvPicPr/>
          <p:nvPr/>
        </p:nvPicPr>
        <p:blipFill>
          <a:blip r:embed="rId2"/>
          <a:stretch/>
        </p:blipFill>
        <p:spPr>
          <a:xfrm>
            <a:off x="3814920" y="2565360"/>
            <a:ext cx="5076720" cy="33847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zoom dir="ou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300816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76092"/>
                </a:solidFill>
                <a:latin typeface="Arial"/>
              </a:rPr>
              <a:t>Синони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78920" y="1434960"/>
            <a:ext cx="3024360" cy="53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МЕЛ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ВОД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УГ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АР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МН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Текст 4"/>
          <p:cNvSpPr/>
          <p:nvPr/>
        </p:nvSpPr>
        <p:spPr>
          <a:xfrm>
            <a:off x="3492360" y="1413000"/>
            <a:ext cx="2320920" cy="46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ХРАБР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БРАН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ЕТХ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МР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ОТО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Текст 4"/>
          <p:cNvSpPr/>
          <p:nvPr/>
        </p:nvSpPr>
        <p:spPr>
          <a:xfrm>
            <a:off x="6372360" y="1413000"/>
            <a:ext cx="2763720" cy="46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ТРУСЛИВ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ЗАСУ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ОВ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ХВАЛ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Заголовок 2"/>
          <p:cNvSpPr/>
          <p:nvPr/>
        </p:nvSpPr>
        <p:spPr>
          <a:xfrm>
            <a:off x="6075360" y="249120"/>
            <a:ext cx="3008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76092"/>
                </a:solidFill>
                <a:latin typeface="Arial"/>
                <a:ea typeface="Arial"/>
              </a:rPr>
              <a:t>Антони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Прямая со стрелкой 9"/>
          <p:cNvCxnSpPr/>
          <p:nvPr/>
        </p:nvCxnSpPr>
        <p:spPr>
          <a:xfrm flipH="1">
            <a:off x="2195280" y="1699920"/>
            <a:ext cx="129744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6" name="Прямая со стрелкой 11"/>
          <p:cNvCxnSpPr/>
          <p:nvPr/>
        </p:nvCxnSpPr>
        <p:spPr>
          <a:xfrm>
            <a:off x="5580000" y="1699920"/>
            <a:ext cx="93744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7" name="Прямая со стрелкой 13"/>
          <p:cNvCxnSpPr/>
          <p:nvPr/>
        </p:nvCxnSpPr>
        <p:spPr>
          <a:xfrm flipH="1">
            <a:off x="1692000" y="2852640"/>
            <a:ext cx="1800720" cy="1153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8" name="Прямая со стрелкой 15"/>
          <p:cNvCxnSpPr/>
          <p:nvPr/>
        </p:nvCxnSpPr>
        <p:spPr>
          <a:xfrm>
            <a:off x="5435280" y="2852280"/>
            <a:ext cx="1081800" cy="3251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9" name="Прямая со стрелкой 17"/>
          <p:cNvCxnSpPr/>
          <p:nvPr/>
        </p:nvCxnSpPr>
        <p:spPr>
          <a:xfrm flipH="1">
            <a:off x="1979280" y="4005000"/>
            <a:ext cx="1513440" cy="1152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0" name="Прямая со стрелкой 19"/>
          <p:cNvCxnSpPr/>
          <p:nvPr/>
        </p:nvCxnSpPr>
        <p:spPr>
          <a:xfrm>
            <a:off x="5292360" y="4005000"/>
            <a:ext cx="108036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1" name="Прямая со стрелкой 21"/>
          <p:cNvCxnSpPr/>
          <p:nvPr/>
        </p:nvCxnSpPr>
        <p:spPr>
          <a:xfrm flipH="1">
            <a:off x="2195280" y="5157360"/>
            <a:ext cx="1297440" cy="115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2" name="Прямая со стрелкой 23"/>
          <p:cNvCxnSpPr/>
          <p:nvPr/>
        </p:nvCxnSpPr>
        <p:spPr>
          <a:xfrm>
            <a:off x="4653000" y="5157360"/>
            <a:ext cx="1720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3" name="Прямая со стрелкой 25"/>
          <p:cNvCxnSpPr/>
          <p:nvPr/>
        </p:nvCxnSpPr>
        <p:spPr>
          <a:xfrm flipH="1" flipV="1">
            <a:off x="2195280" y="3141000"/>
            <a:ext cx="1297440" cy="3167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4" name="Прямая со стрелкой 27"/>
          <p:cNvCxnSpPr/>
          <p:nvPr/>
        </p:nvCxnSpPr>
        <p:spPr>
          <a:xfrm flipV="1">
            <a:off x="5076360" y="2997000"/>
            <a:ext cx="1799640" cy="3312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p:transition spd="slow" advTm="6000">
    <p:zoom dir="ou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Arial"/>
              </a:rPr>
              <a:t>Составь пословицы, найди в них антони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179280" y="1988640"/>
            <a:ext cx="410544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учше вода у дру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ягко стел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спеши язык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енье – с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5327280" y="1989000"/>
            <a:ext cx="381636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неученье – ть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 жёстко сп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ропись дел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м мёд у вра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8" name="Прямая со стрелкой 10"/>
          <p:cNvCxnSpPr/>
          <p:nvPr/>
        </p:nvCxnSpPr>
        <p:spPr>
          <a:xfrm>
            <a:off x="4067280" y="2276280"/>
            <a:ext cx="1442160" cy="3385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9" name="Прямая со стрелкой 12"/>
          <p:cNvCxnSpPr/>
          <p:nvPr/>
        </p:nvCxnSpPr>
        <p:spPr>
          <a:xfrm>
            <a:off x="2843280" y="3499920"/>
            <a:ext cx="252144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80" name="Прямая со стрелкой 14"/>
          <p:cNvCxnSpPr/>
          <p:nvPr/>
        </p:nvCxnSpPr>
        <p:spPr>
          <a:xfrm>
            <a:off x="3708000" y="4652640"/>
            <a:ext cx="165636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81" name="Прямая со стрелкой 16"/>
          <p:cNvCxnSpPr/>
          <p:nvPr/>
        </p:nvCxnSpPr>
        <p:spPr>
          <a:xfrm flipV="1">
            <a:off x="2987280" y="2276280"/>
            <a:ext cx="2377080" cy="3529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p:transition spd="slow" advTm="6000">
    <p:zoom dir="ou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"/>
              </a:rPr>
              <a:t>ОМОФО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3328560" y="2045880"/>
            <a:ext cx="252108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ЛУГ - ЛУ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Объект 5"/>
          <p:cNvSpPr/>
          <p:nvPr/>
        </p:nvSpPr>
        <p:spPr>
          <a:xfrm>
            <a:off x="2976480" y="5268960"/>
            <a:ext cx="36734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  <a:ea typeface="Arial"/>
              </a:rPr>
              <a:t>ВЕЗТИ - ВЕ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Picture 6" descr=""/>
          <p:cNvPicPr/>
          <p:nvPr/>
        </p:nvPicPr>
        <p:blipFill>
          <a:blip r:embed="rId1"/>
          <a:stretch/>
        </p:blipFill>
        <p:spPr>
          <a:xfrm>
            <a:off x="6151680" y="3171960"/>
            <a:ext cx="2698560" cy="15159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7" descr=""/>
          <p:cNvPicPr/>
          <p:nvPr/>
        </p:nvPicPr>
        <p:blipFill>
          <a:blip r:embed="rId2"/>
          <a:stretch/>
        </p:blipFill>
        <p:spPr>
          <a:xfrm>
            <a:off x="330120" y="2852640"/>
            <a:ext cx="2486160" cy="1865520"/>
          </a:xfrm>
          <a:prstGeom prst="rect">
            <a:avLst/>
          </a:prstGeom>
          <a:ln w="0">
            <a:noFill/>
          </a:ln>
        </p:spPr>
      </p:pic>
      <p:sp>
        <p:nvSpPr>
          <p:cNvPr id="487" name="Прямоугольник 1"/>
          <p:cNvSpPr/>
          <p:nvPr/>
        </p:nvSpPr>
        <p:spPr>
          <a:xfrm>
            <a:off x="2970360" y="3124080"/>
            <a:ext cx="32400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Arial"/>
                <a:ea typeface="Arial"/>
              </a:rPr>
              <a:t>За деревней – луг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ru-RU" sz="2600" spc="-1" strike="noStrike">
                <a:solidFill>
                  <a:srgbClr val="002060"/>
                </a:solidFill>
                <a:latin typeface="Arial"/>
                <a:ea typeface="Arial"/>
              </a:rPr>
              <a:t>А на грядке – лук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4730760" y="2538360"/>
            <a:ext cx="4402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У меня печальный вид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Голова моя боли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Я чихаю, я охрип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Что тако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Это - грипп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Не румяный гриб в лес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А поганый грипп в носу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2" descr=""/>
          <p:cNvPicPr/>
          <p:nvPr/>
        </p:nvPicPr>
        <p:blipFill>
          <a:blip r:embed="rId1"/>
          <a:stretch/>
        </p:blipFill>
        <p:spPr>
          <a:xfrm>
            <a:off x="233280" y="933480"/>
            <a:ext cx="4267440" cy="3214800"/>
          </a:xfrm>
          <a:prstGeom prst="rect">
            <a:avLst/>
          </a:prstGeom>
          <a:ln w="0">
            <a:noFill/>
          </a:ln>
        </p:spPr>
      </p:pic>
      <p:sp>
        <p:nvSpPr>
          <p:cNvPr id="491" name="Прямоугольник 2"/>
          <p:cNvSpPr/>
          <p:nvPr/>
        </p:nvSpPr>
        <p:spPr>
          <a:xfrm>
            <a:off x="5472000" y="1268280"/>
            <a:ext cx="330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  <a:ea typeface="Arial"/>
              </a:rPr>
              <a:t>ГРИБ - ГРИП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Прямоугольник 1"/>
          <p:cNvSpPr/>
          <p:nvPr/>
        </p:nvSpPr>
        <p:spPr>
          <a:xfrm>
            <a:off x="324000" y="476280"/>
            <a:ext cx="8496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адание 1. Закончи предлож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) Дедушка положил очк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) Мама купила конфеты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3) Бабушка пошла на рынок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адание 2. Допиши предложение, вставив подходящее по смыслу сло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опал (кто?)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апа копал (что?)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апа копал огород (чем?)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апа копал огород лопатой (когда?)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чера папа копал огород лопатой (как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адание 3. Распространи предлож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нег выпал (какой? когда?)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Груша упала (какая? где? с чего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3T12:24:57Z</dcterms:created>
  <dc:creator>Кирилл</dc:creator>
  <dc:description/>
  <dc:language>en-US</dc:language>
  <cp:lastModifiedBy>Victor</cp:lastModifiedBy>
  <dcterms:modified xsi:type="dcterms:W3CDTF">2020-11-01T19:45:38Z</dcterms:modified>
  <cp:revision>491</cp:revision>
  <dc:subject/>
  <dc:title>Слайд 1</dc:title>
</cp:coreProperties>
</file>