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6.gif" ContentType="image/gif"/>
  <Override PartName="/ppt/media/image17.gif" ContentType="image/gif"/>
  <Override PartName="/ppt/media/image13.jpeg" ContentType="image/jpeg"/>
  <Override PartName="/ppt/media/image18.gif" ContentType="image/gif"/>
  <Override PartName="/ppt/media/image20.gif" ContentType="image/gif"/>
  <Override PartName="/ppt/media/image27.gif" ContentType="image/gif"/>
  <Override PartName="/ppt/media/image7.png" ContentType="image/png"/>
  <Override PartName="/ppt/media/image25.gif" ContentType="image/gif"/>
  <Override PartName="/ppt/media/image5.png" ContentType="image/png"/>
  <Override PartName="/ppt/media/image8.gif" ContentType="image/gif"/>
  <Override PartName="/ppt/media/image29.gif" ContentType="image/gif"/>
  <Override PartName="/ppt/media/image6.gif" ContentType="image/gif"/>
  <Override PartName="/ppt/media/image9.png" ContentType="image/png"/>
  <Override PartName="/ppt/media/image31.gif" ContentType="image/gif"/>
  <Override PartName="/ppt/media/image10.png" ContentType="image/png"/>
  <Override PartName="/ppt/media/image30.gif" ContentType="image/gif"/>
  <Override PartName="/ppt/media/image11.png" ContentType="image/png"/>
  <Override PartName="/ppt/media/image12.jpeg" ContentType="image/jpeg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32.png" ContentType="image/png"/>
  <Override PartName="/ppt/media/image2.png" ContentType="image/png"/>
  <Override PartName="/ppt/media/image22.gif" ContentType="image/gif"/>
  <Override PartName="/ppt/media/image1.png" ContentType="image/png"/>
  <Override PartName="/ppt/media/image19.gif" ContentType="image/gif"/>
  <Override PartName="/ppt/media/image14.png" ContentType="image/png"/>
  <Override PartName="/ppt/media/image15.gif" ContentType="image/gif"/>
  <Override PartName="/ppt/media/image16.gif" ContentType="image/gi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E95-8765-483E-BF4B-4D51479E6E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E2C8-FFDF-43CB-818A-036BECC361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E7F5-E567-4CAF-9595-6D7F62B988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70F-BF7E-4EAE-9E26-6B06325F08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4433-6DF9-4906-B4D1-C409037E03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06E2-3179-4C44-9C9E-FC4248779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D360-007C-4389-8916-6176407561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D97-7A06-4376-BACA-D289F62465B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55F7-A3B0-4221-BC9F-23FFAAA945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39C8-AD44-44CB-BD20-CC30D6494B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9674-0BAB-457C-82E6-243AF282BD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B587-90D9-4D33-9DA9-41833768DE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256-3B07-4970-A225-C4BF1E92DD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E78D-5B1F-41B3-A5DA-4ED5BC996F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B78-4CF0-4746-9CCF-2E231A42B8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E1FE-6E10-4403-A013-DBC53689097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2694-5DB0-4C76-B783-05F27E6096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57B6-413F-4362-BB02-5056D80F66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695C-C7A6-4AD1-9B7C-EC25FD7868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D37B-C275-445F-B770-4107A01B91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DA89-BCB8-454A-BDCF-D84E0038DC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0185-6CB9-432B-B23E-7AD6EE42FB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D9DB-8E73-4DEF-AF01-715E343187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BA2-3727-4723-80E9-0541175FCD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F2A4-16D9-4C59-826F-11036A6111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DB60-063C-497F-9B32-9390849D86A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3280-844E-411F-BEBE-86904E5C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0C7-F919-43DF-8EC5-1380516A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86E-296E-4316-84CC-EF5C81C4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EE6-51C8-4D11-A700-6514919D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A1DD-647F-43C3-A3DB-CDB78D42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61C4-5A87-445A-A9DB-804701F7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3545-1239-4A67-AA08-31941F15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4BD7-F463-414C-8088-EE3155E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C9F5-6505-46D5-B6BB-D23C6770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5F4A-C464-4AA7-B322-0AA9B925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2B0B-B9AB-4EEF-B2AA-6DBA63C9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ECD-C57A-44F9-8E8B-900CE5DE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317F-3E91-4450-A5DE-92BC22E1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2EE-3C3E-4FE3-BF2A-346A73F1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3D56-EE8F-4267-820C-46F729A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AAD-0745-46A3-AB61-74054BC9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2FCC-1C13-4487-9DBE-01C644D2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AF5-4153-4CC6-B713-B0924F3E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A1D-BC7F-4AE8-9893-8B93FF19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00D-9173-4609-9DA0-F4A444EA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7AF-9FEE-4898-9ABE-CD0C9694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AA8-1633-4FA2-9408-ED3DD584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526-8C0D-48B7-BCFF-FEAF5EF0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182-052F-416A-A565-2C3D29C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3366cc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BE2E-AC9F-4BB6-B1F1-6B13F022E9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3366cc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8E2-18DF-4653-AEDE-C897291CB4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1.i.ua/prikol/pic/1/6/7126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49.radikal.ru/i124/0912/0f/6c71c656105c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49.radikal.ru/i124/0912/0f/6c71c656105c.jp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Урок обучения грамоте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чтение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6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Овал 3"/>
          <p:cNvSpPr/>
          <p:nvPr/>
        </p:nvSpPr>
        <p:spPr>
          <a:xfrm>
            <a:off x="8143920" y="214200"/>
            <a:ext cx="500040" cy="486000"/>
          </a:xfrm>
          <a:prstGeom prst="ellipse">
            <a:avLst/>
          </a:prstGeom>
          <a:solidFill>
            <a:srgbClr val="6378c8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33333E-006 C -0.41632 -0.02385 -0.83264 -0.04769 -0.83698 3.33333E-006 C -0.84132 0.04768 -0.0283 0.22199 -0.02569 0.28611 C -0.02309 0.35023 -0.8283 0.34097 -0.82083 0.38495 C -0.81337 0.42893 0.00816 0.49421 0.01945 0.55046 C 0.03073 0.60671 -0.6243 0.69398 -0.75312 0.72268 E">
                                      <p:cBhvr>
                                        <p:cTn id="80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7ff3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440" y="2428920"/>
            <a:ext cx="7543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ФИЗКУЛЬТМИНУТ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1" descr="http://s10.rimg.info/bae7843e011684b4eed0347bf6da33fb.gif"/>
          <p:cNvPicPr/>
          <p:nvPr/>
        </p:nvPicPr>
        <p:blipFill>
          <a:blip r:embed="rId1"/>
          <a:stretch/>
        </p:blipFill>
        <p:spPr>
          <a:xfrm>
            <a:off x="4143240" y="571680"/>
            <a:ext cx="1000440" cy="1071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http://s17.rimg.info/3a003eb541748ba976b6c057e242637b.gif"/>
          <p:cNvPicPr/>
          <p:nvPr/>
        </p:nvPicPr>
        <p:blipFill>
          <a:blip r:embed="rId2"/>
          <a:stretch/>
        </p:blipFill>
        <p:spPr>
          <a:xfrm>
            <a:off x="928800" y="4429080"/>
            <a:ext cx="1266840" cy="130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куколка"/>
          <p:cNvPicPr/>
          <p:nvPr/>
        </p:nvPicPr>
        <p:blipFill>
          <a:blip r:embed="rId3"/>
          <a:stretch/>
        </p:blipFill>
        <p:spPr>
          <a:xfrm>
            <a:off x="928800" y="42876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жираф"/>
          <p:cNvPicPr/>
          <p:nvPr/>
        </p:nvPicPr>
        <p:blipFill>
          <a:blip r:embed="rId4"/>
          <a:stretch/>
        </p:blipFill>
        <p:spPr>
          <a:xfrm>
            <a:off x="4214880" y="4500720"/>
            <a:ext cx="914400" cy="1071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teddy bear"/>
          <p:cNvPicPr/>
          <p:nvPr/>
        </p:nvPicPr>
        <p:blipFill>
          <a:blip r:embed="rId5"/>
          <a:stretch/>
        </p:blipFill>
        <p:spPr>
          <a:xfrm>
            <a:off x="7215120" y="571680"/>
            <a:ext cx="785880" cy="938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0" descr="панда"/>
          <p:cNvPicPr/>
          <p:nvPr/>
        </p:nvPicPr>
        <p:blipFill>
          <a:blip r:embed="rId6"/>
          <a:stretch/>
        </p:blipFill>
        <p:spPr>
          <a:xfrm>
            <a:off x="7429680" y="4643280"/>
            <a:ext cx="642600" cy="928800"/>
          </a:xfrm>
          <a:prstGeom prst="rect">
            <a:avLst/>
          </a:prstGeom>
          <a:ln w="0">
            <a:noFill/>
          </a:ln>
        </p:spPr>
      </p:pic>
      <p:pic>
        <p:nvPicPr>
          <p:cNvPr id="171" name="Из_кинофильма_-_Усатый_Нянь.mp3" descr=""/>
          <p:cNvPicPr/>
          <p:nvPr/>
        </p:nvPicPr>
        <p:blipFill>
          <a:blip r:embed="rId7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анимашки кошки"/>
          <p:cNvPicPr/>
          <p:nvPr/>
        </p:nvPicPr>
        <p:blipFill>
          <a:blip r:embed="rId1"/>
          <a:stretch/>
        </p:blipFill>
        <p:spPr>
          <a:xfrm>
            <a:off x="4143240" y="4214880"/>
            <a:ext cx="1000440" cy="1357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анимашки кошки"/>
          <p:cNvPicPr/>
          <p:nvPr/>
        </p:nvPicPr>
        <p:blipFill>
          <a:blip r:embed="rId2"/>
          <a:stretch/>
        </p:blipFill>
        <p:spPr>
          <a:xfrm>
            <a:off x="1357200" y="1214280"/>
            <a:ext cx="107172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анимашки кошки"/>
          <p:cNvPicPr/>
          <p:nvPr/>
        </p:nvPicPr>
        <p:blipFill>
          <a:blip r:embed="rId3"/>
          <a:stretch/>
        </p:blipFill>
        <p:spPr>
          <a:xfrm>
            <a:off x="6643800" y="1214280"/>
            <a:ext cx="10000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http://gsmnet.ru/anime/2/009b.gif"/>
          <p:cNvPicPr/>
          <p:nvPr/>
        </p:nvPicPr>
        <p:blipFill>
          <a:blip r:embed="rId1"/>
          <a:stretch/>
        </p:blipFill>
        <p:spPr>
          <a:xfrm>
            <a:off x="5929200" y="1000080"/>
            <a:ext cx="2357640" cy="235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http://gsmnet.ru/anime/2/009b.gif"/>
          <p:cNvPicPr/>
          <p:nvPr/>
        </p:nvPicPr>
        <p:blipFill>
          <a:blip r:embed="rId2"/>
          <a:stretch/>
        </p:blipFill>
        <p:spPr>
          <a:xfrm>
            <a:off x="928800" y="4929120"/>
            <a:ext cx="1571400" cy="1000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http://gsmnet.ru/anime/2/009b.gif"/>
          <p:cNvPicPr/>
          <p:nvPr/>
        </p:nvPicPr>
        <p:blipFill>
          <a:blip r:embed="rId3"/>
          <a:stretch/>
        </p:blipFill>
        <p:spPr>
          <a:xfrm>
            <a:off x="3357720" y="2500200"/>
            <a:ext cx="16430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http://www.gifpark.ru/Gifs/ANIMALS/Mouse18.gif"/>
          <p:cNvPicPr/>
          <p:nvPr/>
        </p:nvPicPr>
        <p:blipFill>
          <a:blip r:embed="rId1"/>
          <a:stretch/>
        </p:blipFill>
        <p:spPr>
          <a:xfrm>
            <a:off x="3714840" y="85716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http://www.gifpark.ru/Gifs/ANIMALS/Mouse18.gif"/>
          <p:cNvPicPr/>
          <p:nvPr/>
        </p:nvPicPr>
        <p:blipFill>
          <a:blip r:embed="rId2"/>
          <a:stretch/>
        </p:blipFill>
        <p:spPr>
          <a:xfrm>
            <a:off x="1357200" y="3929040"/>
            <a:ext cx="1928880" cy="1500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http://www.gifpark.ru/Gifs/ANIMALS/Mouse18.gif"/>
          <p:cNvPicPr/>
          <p:nvPr/>
        </p:nvPicPr>
        <p:blipFill>
          <a:blip r:embed="rId3"/>
          <a:stretch/>
        </p:blipFill>
        <p:spPr>
          <a:xfrm>
            <a:off x="5929200" y="4000680"/>
            <a:ext cx="20005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http://www.gifpark.ru/Gifs/ANIMALS/ani-penguin_dancing.gif"/>
          <p:cNvPicPr/>
          <p:nvPr/>
        </p:nvPicPr>
        <p:blipFill>
          <a:blip r:embed="rId1"/>
          <a:stretch/>
        </p:blipFill>
        <p:spPr>
          <a:xfrm>
            <a:off x="3929040" y="3286080"/>
            <a:ext cx="1714680" cy="2214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http://www.gifpark.ru/Gifs/ANIMALS/ani-penguin_dancing.gif"/>
          <p:cNvPicPr/>
          <p:nvPr/>
        </p:nvPicPr>
        <p:blipFill>
          <a:blip r:embed="rId2"/>
          <a:stretch/>
        </p:blipFill>
        <p:spPr>
          <a:xfrm>
            <a:off x="714240" y="64296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" descr="http://www.gifpark.ru/Gifs/ANIMALS/ani-penguin_dancing.gif"/>
          <p:cNvPicPr/>
          <p:nvPr/>
        </p:nvPicPr>
        <p:blipFill>
          <a:blip r:embed="rId3"/>
          <a:stretch/>
        </p:blipFill>
        <p:spPr>
          <a:xfrm>
            <a:off x="6715080" y="642960"/>
            <a:ext cx="171468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http://www.gifpark.ru/Gifs/PEOPLE/CHILDREN/baby20.gif"/>
          <p:cNvPicPr/>
          <p:nvPr/>
        </p:nvPicPr>
        <p:blipFill>
          <a:blip r:embed="rId1"/>
          <a:stretch/>
        </p:blipFill>
        <p:spPr>
          <a:xfrm>
            <a:off x="2071800" y="1857240"/>
            <a:ext cx="1928880" cy="2643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http://www.gifpark.ru/Gifs/PEOPLE/CHILDREN/baby20.gif"/>
          <p:cNvPicPr/>
          <p:nvPr/>
        </p:nvPicPr>
        <p:blipFill>
          <a:blip r:embed="rId2"/>
          <a:stretch/>
        </p:blipFill>
        <p:spPr>
          <a:xfrm>
            <a:off x="5214960" y="1928880"/>
            <a:ext cx="192888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http://fantasyflash.ru/anime/hamster/image/homa38.gif"/>
          <p:cNvPicPr/>
          <p:nvPr/>
        </p:nvPicPr>
        <p:blipFill>
          <a:blip r:embed="rId1"/>
          <a:stretch/>
        </p:blipFill>
        <p:spPr>
          <a:xfrm>
            <a:off x="4071960" y="1071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fantasyflash.ru/anime/hamster/image/homa38.gif"/>
          <p:cNvPicPr/>
          <p:nvPr/>
        </p:nvPicPr>
        <p:blipFill>
          <a:blip r:embed="rId2"/>
          <a:stretch/>
        </p:blipFill>
        <p:spPr>
          <a:xfrm>
            <a:off x="857160" y="1071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antasyflash.ru/anime/hamster/image/homa38.gif"/>
          <p:cNvPicPr/>
          <p:nvPr/>
        </p:nvPicPr>
        <p:blipFill>
          <a:blip r:embed="rId3"/>
          <a:stretch/>
        </p:blipFill>
        <p:spPr>
          <a:xfrm>
            <a:off x="6929280" y="3071880"/>
            <a:ext cx="1000440" cy="92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fantasyflash.ru/anime/hamster/image/homa38.gif"/>
          <p:cNvPicPr/>
          <p:nvPr/>
        </p:nvPicPr>
        <p:blipFill>
          <a:blip r:embed="rId4"/>
          <a:stretch/>
        </p:blipFill>
        <p:spPr>
          <a:xfrm>
            <a:off x="6858000" y="114300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fantasyflash.ru/anime/hamster/image/homa38.gif"/>
          <p:cNvPicPr/>
          <p:nvPr/>
        </p:nvPicPr>
        <p:blipFill>
          <a:blip r:embed="rId5"/>
          <a:stretch/>
        </p:blipFill>
        <p:spPr>
          <a:xfrm>
            <a:off x="7072200" y="514368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fantasyflash.ru/anime/hamster/image/homa38.gif"/>
          <p:cNvPicPr/>
          <p:nvPr/>
        </p:nvPicPr>
        <p:blipFill>
          <a:blip r:embed="rId6"/>
          <a:stretch/>
        </p:blipFill>
        <p:spPr>
          <a:xfrm>
            <a:off x="4143240" y="5143680"/>
            <a:ext cx="1000440" cy="928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antasyflash.ru/anime/hamster/image/homa38.gif"/>
          <p:cNvPicPr/>
          <p:nvPr/>
        </p:nvPicPr>
        <p:blipFill>
          <a:blip r:embed="rId7"/>
          <a:stretch/>
        </p:blipFill>
        <p:spPr>
          <a:xfrm>
            <a:off x="1000080" y="50720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fantasyflash.ru/anime/hamster/image/homa38.gif"/>
          <p:cNvPicPr/>
          <p:nvPr/>
        </p:nvPicPr>
        <p:blipFill>
          <a:blip r:embed="rId8"/>
          <a:stretch/>
        </p:blipFill>
        <p:spPr>
          <a:xfrm>
            <a:off x="928800" y="314316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fantasyflash.ru/anime/hamster/image/homa38.gif"/>
          <p:cNvPicPr/>
          <p:nvPr/>
        </p:nvPicPr>
        <p:blipFill>
          <a:blip r:embed="rId9"/>
          <a:stretch/>
        </p:blipFill>
        <p:spPr>
          <a:xfrm>
            <a:off x="4143240" y="3143160"/>
            <a:ext cx="100044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700"/>
                </a:solidFill>
                <a:latin typeface="Arial"/>
              </a:rPr>
              <a:t>Загадка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292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Arial"/>
              </a:rPr>
              <a:t>Сердитый недотрог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292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Arial"/>
              </a:rPr>
              <a:t>Живёт в глуши лесной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292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Arial"/>
              </a:rPr>
              <a:t>Иголок много - мног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292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929ff"/>
                </a:solidFill>
                <a:latin typeface="Arial"/>
              </a:rPr>
              <a:t>А ниток – ни од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http://gsmnet.ru/anime/a23.gif"/>
          <p:cNvPicPr/>
          <p:nvPr/>
        </p:nvPicPr>
        <p:blipFill>
          <a:blip r:embed="rId1"/>
          <a:stretch/>
        </p:blipFill>
        <p:spPr>
          <a:xfrm>
            <a:off x="6858000" y="3214800"/>
            <a:ext cx="1714680" cy="3071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http://gsmnet.ru/anime/a23.gif"/>
          <p:cNvPicPr/>
          <p:nvPr/>
        </p:nvPicPr>
        <p:blipFill>
          <a:blip r:embed="rId2"/>
          <a:stretch/>
        </p:blipFill>
        <p:spPr>
          <a:xfrm>
            <a:off x="857160" y="3214800"/>
            <a:ext cx="1714680" cy="3071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http://gsmnet.ru/anime/a23.gif"/>
          <p:cNvPicPr/>
          <p:nvPr/>
        </p:nvPicPr>
        <p:blipFill>
          <a:blip r:embed="rId3"/>
          <a:stretch/>
        </p:blipFill>
        <p:spPr>
          <a:xfrm>
            <a:off x="3714840" y="0"/>
            <a:ext cx="17143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gsmnet.ru/anime/2/125b.gif"/>
          <p:cNvPicPr/>
          <p:nvPr/>
        </p:nvPicPr>
        <p:blipFill>
          <a:blip r:embed="rId1"/>
          <a:stretch/>
        </p:blipFill>
        <p:spPr>
          <a:xfrm>
            <a:off x="1571760" y="242892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gsmnet.ru/anime/2/125b.gif"/>
          <p:cNvPicPr/>
          <p:nvPr/>
        </p:nvPicPr>
        <p:blipFill>
          <a:blip r:embed="rId2"/>
          <a:stretch/>
        </p:blipFill>
        <p:spPr>
          <a:xfrm>
            <a:off x="3714840" y="714240"/>
            <a:ext cx="1214280" cy="1785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http://gsmnet.ru/anime/2/125b.gif"/>
          <p:cNvPicPr/>
          <p:nvPr/>
        </p:nvPicPr>
        <p:blipFill>
          <a:blip r:embed="rId3"/>
          <a:stretch/>
        </p:blipFill>
        <p:spPr>
          <a:xfrm>
            <a:off x="4000680" y="4286160"/>
            <a:ext cx="1357200" cy="1785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http://gsmnet.ru/anime/2/125b.gif"/>
          <p:cNvPicPr/>
          <p:nvPr/>
        </p:nvPicPr>
        <p:blipFill>
          <a:blip r:embed="rId4"/>
          <a:stretch/>
        </p:blipFill>
        <p:spPr>
          <a:xfrm>
            <a:off x="5715000" y="2500200"/>
            <a:ext cx="135720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http://gsmnet.ru/anime/anime/a004.gif"/>
          <p:cNvPicPr/>
          <p:nvPr/>
        </p:nvPicPr>
        <p:blipFill>
          <a:blip r:embed="rId1"/>
          <a:stretch/>
        </p:blipFill>
        <p:spPr>
          <a:xfrm>
            <a:off x="857160" y="0"/>
            <a:ext cx="3286080" cy="342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://gsmnet.ru/anime/anime/a004.gif"/>
          <p:cNvPicPr/>
          <p:nvPr/>
        </p:nvPicPr>
        <p:blipFill>
          <a:blip r:embed="rId2"/>
          <a:stretch/>
        </p:blipFill>
        <p:spPr>
          <a:xfrm>
            <a:off x="4357800" y="2214720"/>
            <a:ext cx="3286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анимация"/>
          <p:cNvPicPr/>
          <p:nvPr/>
        </p:nvPicPr>
        <p:blipFill>
          <a:blip r:embed="rId1"/>
          <a:stretch/>
        </p:blipFill>
        <p:spPr>
          <a:xfrm>
            <a:off x="3857760" y="128592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анимация"/>
          <p:cNvPicPr/>
          <p:nvPr/>
        </p:nvPicPr>
        <p:blipFill>
          <a:blip r:embed="rId2"/>
          <a:stretch/>
        </p:blipFill>
        <p:spPr>
          <a:xfrm>
            <a:off x="6429240" y="3857760"/>
            <a:ext cx="100044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анимация"/>
          <p:cNvPicPr/>
          <p:nvPr/>
        </p:nvPicPr>
        <p:blipFill>
          <a:blip r:embed="rId3"/>
          <a:stretch/>
        </p:blipFill>
        <p:spPr>
          <a:xfrm>
            <a:off x="2071800" y="385776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7269120"/>
          </a:xfrm>
          <a:prstGeom prst="rect">
            <a:avLst/>
          </a:prstGeom>
          <a:noFill/>
          <a:ln w="9360">
            <a:solidFill>
              <a:srgbClr val="00007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рш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 кл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н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лка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мо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м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д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пч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лы</a:t>
            </a:r>
            <a:br>
              <a:rPr sz="6000"/>
            </a:br>
            <a:r>
              <a:rPr b="1" lang="ru-RU" sz="6000" spc="-1" strike="noStrike">
                <a:solidFill>
                  <a:srgbClr val="000073"/>
                </a:solidFill>
                <a:latin typeface="Arial"/>
              </a:rPr>
              <a:t>  </a:t>
            </a:r>
            <a:br>
              <a:rPr sz="6000"/>
            </a:b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8" name="Picture 11" descr="Картинка 1 из 15407"/>
          <p:cNvPicPr/>
          <p:nvPr/>
        </p:nvPicPr>
        <p:blipFill>
          <a:blip r:embed="rId1"/>
          <a:stretch/>
        </p:blipFill>
        <p:spPr>
          <a:xfrm>
            <a:off x="152280" y="3429000"/>
            <a:ext cx="3105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264d"/>
                </a:solidFill>
                <a:latin typeface="Arial"/>
              </a:rPr>
              <a:t>по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ru-RU" sz="4400" spc="-1" strike="noStrike">
                <a:solidFill>
                  <a:srgbClr val="00264d"/>
                </a:solidFill>
                <a:latin typeface="Arial"/>
              </a:rPr>
              <a:t>т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11" descr="Картинка 1 из 15407"/>
          <p:cNvPicPr/>
          <p:nvPr/>
        </p:nvPicPr>
        <p:blipFill>
          <a:blip r:embed="rId1"/>
          <a:stretch/>
        </p:blipFill>
        <p:spPr>
          <a:xfrm>
            <a:off x="3200400" y="1981080"/>
            <a:ext cx="2819520" cy="312444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4"/>
          <p:cNvSpPr/>
          <p:nvPr/>
        </p:nvSpPr>
        <p:spPr>
          <a:xfrm>
            <a:off x="-152280" y="1752480"/>
            <a:ext cx="3352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клё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мё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пчёлы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Прямоугольник 5"/>
          <p:cNvSpPr/>
          <p:nvPr/>
        </p:nvSpPr>
        <p:spPr>
          <a:xfrm>
            <a:off x="5715000" y="1752480"/>
            <a:ext cx="3124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64d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ёрш</a:t>
            </a:r>
            <a:br>
              <a:rPr sz="7200"/>
            </a:b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ёлка </a:t>
            </a:r>
            <a:br>
              <a:rPr sz="7200"/>
            </a:br>
            <a:r>
              <a:rPr b="1" lang="ru-RU" sz="7200" spc="-1" strike="noStrike">
                <a:solidFill>
                  <a:srgbClr val="00264d"/>
                </a:solidFill>
                <a:latin typeface="Arial"/>
              </a:rPr>
              <a:t> моё </a:t>
            </a:r>
            <a:br>
              <a:rPr sz="60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4d99"/>
                </a:solidFill>
                <a:latin typeface="Arial"/>
              </a:rPr>
              <a:t>- На уроке я узнал, что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4d99"/>
                </a:solidFill>
                <a:latin typeface="Arial"/>
              </a:rPr>
              <a:t>- Мне понравилось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4d99"/>
                </a:solidFill>
                <a:latin typeface="Arial"/>
              </a:rPr>
              <a:t>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6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64d99"/>
                </a:solidFill>
                <a:latin typeface="Arial"/>
              </a:rPr>
              <a:t>         </a:t>
            </a:r>
            <a:r>
              <a:rPr b="1" lang="ru-RU" sz="4800" spc="-1" strike="noStrike">
                <a:solidFill>
                  <a:srgbClr val="264d99"/>
                </a:solidFill>
                <a:latin typeface="Arial"/>
              </a:rPr>
              <a:t>- Но было трудно 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11" descr="Картинка 1 из 15407"/>
          <p:cNvPicPr/>
          <p:nvPr/>
        </p:nvPicPr>
        <p:blipFill>
          <a:blip r:embed="rId1"/>
          <a:stretch/>
        </p:blipFill>
        <p:spPr>
          <a:xfrm>
            <a:off x="228600" y="4560840"/>
            <a:ext cx="2057400" cy="196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Картинка 1 из 15407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5926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ПАСИБО ЗА УРОК, РЕБЯТА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57200" y="4571640"/>
            <a:ext cx="82296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Картинка 3 из 154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ый треугольник 18"/>
          <p:cNvSpPr/>
          <p:nvPr/>
        </p:nvSpPr>
        <p:spPr>
          <a:xfrm>
            <a:off x="5181480" y="1447920"/>
            <a:ext cx="1067040" cy="45720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ый треугольник 19"/>
          <p:cNvSpPr/>
          <p:nvPr/>
        </p:nvSpPr>
        <p:spPr>
          <a:xfrm rot="10800000">
            <a:off x="5181480" y="1447920"/>
            <a:ext cx="106704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ый треугольник 20"/>
          <p:cNvSpPr/>
          <p:nvPr/>
        </p:nvSpPr>
        <p:spPr>
          <a:xfrm rot="10800000">
            <a:off x="6171840" y="1447920"/>
            <a:ext cx="106668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ый треугольник 21"/>
          <p:cNvSpPr/>
          <p:nvPr/>
        </p:nvSpPr>
        <p:spPr>
          <a:xfrm>
            <a:off x="6248520" y="1447920"/>
            <a:ext cx="1066680" cy="4572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22"/>
          <p:cNvSpPr/>
          <p:nvPr/>
        </p:nvSpPr>
        <p:spPr>
          <a:xfrm>
            <a:off x="7238880" y="1447920"/>
            <a:ext cx="609840" cy="457200"/>
          </a:xfrm>
          <a:prstGeom prst="rect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ый треугольник 23"/>
          <p:cNvSpPr/>
          <p:nvPr/>
        </p:nvSpPr>
        <p:spPr>
          <a:xfrm>
            <a:off x="5791320" y="2514600"/>
            <a:ext cx="1066680" cy="45720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ый треугольник 24"/>
          <p:cNvSpPr/>
          <p:nvPr/>
        </p:nvSpPr>
        <p:spPr>
          <a:xfrm>
            <a:off x="6858000" y="3657600"/>
            <a:ext cx="1066680" cy="45720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ый треугольник 25"/>
          <p:cNvSpPr/>
          <p:nvPr/>
        </p:nvSpPr>
        <p:spPr>
          <a:xfrm>
            <a:off x="6324480" y="4724280"/>
            <a:ext cx="1067040" cy="457200"/>
          </a:xfrm>
          <a:prstGeom prst="rtTriangle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ый треугольник 26"/>
          <p:cNvSpPr/>
          <p:nvPr/>
        </p:nvSpPr>
        <p:spPr>
          <a:xfrm>
            <a:off x="5181480" y="3657600"/>
            <a:ext cx="1067040" cy="4572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ый треугольник 27"/>
          <p:cNvSpPr/>
          <p:nvPr/>
        </p:nvSpPr>
        <p:spPr>
          <a:xfrm>
            <a:off x="5257800" y="4724280"/>
            <a:ext cx="1066680" cy="457200"/>
          </a:xfrm>
          <a:prstGeom prst="rtTriangle">
            <a:avLst/>
          </a:prstGeom>
          <a:solidFill>
            <a:srgbClr val="00b05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ый треугольник 29"/>
          <p:cNvSpPr/>
          <p:nvPr/>
        </p:nvSpPr>
        <p:spPr>
          <a:xfrm rot="10800000">
            <a:off x="5790960" y="2514600"/>
            <a:ext cx="106668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ый треугольник 30"/>
          <p:cNvSpPr/>
          <p:nvPr/>
        </p:nvSpPr>
        <p:spPr>
          <a:xfrm rot="10800000">
            <a:off x="6857640" y="3657600"/>
            <a:ext cx="106668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ый треугольник 31"/>
          <p:cNvSpPr/>
          <p:nvPr/>
        </p:nvSpPr>
        <p:spPr>
          <a:xfrm rot="10800000">
            <a:off x="6324480" y="4724280"/>
            <a:ext cx="106704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ый треугольник 32"/>
          <p:cNvSpPr/>
          <p:nvPr/>
        </p:nvSpPr>
        <p:spPr>
          <a:xfrm rot="10800000">
            <a:off x="5257440" y="4724280"/>
            <a:ext cx="106668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ый треугольник 33"/>
          <p:cNvSpPr/>
          <p:nvPr/>
        </p:nvSpPr>
        <p:spPr>
          <a:xfrm rot="10800000">
            <a:off x="5181480" y="3657600"/>
            <a:ext cx="1067040" cy="45720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4"/>
          <p:cNvSpPr/>
          <p:nvPr/>
        </p:nvSpPr>
        <p:spPr>
          <a:xfrm>
            <a:off x="6858000" y="2514600"/>
            <a:ext cx="609480" cy="457200"/>
          </a:xfrm>
          <a:prstGeom prst="rect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35"/>
          <p:cNvSpPr/>
          <p:nvPr/>
        </p:nvSpPr>
        <p:spPr>
          <a:xfrm>
            <a:off x="5181480" y="2514600"/>
            <a:ext cx="609840" cy="45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36"/>
          <p:cNvSpPr/>
          <p:nvPr/>
        </p:nvSpPr>
        <p:spPr>
          <a:xfrm>
            <a:off x="6248520" y="3657600"/>
            <a:ext cx="609480" cy="457200"/>
          </a:xfrm>
          <a:prstGeom prst="rect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38"/>
          <p:cNvSpPr/>
          <p:nvPr/>
        </p:nvSpPr>
        <p:spPr>
          <a:xfrm>
            <a:off x="7391520" y="4724280"/>
            <a:ext cx="609480" cy="457200"/>
          </a:xfrm>
          <a:prstGeom prst="rect">
            <a:avLst/>
          </a:prstGeom>
          <a:solidFill>
            <a:srgbClr val="0070c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7"/>
          <p:cNvSpPr/>
          <p:nvPr/>
        </p:nvSpPr>
        <p:spPr>
          <a:xfrm>
            <a:off x="6248520" y="1219320"/>
            <a:ext cx="0" cy="9144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41"/>
          <p:cNvSpPr/>
          <p:nvPr/>
        </p:nvSpPr>
        <p:spPr>
          <a:xfrm>
            <a:off x="6324480" y="4495680"/>
            <a:ext cx="0" cy="9144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42"/>
          <p:cNvSpPr/>
          <p:nvPr/>
        </p:nvSpPr>
        <p:spPr>
          <a:xfrm>
            <a:off x="6858000" y="3429000"/>
            <a:ext cx="0" cy="9144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44"/>
          <p:cNvSpPr/>
          <p:nvPr/>
        </p:nvSpPr>
        <p:spPr>
          <a:xfrm>
            <a:off x="5791320" y="2286000"/>
            <a:ext cx="0" cy="9144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46"/>
          <p:cNvSpPr/>
          <p:nvPr/>
        </p:nvSpPr>
        <p:spPr>
          <a:xfrm flipH="1">
            <a:off x="5867280" y="1143000"/>
            <a:ext cx="152640" cy="2286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54"/>
          <p:cNvSpPr/>
          <p:nvPr/>
        </p:nvSpPr>
        <p:spPr>
          <a:xfrm flipH="1">
            <a:off x="5867280" y="4419720"/>
            <a:ext cx="152640" cy="2286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55"/>
          <p:cNvSpPr/>
          <p:nvPr/>
        </p:nvSpPr>
        <p:spPr>
          <a:xfrm flipH="1">
            <a:off x="7467480" y="3352680"/>
            <a:ext cx="152640" cy="2286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56"/>
          <p:cNvSpPr/>
          <p:nvPr/>
        </p:nvSpPr>
        <p:spPr>
          <a:xfrm flipH="1">
            <a:off x="6553080" y="2133720"/>
            <a:ext cx="152640" cy="228600"/>
          </a:xfrm>
          <a:prstGeom prst="line">
            <a:avLst/>
          </a:prstGeom>
          <a:ln w="38160">
            <a:solidFill>
              <a:srgbClr val="001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2" descr="Картинка 1 из 15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905120"/>
            <a:ext cx="3695760" cy="2971800"/>
          </a:xfrm>
          <a:prstGeom prst="rect">
            <a:avLst/>
          </a:prstGeom>
          <a:ln w="0">
            <a:noFill/>
          </a:ln>
        </p:spPr>
      </p:pic>
      <p:sp>
        <p:nvSpPr>
          <p:cNvPr id="142" name="Стрелка вправо 37"/>
          <p:cNvSpPr/>
          <p:nvPr/>
        </p:nvSpPr>
        <p:spPr>
          <a:xfrm rot="1551600">
            <a:off x="4005360" y="4441320"/>
            <a:ext cx="12603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9360">
            <a:solidFill>
              <a:srgbClr val="37ff3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400"/>
                </a:solidFill>
                <a:latin typeface="Arial"/>
              </a:rPr>
              <a:t>Зарядка для глаз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3352680" y="3124080"/>
            <a:ext cx="521352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Овал 3"/>
          <p:cNvSpPr/>
          <p:nvPr/>
        </p:nvSpPr>
        <p:spPr>
          <a:xfrm>
            <a:off x="7143840" y="21420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500040" y="5072040"/>
            <a:ext cx="1428840" cy="14144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Блок-схема: извлечение 7"/>
          <p:cNvSpPr/>
          <p:nvPr/>
        </p:nvSpPr>
        <p:spPr>
          <a:xfrm>
            <a:off x="285840" y="142920"/>
            <a:ext cx="1428840" cy="121428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Улыбающееся лицо 8"/>
          <p:cNvSpPr/>
          <p:nvPr/>
        </p:nvSpPr>
        <p:spPr>
          <a:xfrm>
            <a:off x="7500960" y="5286240"/>
            <a:ext cx="150012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1" descr="Картинка 1 из 154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8280" y="281160"/>
            <a:ext cx="138420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22222E-006 L 0.75608 -0.69306 E">
                                      <p:cBhvr>
                                        <p:cTn id="2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6.2963E-006 L -0.75608 0.69305 E">
                                      <p:cBhvr>
                                        <p:cTn id="2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L -0.8033 -0.74537 E">
                                      <p:cBhvr>
                                        <p:cTn id="28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0.7875 0.7456 E">
                                      <p:cBhvr>
                                        <p:cTn id="3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Овал 3"/>
          <p:cNvSpPr/>
          <p:nvPr/>
        </p:nvSpPr>
        <p:spPr>
          <a:xfrm>
            <a:off x="214200" y="5000760"/>
            <a:ext cx="1785960" cy="164304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7358040" y="285840"/>
            <a:ext cx="1428840" cy="1414440"/>
          </a:xfrm>
          <a:prstGeom prst="rect">
            <a:avLst/>
          </a:prstGeom>
          <a:solidFill>
            <a:srgbClr val="3366cc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Блок-схема: извлечение 7"/>
          <p:cNvSpPr/>
          <p:nvPr/>
        </p:nvSpPr>
        <p:spPr>
          <a:xfrm>
            <a:off x="7572240" y="5286240"/>
            <a:ext cx="1428840" cy="1214640"/>
          </a:xfrm>
          <a:prstGeom prst="flowChartExtract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Улыбающееся лицо 8"/>
          <p:cNvSpPr/>
          <p:nvPr/>
        </p:nvSpPr>
        <p:spPr>
          <a:xfrm>
            <a:off x="214200" y="214200"/>
            <a:ext cx="1500480" cy="1428840"/>
          </a:xfrm>
          <a:prstGeom prst="smileyFace">
            <a:avLst>
              <a:gd name="adj" fmla="val 9282"/>
            </a:avLst>
          </a:prstGeom>
          <a:solidFill>
            <a:srgbClr val="c000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L 0.77969 1.11111E-006 E">
                                      <p:cBhvr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2 0.73518 E">
                                      <p:cBhvr>
                                        <p:cTn id="4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945E-018 L -0.7875 -0.01042 E">
                                      <p:cBhvr>
                                        <p:cTn id="4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81481E-006 L -0.0158 -0.71412 E">
                                      <p:cBhvr>
                                        <p:cTn id="5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5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Овал 3"/>
          <p:cNvSpPr/>
          <p:nvPr/>
        </p:nvSpPr>
        <p:spPr>
          <a:xfrm>
            <a:off x="0" y="0"/>
            <a:ext cx="9144000" cy="6858000"/>
          </a:xfrm>
          <a:prstGeom prst="ellipse">
            <a:avLst/>
          </a:prstGeom>
          <a:solidFill>
            <a:srgbClr val="e9e9e9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Овал 4"/>
          <p:cNvSpPr/>
          <p:nvPr/>
        </p:nvSpPr>
        <p:spPr>
          <a:xfrm>
            <a:off x="1214280" y="3000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2349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-2.5E-006 0.09791 0.07466 0.1787 0.1658 0.1787 C 0.27292 0.1787 0.31181 0.08935 0.32813 0.03564 L 0.34497 -0.03565 C 0.36181 -0.08936 0.40295 -0.17824 0.52413 -0.17824 C 0.60191 -0.17824 0.69028 -0.09792 0.69028 3.33333E-006 C 0.69028 0.09791 0.60191 0.1787 0.52413 0.1787 C 0.40295 0.1787 0.36181 0.08935 0.34497 0.03564 L 0.32813 -0.03565 C 0.31181 -0.08936 0.27292 -0.17824 0.1658 -0.17824 C 0.07466 -0.17824 -2.5E-006 -0.09792 -2.5E-006 3.33333E-006 Z">
                                      <p:cBhvr>
                                        <p:cTn id="6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школа6</cp:lastModifiedBy>
  <dcterms:modified xsi:type="dcterms:W3CDTF">2017-11-28T04:40:17Z</dcterms:modified>
  <cp:revision>91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