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135-9138-475F-88DC-93D9C677C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8C9C-B833-4BA6-BA75-72E0AEAE11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2A00-0937-4BA7-A6AD-54FFD6C8FA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8ADC-C910-4BD8-9FA7-3B07955CAA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B870-5FDF-4410-8C48-454E327BE7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4AE-F09A-4742-A17A-E81C2091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2B8-F4CB-4740-B7F5-59ACB81B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B35-7515-4D32-A700-24B738FA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E9E-B9BD-43BE-BABF-1A8E5DD0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A764-DBE1-4C13-82A1-F515159E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251A-AA6E-4A83-986C-52A47C27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FABB-98D5-453A-A261-74257ABB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4539-1611-4963-8B0E-C8A52CBE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8AA8-ABF9-4EBA-AC48-BF5125CC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1580-0B57-4592-9EF4-A1D65548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AAFD-86C3-45F5-992A-E8AB7D8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509-EF7A-4302-8236-7A7E9968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2AC9-542D-4BCF-9BB7-B4C789C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6677-58DC-4D74-9640-CA56FA2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5A66-914A-4DFA-A2D7-0FD6A441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4BB0-F40E-499C-8008-BC5EC8FA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E60-792F-48E9-AB63-8AECC06E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C49-54AE-4DCF-A51B-04F2E62F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914-0F41-4193-BEF4-DBE5E16E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828-358D-465D-880E-C8E6D89D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F34-DC3B-43D1-9997-7A701CDF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F43-0E44-42D7-9BE0-DBE7C8E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2F2-775D-412D-8EEA-594AD0C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3B2-2939-4E75-B83B-600DC6CF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5675-C513-46BB-82A5-E129F224590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0BA9-4520-450D-A4F8-3CB6A943F20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good_178_1.jpg"/>
          <p:cNvPicPr/>
          <p:nvPr/>
        </p:nvPicPr>
        <p:blipFill>
          <a:blip r:embed="rId1"/>
          <a:stretch/>
        </p:blipFill>
        <p:spPr>
          <a:xfrm>
            <a:off x="428760" y="4929120"/>
            <a:ext cx="2286000" cy="1714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3" name="Рисунок 9" descr="eda_5.jpg"/>
          <p:cNvPicPr/>
          <p:nvPr/>
        </p:nvPicPr>
        <p:blipFill>
          <a:blip r:embed="rId2"/>
          <a:stretch/>
        </p:blipFill>
        <p:spPr>
          <a:xfrm>
            <a:off x="5214960" y="1714680"/>
            <a:ext cx="3718080" cy="2809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4" name="Рисунок 10" descr="iCAT97YUH.jpg"/>
          <p:cNvPicPr/>
          <p:nvPr/>
        </p:nvPicPr>
        <p:blipFill>
          <a:blip r:embed="rId3"/>
          <a:stretch/>
        </p:blipFill>
        <p:spPr>
          <a:xfrm>
            <a:off x="357120" y="1143000"/>
            <a:ext cx="1397160" cy="16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000160" y="16466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ки, жиры и углеводы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йдут века, эпохи, годы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 вам мы прикованы на век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 вас немыслим человек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7" descr="fruits.jpg"/>
          <p:cNvPicPr/>
          <p:nvPr/>
        </p:nvPicPr>
        <p:blipFill>
          <a:blip r:embed="rId4"/>
          <a:stretch/>
        </p:blipFill>
        <p:spPr>
          <a:xfrm>
            <a:off x="7143840" y="214200"/>
            <a:ext cx="1762200" cy="13334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7" name="Рисунок 8" descr="63.jpg"/>
          <p:cNvPicPr/>
          <p:nvPr/>
        </p:nvPicPr>
        <p:blipFill>
          <a:blip r:embed="rId5"/>
          <a:stretch/>
        </p:blipFill>
        <p:spPr>
          <a:xfrm>
            <a:off x="3000240" y="2714760"/>
            <a:ext cx="1924200" cy="2171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8" name="Рисунок 10" descr="fruktu3.jpg"/>
          <p:cNvPicPr/>
          <p:nvPr/>
        </p:nvPicPr>
        <p:blipFill>
          <a:blip r:embed="rId6"/>
          <a:stretch/>
        </p:blipFill>
        <p:spPr>
          <a:xfrm>
            <a:off x="357120" y="3000240"/>
            <a:ext cx="2381400" cy="1791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9" name="Рисунок 14" descr="med.jpg"/>
          <p:cNvPicPr/>
          <p:nvPr/>
        </p:nvPicPr>
        <p:blipFill>
          <a:blip r:embed="rId7"/>
          <a:stretch/>
        </p:blipFill>
        <p:spPr>
          <a:xfrm>
            <a:off x="3000240" y="5000760"/>
            <a:ext cx="2032200" cy="1685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017960" cy="3013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4500720" y="785880"/>
            <a:ext cx="4257360" cy="2838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3"/>
          <a:stretch/>
        </p:blipFill>
        <p:spPr>
          <a:xfrm>
            <a:off x="642960" y="3929040"/>
            <a:ext cx="5000760" cy="1865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Админ\Pictures\dizygotheca-elegantissima.jpg"/>
          <p:cNvPicPr/>
          <p:nvPr/>
        </p:nvPicPr>
        <p:blipFill>
          <a:blip r:embed="rId4"/>
          <a:stretch/>
        </p:blipFill>
        <p:spPr>
          <a:xfrm>
            <a:off x="5857920" y="3863880"/>
            <a:ext cx="2712960" cy="2994120"/>
          </a:xfrm>
          <a:prstGeom prst="rect">
            <a:avLst/>
          </a:prstGeom>
          <a:ln w="38160">
            <a:solidFill>
              <a:srgbClr val="004e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6719760" cy="4907160"/>
        </p:xfrm>
        <a:graphic>
          <a:graphicData uri="http://schemas.openxmlformats.org/drawingml/2006/table">
            <a:tbl>
              <a:tblPr/>
              <a:tblGrid>
                <a:gridCol w="6719760"/>
              </a:tblGrid>
              <a:tr h="4909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ты, придя с мороз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ваешь крепкий ча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енько сахарозу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чашке ложкой помеша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ноградную глюк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едовую фруктозу, |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олочную лакт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ят взрослый и малыш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 крахмалом и клетчатко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совсем-совсем несладки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же нас не удивишь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 устроена природа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тоже углеводы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Ж. Цобкал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341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Ответить на вопрос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именение в быту углевод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животные могут переваривать целлюлозу, а человек не может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 бумага  более предпочтительна для   жирных продуктов: масла, маргарина.  Почему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фриканские племена, индейцы, корейцы и китайцы довольно часто употребляют в пищу насекомых. Есть ли смысл в употреблении такой пищи? Почему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Разберите жизненные ситуации с точки зрения химии.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которые из модных сейчас пищевых добавок содержат пищевые волокна из целлюлозы.  Объясните с точки зрения химии, почему пища, содержащая пищевые волокна, создает ощущение сытости, хотя содержит мало калори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хлебная мякоть ноздреватая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связь между клубнями картофеля и автопокрышкой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Химик не такой должен быть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оторый дальше дыму и пеплу ничего не видит, а такой, который на основании опытных данных может делать теоретические выводы».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Михаил Васильевич Ломоносов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br>
              <a:rPr sz="4500"/>
            </a:b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Какие  продукты  содержат  и богаты  углеводами?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2" name="Содержимое 12" descr="конфеты3.jpg"/>
          <p:cNvPicPr/>
          <p:nvPr/>
        </p:nvPicPr>
        <p:blipFill>
          <a:blip r:embed="rId1"/>
          <a:stretch/>
        </p:blipFill>
        <p:spPr>
          <a:xfrm>
            <a:off x="3143160" y="2143080"/>
            <a:ext cx="221472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3" name="Рисунок 4" descr="кешью.jpg"/>
          <p:cNvPicPr/>
          <p:nvPr/>
        </p:nvPicPr>
        <p:blipFill>
          <a:blip r:embed="rId2"/>
          <a:stretch/>
        </p:blipFill>
        <p:spPr>
          <a:xfrm>
            <a:off x="357120" y="3357720"/>
            <a:ext cx="180972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4" name="Рисунок 5" descr="banany.jpg"/>
          <p:cNvPicPr/>
          <p:nvPr/>
        </p:nvPicPr>
        <p:blipFill>
          <a:blip r:embed="rId3"/>
          <a:stretch/>
        </p:blipFill>
        <p:spPr>
          <a:xfrm>
            <a:off x="6858000" y="4357800"/>
            <a:ext cx="185724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5" name="Рисунок 6" descr="baton_nar_1_mini.jpg"/>
          <p:cNvPicPr/>
          <p:nvPr/>
        </p:nvPicPr>
        <p:blipFill>
          <a:blip r:embed="rId4"/>
          <a:stretch/>
        </p:blipFill>
        <p:spPr>
          <a:xfrm>
            <a:off x="5572080" y="2000160"/>
            <a:ext cx="1714680" cy="16430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6" name="Рисунок 8" descr="кешью 2.jpg"/>
          <p:cNvPicPr/>
          <p:nvPr/>
        </p:nvPicPr>
        <p:blipFill>
          <a:blip r:embed="rId5"/>
          <a:stretch/>
        </p:blipFill>
        <p:spPr>
          <a:xfrm>
            <a:off x="1571760" y="1714680"/>
            <a:ext cx="1428480" cy="14284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7" name="Рисунок 9" descr="бананы жёлт.jpg"/>
          <p:cNvPicPr/>
          <p:nvPr/>
        </p:nvPicPr>
        <p:blipFill>
          <a:blip r:embed="rId6"/>
          <a:stretch/>
        </p:blipFill>
        <p:spPr>
          <a:xfrm>
            <a:off x="2357280" y="4286160"/>
            <a:ext cx="1739880" cy="1841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8" name="Рисунок 10" descr="натюрморт.jpg"/>
          <p:cNvPicPr/>
          <p:nvPr/>
        </p:nvPicPr>
        <p:blipFill>
          <a:blip r:embed="rId7"/>
          <a:stretch/>
        </p:blipFill>
        <p:spPr>
          <a:xfrm>
            <a:off x="7500960" y="1571760"/>
            <a:ext cx="1357200" cy="20714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9" name="Рисунок 13" descr="конфеты 2.jpg"/>
          <p:cNvPicPr/>
          <p:nvPr/>
        </p:nvPicPr>
        <p:blipFill>
          <a:blip r:embed="rId8"/>
          <a:stretch/>
        </p:blipFill>
        <p:spPr>
          <a:xfrm>
            <a:off x="357120" y="4572000"/>
            <a:ext cx="1571760" cy="20001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0" name="Рисунок 14" descr="конфеты.jpg"/>
          <p:cNvPicPr/>
          <p:nvPr/>
        </p:nvPicPr>
        <p:blipFill>
          <a:blip r:embed="rId9"/>
          <a:stretch/>
        </p:blipFill>
        <p:spPr>
          <a:xfrm>
            <a:off x="285840" y="1928880"/>
            <a:ext cx="106668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1" name="Рисунок 15" descr="шоколад.jpg"/>
          <p:cNvPicPr/>
          <p:nvPr/>
        </p:nvPicPr>
        <p:blipFill>
          <a:blip r:embed="rId10"/>
          <a:stretch/>
        </p:blipFill>
        <p:spPr>
          <a:xfrm>
            <a:off x="4357800" y="4214880"/>
            <a:ext cx="2071440" cy="23572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55640" y="1325520"/>
          <a:ext cx="7488360" cy="406404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4064040">
                <a:tc>
                  <a:txBody>
                    <a:bodyPr lIns="110520" rIns="110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чему растения имеют зеленый цв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такое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ую роль играют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то является поставщиков СО2 для фотосинтез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 в растениях называют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«фабрикой» или ( «Зеленой лабораторией»)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поглощения энергии солнечного света и образования органических веществ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ой вывод можно сделать о фотосинтез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ие образуются в процессе фотосинтеза органические веще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дальше с этими веществами происходи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68360" y="1052640"/>
            <a:ext cx="79200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ая главная реакция планеты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С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6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=   С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6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Общая формула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5" name="Прямоугольник 8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8401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Классификация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7" name="Прямоугольник 13" descr=""/>
          <p:cNvPicPr/>
          <p:nvPr/>
        </p:nvPicPr>
        <p:blipFill>
          <a:blip r:embed="rId1"/>
          <a:stretch/>
        </p:blipFill>
        <p:spPr>
          <a:xfrm>
            <a:off x="2968560" y="853920"/>
            <a:ext cx="3183120" cy="871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8" descr=""/>
          <p:cNvPicPr/>
          <p:nvPr/>
        </p:nvPicPr>
        <p:blipFill>
          <a:blip r:embed="rId2"/>
          <a:stretch/>
        </p:blipFill>
        <p:spPr>
          <a:xfrm>
            <a:off x="5821200" y="2365200"/>
            <a:ext cx="3127680" cy="5907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31" descr=""/>
          <p:cNvPicPr/>
          <p:nvPr/>
        </p:nvPicPr>
        <p:blipFill>
          <a:blip r:embed="rId3"/>
          <a:stretch/>
        </p:blipFill>
        <p:spPr>
          <a:xfrm>
            <a:off x="3176640" y="2365200"/>
            <a:ext cx="2693880" cy="5907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32" descr=""/>
          <p:cNvPicPr/>
          <p:nvPr/>
        </p:nvPicPr>
        <p:blipFill>
          <a:blip r:embed="rId4"/>
          <a:stretch/>
        </p:blipFill>
        <p:spPr>
          <a:xfrm>
            <a:off x="109440" y="2365200"/>
            <a:ext cx="3151440" cy="590760"/>
          </a:xfrm>
          <a:prstGeom prst="rect">
            <a:avLst/>
          </a:prstGeom>
          <a:ln w="0">
            <a:noFill/>
          </a:ln>
        </p:spPr>
      </p:pic>
      <p:cxnSp>
        <p:nvCxnSpPr>
          <p:cNvPr id="131" name="Прямая со стрелкой 36"/>
          <p:cNvCxnSpPr/>
          <p:nvPr/>
        </p:nvCxnSpPr>
        <p:spPr>
          <a:xfrm>
            <a:off x="4572000" y="1714680"/>
            <a:ext cx="282312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Прямая со стрелкой 39"/>
          <p:cNvCxnSpPr>
            <a:stCxn id="127" idx="2"/>
          </p:cNvCxnSpPr>
          <p:nvPr/>
        </p:nvCxnSpPr>
        <p:spPr>
          <a:xfrm flipH="1">
            <a:off x="4523760" y="1725120"/>
            <a:ext cx="3708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" name="Прямая со стрелкой 43"/>
          <p:cNvCxnSpPr>
            <a:stCxn id="127" idx="2"/>
          </p:cNvCxnSpPr>
          <p:nvPr/>
        </p:nvCxnSpPr>
        <p:spPr>
          <a:xfrm flipH="1">
            <a:off x="1685880" y="1725120"/>
            <a:ext cx="287532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Функции углеводов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Picture 2" descr="C:\Users\ЕГЭ 2019\Desktop\image_5e9eb2f41f2fe.png"/>
          <p:cNvPicPr/>
          <p:nvPr/>
        </p:nvPicPr>
        <p:blipFill>
          <a:blip r:embed="rId1"/>
          <a:stretch/>
        </p:blipFill>
        <p:spPr>
          <a:xfrm>
            <a:off x="571680" y="2071800"/>
            <a:ext cx="2709720" cy="332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Админ\Pictures\kartoshka.jpg"/>
          <p:cNvPicPr/>
          <p:nvPr/>
        </p:nvPicPr>
        <p:blipFill>
          <a:blip r:embed="rId2"/>
          <a:stretch/>
        </p:blipFill>
        <p:spPr>
          <a:xfrm>
            <a:off x="3571920" y="1928880"/>
            <a:ext cx="2962080" cy="2962080"/>
          </a:xfrm>
          <a:prstGeom prst="rect">
            <a:avLst/>
          </a:prstGeom>
          <a:ln w="38160">
            <a:solidFill>
              <a:srgbClr val="546422"/>
            </a:solidFill>
            <a:miter/>
          </a:ln>
        </p:spPr>
      </p:pic>
      <p:pic>
        <p:nvPicPr>
          <p:cNvPr id="137" name="Рисунок 2" descr=""/>
          <p:cNvPicPr/>
          <p:nvPr/>
        </p:nvPicPr>
        <p:blipFill>
          <a:blip r:embed="rId3"/>
          <a:srcRect l="0" t="0" r="-107" b="30680"/>
          <a:stretch/>
        </p:blipFill>
        <p:spPr>
          <a:xfrm>
            <a:off x="5643720" y="4786200"/>
            <a:ext cx="2682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7" descr="гликоген 7.jpg"/>
          <p:cNvPicPr/>
          <p:nvPr/>
        </p:nvPicPr>
        <p:blipFill>
          <a:blip r:embed="rId1"/>
          <a:stretch/>
        </p:blipFill>
        <p:spPr>
          <a:xfrm>
            <a:off x="500040" y="642960"/>
            <a:ext cx="2428920" cy="1714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39" name="Picture 3" descr="C:\Users\Админ\Pictures\75805884_twostriped_grasshopper.jpg"/>
          <p:cNvPicPr/>
          <p:nvPr/>
        </p:nvPicPr>
        <p:blipFill>
          <a:blip r:embed="rId2"/>
          <a:stretch/>
        </p:blipFill>
        <p:spPr>
          <a:xfrm>
            <a:off x="3071880" y="642960"/>
            <a:ext cx="2819160" cy="2914560"/>
          </a:xfrm>
          <a:prstGeom prst="rect">
            <a:avLst/>
          </a:prstGeom>
          <a:ln w="28440">
            <a:solidFill>
              <a:srgbClr val="546422"/>
            </a:solidFill>
            <a:miter/>
          </a:ln>
        </p:spPr>
      </p:pic>
      <p:pic>
        <p:nvPicPr>
          <p:cNvPr id="140" name="Picture 2" descr="C:\Users\ЕГЭ 2019\Desktop\474920.jpg"/>
          <p:cNvPicPr/>
          <p:nvPr/>
        </p:nvPicPr>
        <p:blipFill>
          <a:blip r:embed="rId3"/>
          <a:stretch/>
        </p:blipFill>
        <p:spPr>
          <a:xfrm>
            <a:off x="6500880" y="642960"/>
            <a:ext cx="1781280" cy="31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upload.wikimedia.org/wikipedia/commons/6/6e/Natural_gum_of_plum_tree_01.jpg"/>
          <p:cNvPicPr/>
          <p:nvPr/>
        </p:nvPicPr>
        <p:blipFill>
          <a:blip r:embed="rId4"/>
          <a:stretch/>
        </p:blipFill>
        <p:spPr>
          <a:xfrm>
            <a:off x="785880" y="3571920"/>
            <a:ext cx="363204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5"/>
          <a:stretch/>
        </p:blipFill>
        <p:spPr>
          <a:xfrm>
            <a:off x="4643280" y="3857760"/>
            <a:ext cx="361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2:52Z</dcterms:created>
  <dc:creator>1</dc:creator>
  <dc:description/>
  <dc:language>en-US</dc:language>
  <cp:lastModifiedBy>USER</cp:lastModifiedBy>
  <dcterms:modified xsi:type="dcterms:W3CDTF">2021-02-26T12:00:17Z</dcterms:modified>
  <cp:revision>250</cp:revision>
  <dc:subject/>
  <dc:title>Слайд 1</dc:title>
</cp:coreProperties>
</file>