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5.png" ContentType="image/png"/>
  <Override PartName="/ppt/media/image2.gif" ContentType="image/gif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8.png" ContentType="image/png"/>
  <Override PartName="/ppt/media/image5.gif" ContentType="image/gif"/>
  <Override PartName="/ppt/media/image14.jpeg" ContentType="image/jpeg"/>
  <Override PartName="/ppt/media/image9.png" ContentType="image/png"/>
  <Override PartName="/ppt/media/image34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26.png" ContentType="image/png"/>
  <Override PartName="/ppt/media/image3.gif" ContentType="image/gif"/>
  <Override PartName="/ppt/media/image32.png" ContentType="image/png"/>
  <Override PartName="/ppt/media/image33.png" ContentType="image/png"/>
  <Override PartName="/ppt/media/image40.gif" ContentType="image/gif"/>
  <Override PartName="/ppt/media/image35.png" ContentType="image/png"/>
  <Override PartName="/ppt/media/image43.jpeg" ContentType="image/jpeg"/>
  <Override PartName="/ppt/media/image38.wmf" ContentType="image/x-wmf"/>
  <Override PartName="/ppt/media/image41.png" ContentType="image/png"/>
  <Override PartName="/ppt/media/image13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39.gif" ContentType="image/gif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9436-77B7-4DF6-840F-6771755581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F178-DA8D-46A3-957B-7BF5E6ECE7C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4E42-6611-4CF1-AD20-7BC514F7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2B5-37F4-4A26-B4B1-E0475ACB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8D3-152D-4729-97D8-FCD41A5A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2F9-9643-43CE-BBF3-157B6DAF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BF5-3BDE-4C51-9475-E091630B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5F3-A285-4AE5-B270-B17E98B6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E2B-7C14-4203-9107-BF7C79E8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99F-9E86-4880-B087-E7B33BA4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CD7-94A4-4AF8-87D0-866ACB18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509-2B8F-4450-A9A0-DF1D35A7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224F-0F2D-4688-A898-BB13D141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18B-3A03-467D-87D6-7C4685A5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7043-6B7A-4210-B82F-62CC66CDF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2.rimg.info/341c989da7afb517c32a2cd70d5b6ac3.gif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antasyflash.ru/anime/milash/image/milash14.gif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10.rimg.info/984fc9b4c56cd48ed161ae440439614a.gif" TargetMode="Externa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ifpark.ru/Gifs/ANIMALS/Ins09.gif" TargetMode="External"/><Relationship Id="rId3" Type="http://schemas.openxmlformats.org/officeDocument/2006/relationships/image" Target="../media/image5.gif"/><Relationship Id="rId4" Type="http://schemas.openxmlformats.org/officeDocument/2006/relationships/hyperlink" Target="http://www.gifpark.ru/Gifs/ANIMALS/Ins09.gif" TargetMode="External"/><Relationship Id="rId5" Type="http://schemas.openxmlformats.org/officeDocument/2006/relationships/image" Target="../media/image5.gif"/><Relationship Id="rId6" Type="http://schemas.openxmlformats.org/officeDocument/2006/relationships/hyperlink" Target="http://www.gifpark.ru/Gifs/ANIMALS/Ins09.gif" TargetMode="Externa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972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Внеклассное мероприятие для учащихся 5 класса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«Математический КВН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итель математики высшей категории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арковенко Лидия Евгеньевна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У СОШ п. Арчаглы - Аят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арненский район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елябин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1.   Какие числа употребляются при сче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56800" y="1600200"/>
            <a:ext cx="782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Природ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Естествен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Натураль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Искусств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8ce0f41d0210[1]"/>
          <p:cNvPicPr/>
          <p:nvPr/>
        </p:nvPicPr>
        <p:blipFill>
          <a:blip r:embed="rId2"/>
          <a:stretch/>
        </p:blipFill>
        <p:spPr>
          <a:xfrm>
            <a:off x="179280" y="4653000"/>
            <a:ext cx="1616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2.  Какой «дробный» член есть в футбольной команд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1424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уврата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узащитн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утрен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унападаю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8ce0f41d0210[1]"/>
          <p:cNvPicPr/>
          <p:nvPr/>
        </p:nvPicPr>
        <p:blipFill>
          <a:blip r:embed="rId2"/>
          <a:stretch/>
        </p:blipFill>
        <p:spPr>
          <a:xfrm>
            <a:off x="324000" y="4986360"/>
            <a:ext cx="1616040" cy="187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6072120" y="2786040"/>
            <a:ext cx="28576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3.  Какими бывают современные фотоаппара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4280" y="1500120"/>
            <a:ext cx="761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ифро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исло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рмуль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роб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8ce0f41d0210[1]"/>
          <p:cNvPicPr/>
          <p:nvPr/>
        </p:nvPicPr>
        <p:blipFill>
          <a:blip r:embed="rId2"/>
          <a:stretch/>
        </p:blipFill>
        <p:spPr>
          <a:xfrm>
            <a:off x="324000" y="4724280"/>
            <a:ext cx="161604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5572080" y="2714760"/>
            <a:ext cx="3306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5. Что иногда производят с персоналом предприят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прощ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ведение подобных член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кращ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несение за скоб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8ce0f41d0210[1]"/>
          <p:cNvPicPr/>
          <p:nvPr/>
        </p:nvPicPr>
        <p:blipFill>
          <a:blip r:embed="rId2"/>
          <a:stretch/>
        </p:blipFill>
        <p:spPr>
          <a:xfrm>
            <a:off x="395280" y="4724280"/>
            <a:ext cx="1616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4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6.  Какая геометрическая фигура «подрабатывает» в цирке гимнастическим снаряд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35280" y="2492280"/>
            <a:ext cx="68515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ямоугольн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мб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апе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8ce0f41d0210[1]"/>
          <p:cNvPicPr/>
          <p:nvPr/>
        </p:nvPicPr>
        <p:blipFill>
          <a:blip r:embed="rId2"/>
          <a:stretch/>
        </p:blipFill>
        <p:spPr>
          <a:xfrm>
            <a:off x="324000" y="4724280"/>
            <a:ext cx="1616040" cy="1871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3"/>
          <a:stretch/>
        </p:blipFill>
        <p:spPr>
          <a:xfrm>
            <a:off x="6732720" y="2349360"/>
            <a:ext cx="15350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8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7.  Что напоминает геометрическое тело, называющееся то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71440" y="1999800"/>
            <a:ext cx="627516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убл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гал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енд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8ce0f41d0210[1]"/>
          <p:cNvPicPr/>
          <p:nvPr/>
        </p:nvPicPr>
        <p:blipFill>
          <a:blip r:embed="rId2"/>
          <a:stretch/>
        </p:blipFill>
        <p:spPr>
          <a:xfrm>
            <a:off x="324000" y="4986360"/>
            <a:ext cx="1616040" cy="187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5786280" y="1571760"/>
            <a:ext cx="24768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1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8. Как называется плотная шерстяная ткань с наклонным рубчик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71400" y="2214720"/>
            <a:ext cx="677844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ипотену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иссектри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диа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иагона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8ce0f41d0210[1]"/>
          <p:cNvPicPr/>
          <p:nvPr/>
        </p:nvPicPr>
        <p:blipFill>
          <a:blip r:embed="rId2"/>
          <a:stretch/>
        </p:blipFill>
        <p:spPr>
          <a:xfrm>
            <a:off x="324000" y="4724280"/>
            <a:ext cx="1616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5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9.  Какой результат арифметического действия является сладким на вку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ум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тат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аст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286080" y="307188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Выра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«Остатки слад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9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0.  Какая из этих геометрических фигур дала название болезни и кости руки челове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ям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у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рез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ма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071880" y="242892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Лучевая болез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лучевая 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11.  Как заканчивается известная пословица «Ясно, как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ижды тр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ажды д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ятью п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естью ш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8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3" descr="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1763280" y="1989000"/>
            <a:ext cx="5535720" cy="420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403280" y="333360"/>
            <a:ext cx="684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Игра «Сколько?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.Как ещё можно назвать многоугольни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Полигон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Плац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Казарм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Блиндаж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8ce0f41d0210[1]"/>
          <p:cNvPicPr/>
          <p:nvPr/>
        </p:nvPicPr>
        <p:blipFill>
          <a:blip r:embed="rId2"/>
          <a:stretch/>
        </p:blipFill>
        <p:spPr>
          <a:xfrm>
            <a:off x="324000" y="4653000"/>
            <a:ext cx="1616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2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239760" y="1071720"/>
            <a:ext cx="70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д, баба, внучка, Жучка, кошка и мышка тянули-тяну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пку и, наконец, вытянули. Сколько глаз смотрело на репку?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7219080" y="928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317520" y="1714680"/>
            <a:ext cx="652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Бабушка вязала внукам шарфы и варежки. Всего 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язала 3 шарфа и 6 варежек. Сколько внуков у бабушк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6789600" y="1714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285840" y="2428920"/>
            <a:ext cx="645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Сестре 4 года, брату 6 лет. Сколько лет будет брат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сестре исполнится 6 лет?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728964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312840" y="3143160"/>
            <a:ext cx="76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Около столовой, где обедали лыжники стояли 20 лыж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в снег было воткнуто 20 палок. Сколько лыжников ходило в поход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6790680" y="2928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303840" y="3786120"/>
            <a:ext cx="45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Кузнец подковал тройку лошад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олько подков пришлось ему сделать?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4861800" y="3786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304560" y="4429080"/>
            <a:ext cx="637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Стоит в поле дуб. На дубе 3 ветки. На каждой вет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3 яблока. Сколько всего ябло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6718320" y="4500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314640" y="5072040"/>
            <a:ext cx="64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В колесе 8 спиц. Сколько между ними промежутко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7361280" y="4857840"/>
            <a:ext cx="40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396360" y="5516640"/>
            <a:ext cx="76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исаны все числа от 1 до 99. Сколько раз написана цифра 5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7813440" y="5661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6560" y="5824440"/>
            <a:ext cx="58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 Ты, да, я, да мы с тобой. Сколько нас всег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360" y="584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7" descr="7dp4xd"/>
          <p:cNvPicPr/>
          <p:nvPr/>
        </p:nvPicPr>
        <p:blipFill>
          <a:blip r:embed="rId2"/>
          <a:stretch/>
        </p:blipFill>
        <p:spPr>
          <a:xfrm>
            <a:off x="0" y="2071800"/>
            <a:ext cx="2714760" cy="33084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онкурс «Знайк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3"/>
          <a:stretch/>
        </p:blipFill>
        <p:spPr>
          <a:xfrm>
            <a:off x="5786280" y="1714680"/>
            <a:ext cx="2232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030488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71360" y="428400"/>
            <a:ext cx="74293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цифр нужно использовать, чтобы написать чис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Назовите пять дней подряд, не произнося числа, месяцы, дни не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личина, которая характеризует быстроту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Математическая эстафе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57760" y="1714320"/>
            <a:ext cx="528624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Новый ту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усть всякий зн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Кто же лучше вычисля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не задачки прочит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Вам же думать и счит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8ce0f41d0210[1]"/>
          <p:cNvPicPr/>
          <p:nvPr/>
        </p:nvPicPr>
        <p:blipFill>
          <a:blip r:embed="rId2"/>
          <a:stretch/>
        </p:blipFill>
        <p:spPr>
          <a:xfrm>
            <a:off x="324000" y="4653000"/>
            <a:ext cx="1616040" cy="187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357120" y="2286000"/>
            <a:ext cx="2643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1" descr="дt.jpg"/>
          <p:cNvPicPr/>
          <p:nvPr/>
        </p:nvPicPr>
        <p:blipFill>
          <a:blip r:embed="rId2"/>
          <a:stretch/>
        </p:blipFill>
        <p:spPr>
          <a:xfrm>
            <a:off x="214200" y="3000240"/>
            <a:ext cx="3357720" cy="34401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Математика в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.Какой город в России назван «в честь» знака математической операц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инусинск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асноярский кр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714840" y="2286000"/>
            <a:ext cx="51195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Назовите «математические» раст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Тысячелистник,              столетни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214200" y="2286000"/>
            <a:ext cx="3714840" cy="435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3"/>
          <a:stretch/>
        </p:blipFill>
        <p:spPr>
          <a:xfrm>
            <a:off x="5357880" y="2571840"/>
            <a:ext cx="35384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3.В какие «цифры» люди одевают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остюм-двой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костюм-тройку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"/>
          <p:cNvPicPr/>
          <p:nvPr/>
        </p:nvPicPr>
        <p:blipFill>
          <a:blip r:embed="rId2"/>
          <a:stretch/>
        </p:blipFill>
        <p:spPr>
          <a:xfrm>
            <a:off x="4214880" y="1428840"/>
            <a:ext cx="46432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4.Какие цифры «пишут» летчики в неб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ьмер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2"/>
          <a:stretch/>
        </p:blipFill>
        <p:spPr>
          <a:xfrm>
            <a:off x="3857760" y="1857240"/>
            <a:ext cx="490824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332000" y="2924280"/>
            <a:ext cx="7812000" cy="9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колько дюжин в сутках?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26920" y="5013360"/>
            <a:ext cx="4145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Ответ: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70200" y="1052640"/>
            <a:ext cx="705780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58920" y="2322360"/>
            <a:ext cx="0" cy="450864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5.Без чего не могут обойтись охотники, барабанщики и математи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 дро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2281320" cy="2063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3"/>
          <a:stretch/>
        </p:blipFill>
        <p:spPr>
          <a:xfrm>
            <a:off x="3492360" y="3213000"/>
            <a:ext cx="1662120" cy="2111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4"/>
          <a:stretch/>
        </p:blipFill>
        <p:spPr>
          <a:xfrm>
            <a:off x="6012000" y="3716280"/>
            <a:ext cx="22730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6.Что есть у каждого слова, растения и уравн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р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1000080" y="2357280"/>
            <a:ext cx="3357720" cy="3786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3"/>
          <a:stretch/>
        </p:blipFill>
        <p:spPr>
          <a:xfrm>
            <a:off x="5072040" y="3000240"/>
            <a:ext cx="3762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7.Какие геометрические фигуры дружат с солнц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56800" y="1600200"/>
            <a:ext cx="782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у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2"/>
          <a:stretch/>
        </p:blipFill>
        <p:spPr>
          <a:xfrm>
            <a:off x="4214880" y="2428920"/>
            <a:ext cx="459576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8</a:t>
            </a: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.Какая геометрическая фигура нужна для наказания дет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го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627280" y="1916280"/>
            <a:ext cx="6118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9</a:t>
            </a: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Какая дуга вошла в историю 20 ве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урская ду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067280" y="1744560"/>
            <a:ext cx="4824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Какую форму имеют соты пчел, ячейки глаз насеком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орму правильного шестиуголь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500720" y="2781360"/>
            <a:ext cx="439236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Какую геометрическую фигуру носят на голове мужч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илин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692360" y="2997360"/>
            <a:ext cx="33112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.  Геометрические фигуры  из Египта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ирами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843280" y="2349360"/>
            <a:ext cx="59785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3. Какую геометрическую фигуру украшают брильянт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ьц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995640" y="2421000"/>
            <a:ext cx="4464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14. Эмблемой какого автомобиля являются четыре коль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Ауд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132000" y="2421000"/>
            <a:ext cx="5399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00000" y="5373720"/>
            <a:ext cx="360072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Ответ: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3720" y="2492280"/>
            <a:ext cx="8199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Сколько насчитываетс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чудес свет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70200" y="1052640"/>
            <a:ext cx="705780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58920" y="2322360"/>
            <a:ext cx="0" cy="450864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5. Как называют военно-историческое кольц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лока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851280" y="1628640"/>
            <a:ext cx="47671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Конкурс родител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числите где применяется математика в вашей проф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Конкурс строител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6 стаканов стоят в ряд.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Три первые стакана наполнены водой,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три последние – пустые. 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Что нужно сделать, чтобы полные и пустые стаканы чередовались, если трогать разрешается только один стакан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4292640"/>
            <a:ext cx="914400" cy="121428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4292640"/>
            <a:ext cx="914400" cy="121428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3640" y="4292640"/>
            <a:ext cx="914400" cy="121428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4292640"/>
            <a:ext cx="914400" cy="12142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84720" y="4292640"/>
            <a:ext cx="914400" cy="12142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67640" y="4292640"/>
            <a:ext cx="914400" cy="12142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5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16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17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6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27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28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ереместите 3 спички так, чтобы получилось 5 треугольников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5" descr=""/>
          <p:cNvPicPr/>
          <p:nvPr/>
        </p:nvPicPr>
        <p:blipFill>
          <a:blip r:embed="rId2"/>
          <a:stretch/>
        </p:blipFill>
        <p:spPr>
          <a:xfrm>
            <a:off x="990720" y="3352680"/>
            <a:ext cx="7332480" cy="22100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sc"/>
          <p:cNvPicPr/>
          <p:nvPr/>
        </p:nvPicPr>
        <p:blipFill>
          <a:blip r:embed="rId3"/>
          <a:stretch/>
        </p:blipFill>
        <p:spPr>
          <a:xfrm>
            <a:off x="5796000" y="1125360"/>
            <a:ext cx="294336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ереместите 3 спички так, чтобы получилось 5 треугольников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5" descr=""/>
          <p:cNvPicPr/>
          <p:nvPr/>
        </p:nvPicPr>
        <p:blipFill>
          <a:blip r:embed="rId2"/>
          <a:srcRect l="33127" t="0" r="0" b="0"/>
          <a:stretch/>
        </p:blipFill>
        <p:spPr>
          <a:xfrm>
            <a:off x="3419640" y="4005360"/>
            <a:ext cx="4903560" cy="2209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5" descr=""/>
          <p:cNvPicPr/>
          <p:nvPr/>
        </p:nvPicPr>
        <p:blipFill>
          <a:blip r:embed="rId3"/>
          <a:srcRect l="0" t="0" r="65626" b="0"/>
          <a:stretch/>
        </p:blipFill>
        <p:spPr>
          <a:xfrm>
            <a:off x="4643280" y="1773360"/>
            <a:ext cx="2521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Изготовьте кирпич </a:t>
            </a:r>
            <a:br>
              <a:rPr sz="4400"/>
            </a:b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длина 8 см,</a:t>
            </a:r>
            <a:br>
              <a:rPr sz="4400"/>
            </a:b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ширина 6 см, </a:t>
            </a:r>
            <a:br>
              <a:rPr sz="4400"/>
            </a:b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высота 10 с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179280" y="1770840"/>
            <a:ext cx="87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В черном ящике лежит предмет, название которого произошло от греческого слова, означающего «игральная кость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Термин ввели Пифагорей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Что в черном ящи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SO02265_"/>
          <p:cNvPicPr/>
          <p:nvPr/>
        </p:nvPicPr>
        <p:blipFill>
          <a:blip r:embed="rId2"/>
          <a:stretch/>
        </p:blipFill>
        <p:spPr>
          <a:xfrm>
            <a:off x="1143000" y="3643200"/>
            <a:ext cx="34560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Конкурс «САМЫЙ ВНИМАТЕЛЬНЫЙ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cc3300"/>
                </a:solidFill>
                <a:latin typeface="Arial"/>
              </a:rPr>
              <a:t>Слово жюри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6588000" y="476280"/>
            <a:ext cx="2232000" cy="2521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0" y="981000"/>
            <a:ext cx="4032360" cy="2952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655640" y="4147560"/>
            <a:ext cx="47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</a:rPr>
              <a:t>Вот и закончилась игра,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Verdana"/>
              </a:rPr>
              <a:t>Результат узнать пора.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Verdana"/>
              </a:rPr>
              <a:t>Кто же лучше всех трудился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Verdana"/>
              </a:rPr>
              <a:t>И в турнире отличил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042920" y="2276640"/>
            <a:ext cx="76327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Сколько лет спа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Спящая Красави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из сказки Шарля Перро?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42920" y="5013360"/>
            <a:ext cx="360036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Ответ: 1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70200" y="1052640"/>
            <a:ext cx="705780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58920" y="2322360"/>
            <a:ext cx="0" cy="450864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43640" y="3716280"/>
            <a:ext cx="19494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дt.jpg"/>
          <p:cNvPicPr/>
          <p:nvPr/>
        </p:nvPicPr>
        <p:blipFill>
          <a:blip r:embed="rId2"/>
          <a:stretch/>
        </p:blipFill>
        <p:spPr>
          <a:xfrm>
            <a:off x="5429160" y="3000240"/>
            <a:ext cx="3357720" cy="34401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Спасибо всем участникам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Желаем новых математических успехов!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1" descr=""/>
          <p:cNvPicPr/>
          <p:nvPr/>
        </p:nvPicPr>
        <p:blipFill>
          <a:blip r:embed="rId2"/>
          <a:stretch/>
        </p:blipFill>
        <p:spPr>
          <a:xfrm>
            <a:off x="1116000" y="1743120"/>
            <a:ext cx="66960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 презентации использованы картинки из поисковой системы Яндек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 материалы Агеевой И.Д. г. Вороне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3.Как называют верхний угол футбольных воро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Десят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Девят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Шестер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ятер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8ce0f41d0210[1]"/>
          <p:cNvPicPr/>
          <p:nvPr/>
        </p:nvPicPr>
        <p:blipFill>
          <a:blip r:embed="rId2"/>
          <a:stretch/>
        </p:blipFill>
        <p:spPr>
          <a:xfrm>
            <a:off x="324000" y="4653000"/>
            <a:ext cx="1616040" cy="1871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3"/>
          <a:stretch/>
        </p:blipFill>
        <p:spPr>
          <a:xfrm>
            <a:off x="4356000" y="1700280"/>
            <a:ext cx="346716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8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6.Какой математический знак существу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692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Корень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Стебель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Лист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Цвет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8ce0f41d0210[1]"/>
          <p:cNvPicPr/>
          <p:nvPr/>
        </p:nvPicPr>
        <p:blipFill>
          <a:blip r:embed="rId2"/>
          <a:stretch/>
        </p:blipFill>
        <p:spPr>
          <a:xfrm>
            <a:off x="324000" y="4653000"/>
            <a:ext cx="1616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2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8.Как называется известная картина российского художника Н.П.Богданова-Бельско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Arial"/>
              </a:rPr>
              <a:t>«Доказательство теоремы»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Arial"/>
              </a:rPr>
              <a:t>«Вычисления с помощью калькулятора»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Arial"/>
              </a:rPr>
              <a:t>«Устный счет»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Arial"/>
              </a:rPr>
              <a:t>«Пробное тестировани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457200" y="907920"/>
            <a:ext cx="822960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43280" y="5589720"/>
            <a:ext cx="360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Ответ: 27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92360" y="2163600"/>
            <a:ext cx="7127640" cy="191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На сколько градусов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могут поворачив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голову совы?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70200" y="1052640"/>
            <a:ext cx="705780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58920" y="2322360"/>
            <a:ext cx="0" cy="450864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32000" y="4221000"/>
            <a:ext cx="3600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Ответ: 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979640" y="2565360"/>
            <a:ext cx="6337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Сколько подвиг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совершил Геракл?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70200" y="1052640"/>
            <a:ext cx="705780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58920" y="2322360"/>
            <a:ext cx="0" cy="450864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03320" y="4673520"/>
            <a:ext cx="363996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71640" y="4869000"/>
            <a:ext cx="360036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Ответ: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692360" y="2781360"/>
            <a:ext cx="72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Сколько пар но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у насекомых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70200" y="1052640"/>
            <a:ext cx="705780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58920" y="2322360"/>
            <a:ext cx="0" cy="450864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4221000"/>
            <a:ext cx="4032360" cy="1471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84600" y="5805360"/>
            <a:ext cx="2219400" cy="809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24600" y="1700280"/>
            <a:ext cx="22194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5050"/>
                </a:solidFill>
                <a:latin typeface="Arial"/>
              </a:rPr>
              <a:t>Веселый тес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26920" y="3716280"/>
            <a:ext cx="64008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8ce0f41d0210[1]"/>
          <p:cNvPicPr/>
          <p:nvPr/>
        </p:nvPicPr>
        <p:blipFill>
          <a:blip r:embed="rId2"/>
          <a:stretch/>
        </p:blipFill>
        <p:spPr>
          <a:xfrm>
            <a:off x="250920" y="1844640"/>
            <a:ext cx="1616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8T09:24:22Z</dcterms:created>
  <dc:creator>1</dc:creator>
  <dc:description/>
  <dc:language>en-US</dc:language>
  <cp:lastModifiedBy>GEG</cp:lastModifiedBy>
  <dcterms:modified xsi:type="dcterms:W3CDTF">2017-10-13T09:26:10Z</dcterms:modified>
  <cp:revision>48</cp:revision>
  <dc:subject/>
  <dc:title>Веселый тест</dc:title>
</cp:coreProperties>
</file>