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44C93-F2A6-44F0-BFDC-AE0FED1DC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D069E-F37D-4328-B4EB-DD83D219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46304-1B91-4B85-8170-A5B278592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8E676-3522-488D-9B82-6FA13CA92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1310F-BEDF-4C29-AEFD-50485FA2B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50D0-6EE5-4FF9-9751-228917A2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FEE2-7C7A-4489-A456-9CA5C020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E743-EF9B-4EF7-B14E-EB09DDFB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25CB-7DA7-4C8F-87E0-839E6F3B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CD4A-0CE2-4E1B-AAA3-D3B18D04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A718-F3F9-43B1-8B60-42DB45F8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16CC3-839D-4A8D-A55C-5E5D70F8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DABD-78AA-47B6-A8DC-5C0CB64B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E501-A945-4AFC-977E-F3418039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1ACB-7071-4095-8D72-A6FA318B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2D3C-B57D-4A4C-A908-18E1EB4F7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34B1-4D96-4DE2-8F55-D604A77AC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FCFE4-EF11-4933-AB23-01C025F9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461B0-E75D-4E47-A82F-7B286B8E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3A257-A8DB-42F0-99F1-6F81838F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4BB47-70A8-4634-93D3-774FF856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83713-927B-44CC-A257-5EAAA9F7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D510C-0FB2-4A02-ACD0-BB8F18E1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160E1-2934-40BD-B66E-5BCD0427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3E36-4785-4196-867C-95784554237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80D7-3284-45B7-9C35-B4103FAC43B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Стоит древо - древо ханское, платье шамаханское, цветы ангельски, когти дьявольски.</a:t>
            </a: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be77a13d631f"/>
          <p:cNvPicPr/>
          <p:nvPr/>
        </p:nvPicPr>
        <p:blipFill>
          <a:blip r:embed="rId1"/>
          <a:stretch/>
        </p:blipFill>
        <p:spPr>
          <a:xfrm>
            <a:off x="304920" y="4038480"/>
            <a:ext cx="3012840" cy="22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Полезные свойства</a:t>
            </a:r>
            <a:br>
              <a:rPr sz="3600"/>
            </a:b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шиповни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И ограда в саду, 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И закуска дрозду, 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И от хвори настой – 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Душистый, густой.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2575080" y="4365720"/>
            <a:ext cx="39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i?id=175251048-12-72&amp;n=21"/>
          <p:cNvPicPr/>
          <p:nvPr/>
        </p:nvPicPr>
        <p:blipFill>
          <a:blip r:embed="rId1"/>
          <a:stretch/>
        </p:blipFill>
        <p:spPr>
          <a:xfrm>
            <a:off x="5181480" y="18288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i?id=56371526-59-72&amp;n=21"/>
          <p:cNvPicPr/>
          <p:nvPr/>
        </p:nvPicPr>
        <p:blipFill>
          <a:blip r:embed="rId2"/>
          <a:stretch/>
        </p:blipFill>
        <p:spPr>
          <a:xfrm>
            <a:off x="7010280" y="1676520"/>
            <a:ext cx="1400400" cy="14284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2"/>
          <p:cNvSpPr/>
          <p:nvPr/>
        </p:nvSpPr>
        <p:spPr>
          <a:xfrm>
            <a:off x="3092400" y="4343400"/>
            <a:ext cx="5670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Где-то в чаще дремучей, </a:t>
            </a: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За оградой колючей, </a:t>
            </a: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У заветного местечка </a:t>
            </a: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Есть волшебная аптечка: </a:t>
            </a: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Там красные таблетки </a:t>
            </a: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Развешены на ветке.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324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тамина С в шиповнике в 5-10 раз больше, чем в 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черной смородин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в 40 раз больше, чем в 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лимонах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иповник очищает кровеносную систему, улучшает обмен веществ, богат витаминами, применяется при малокровии, цинге, при болезнях почек и мочевого пузыря, печ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иповник используется как обшеукрепляющее, тонизирующее, ослабляющее развитие атеросклероза, повышающее сопротивляемость организма при инфекционных заболеваниях и как витаминное средство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: для этого 2 ст. ложки измельченных сухих плодов залить 1/2 л воды, кипятить 15 мин на слабом огне, настоять, укутав, ночь, процедить. Принимать с медом в течение дня как чай и вместо в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орнях шиповника много дубильных веществ, поэтому их используют в качестве вяжущего сред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семян шиповника получают масло, содержащее жирные кислоты и витамины. Оно обладает противовоспалительными и ранозаживляющими свойств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i?id=285543133-49-72&amp;n=21"/>
          <p:cNvPicPr/>
          <p:nvPr/>
        </p:nvPicPr>
        <p:blipFill>
          <a:blip r:embed="rId1"/>
          <a:stretch/>
        </p:blipFill>
        <p:spPr>
          <a:xfrm>
            <a:off x="5943600" y="3505320"/>
            <a:ext cx="21430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бой популярностью пользуется настой ягод шиповника, который готовится следующим образом: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2 столовые ложки сухих ягод растолочь, залить 2 стаканами кипятка, настоять в термосе 6-8 часов, обязательно процедить через несколько слоев марли. Пить детям от 1/4 до 1/2 стакана, взрослому по стакану три раза в день перед едой в течение трех нед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838080" y="3048120"/>
            <a:ext cx="7696440" cy="1739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3300"/>
                </a:solidFill>
                <a:latin typeface="Arial"/>
              </a:rPr>
              <a:t>"Шиповник лучше семи докторов"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i?id=50847794-26-72&amp;n=21"/>
          <p:cNvPicPr/>
          <p:nvPr/>
        </p:nvPicPr>
        <p:blipFill>
          <a:blip r:embed="rId1"/>
          <a:stretch/>
        </p:blipFill>
        <p:spPr>
          <a:xfrm>
            <a:off x="5867280" y="4876920"/>
            <a:ext cx="2981520" cy="198108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7"/>
          <p:cNvSpPr/>
          <p:nvPr/>
        </p:nvSpPr>
        <p:spPr>
          <a:xfrm>
            <a:off x="457200" y="5181480"/>
            <a:ext cx="5029200" cy="1068840"/>
          </a:xfrm>
          <a:prstGeom prst="rect">
            <a:avLst/>
          </a:prstGeom>
          <a:solidFill>
            <a:srgbClr val="fcc6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Кто шиповник пьёт, 100 лет жив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Опасные свойства шиповника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2592000" y="3245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3092400" y="4510080"/>
            <a:ext cx="29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228600" y="1485720"/>
            <a:ext cx="8534520" cy="4972680"/>
          </a:xfrm>
          <a:prstGeom prst="rect">
            <a:avLst/>
          </a:prstGeom>
          <a:solidFill>
            <a:srgbClr val="fcc6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рекомендуется использовать шиповник людям, у которых нарушено движение крови. Кроме этого, если у Вас повышенное артериальное давление, не принимайте спиртовых настоек шипов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Вы будете очень долго пить препараты из шиповника, то это может негативно сказаться на работе печ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м может грозить даже неинфекционная желту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параты из корней шиповника тормозят выделение жел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чески противопоказаны любые препараты из шиповника людям, склонным к тромбообразованию и тромбофлебиту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Вы – сердечник, отнеситесь к употреблению шиповника также аккуратно. Осторожно к настойкам из шиповника следует отнестись людям, страдающим любыми дерматологическими проблемами. Если Вы из их числа, то перед лечением шиповником проконсультируйтесь со своим врач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«Нет розы без шипов, нет меда без яда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4952520"/>
            <a:ext cx="6705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3300"/>
                </a:solidFill>
                <a:latin typeface="Arial"/>
              </a:rPr>
              <a:t>Будьте здоровы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i?id=332543033-07-72&amp;n=21"/>
          <p:cNvPicPr/>
          <p:nvPr/>
        </p:nvPicPr>
        <p:blipFill>
          <a:blip r:embed="rId1"/>
          <a:stretch/>
        </p:blipFill>
        <p:spPr>
          <a:xfrm>
            <a:off x="5181480" y="2590920"/>
            <a:ext cx="3353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3581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0" lang="ru-RU" sz="8800" spc="-1" strike="noStrike">
                <a:solidFill>
                  <a:srgbClr val="cc3300"/>
                </a:solidFill>
                <a:latin typeface="Arial"/>
              </a:rPr>
              <a:t>Шиповни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4800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3300"/>
                </a:solidFill>
                <a:latin typeface="Arial"/>
              </a:rPr>
              <a:t>Дзебисов Азама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3300"/>
                </a:solidFill>
                <a:latin typeface="Arial"/>
              </a:rPr>
              <a:t>ученик </a:t>
            </a: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1" lang="ru-RU" sz="2600" spc="-1" strike="noStrike">
                <a:solidFill>
                  <a:srgbClr val="cc3300"/>
                </a:solidFill>
                <a:latin typeface="Arial"/>
              </a:rPr>
              <a:t> класс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i?id=90749828-16-72&amp;n=21"/>
          <p:cNvPicPr/>
          <p:nvPr/>
        </p:nvPicPr>
        <p:blipFill>
          <a:blip r:embed="rId1"/>
          <a:stretch/>
        </p:blipFill>
        <p:spPr>
          <a:xfrm>
            <a:off x="457200" y="380880"/>
            <a:ext cx="1876320" cy="1428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i?id=317266857-03-72&amp;n=21"/>
          <p:cNvPicPr/>
          <p:nvPr/>
        </p:nvPicPr>
        <p:blipFill>
          <a:blip r:embed="rId2"/>
          <a:stretch/>
        </p:blipFill>
        <p:spPr>
          <a:xfrm>
            <a:off x="2362320" y="114300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685800"/>
            <a:ext cx="8305560" cy="5943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Шипо́вник (лат. 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Rósa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) — род дикорастущих растений семейства Розовые. Имеет множество культурных форм, разводимых под названием Роза. Розой в литературе часто называют и сам шиповник.</a:t>
            </a:r>
            <a:br>
              <a:rPr sz="2800"/>
            </a:b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Насчитывается до 400 видов, а культурных сортов по одним данным до 10 000, по другим — до 25 000, а по некоторым данным до 50 000. На территории России в диком виде произрастает около 100 видов. Наибольшее распространение и хозяйственное значение имеет</a:t>
            </a:r>
            <a:br>
              <a:rPr sz="2800"/>
            </a:b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 Шиповник май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i?id=351405839-45-72&amp;n=21"/>
          <p:cNvPicPr/>
          <p:nvPr/>
        </p:nvPicPr>
        <p:blipFill>
          <a:blip r:embed="rId1"/>
          <a:stretch/>
        </p:blipFill>
        <p:spPr>
          <a:xfrm>
            <a:off x="7010280" y="502920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Ботаническое описа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стопадные кустарники и кустарнички, иногда вечнозелёные, с прямостоящими, лазающими или стелющимися стеблями различной высоты или дл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зависимости от условий куст эфирномасличной розы может жить от 30 до 50 лет. Но есть и розы-долгожители. В США растёт роза Бэнкс , посаженная там в 1885 году. Она занесена в Книгу рекордов Гиннесса как самая большая роза. Обхват её ствола 3,7 м, занимаемая площадь — 740 м2. Весной на ней распускается около 200 000 цв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i?id=488639602-08-72&amp;n=21"/>
          <p:cNvPicPr/>
          <p:nvPr/>
        </p:nvPicPr>
        <p:blipFill>
          <a:blip r:embed="rId1"/>
          <a:stretch/>
        </p:blipFill>
        <p:spPr>
          <a:xfrm>
            <a:off x="6934320" y="0"/>
            <a:ext cx="20574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рневая система стержневая, проникает на глубину до 5 м. Корни пронизывают весь верхний слой почвы на глубину до 30 см. У некоторых видов шиповников  они ветвист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тви прямые, восходящ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Листь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спирально расположенные, длинночерешковые, непарноперистые, с парными прилистниками, сросшимися с череш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3" descr="Rosa pendulina morletii plena morlett 1883.JPG"/>
          <p:cNvPicPr/>
          <p:nvPr/>
        </p:nvPicPr>
        <p:blipFill>
          <a:blip r:embed="rId2"/>
          <a:stretch/>
        </p:blipFill>
        <p:spPr>
          <a:xfrm>
            <a:off x="7143840" y="2819520"/>
            <a:ext cx="2000160" cy="15048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4"/>
          <p:cNvSpPr/>
          <p:nvPr/>
        </p:nvSpPr>
        <p:spPr>
          <a:xfrm>
            <a:off x="533520" y="3232440"/>
            <a:ext cx="655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ветки одиночные или собра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зонтиковидно-метельчатые соцветия с двумя — тремя или многими цветками, с прицветниками или без них, с приятным ароматом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5"/>
          <p:cNvSpPr/>
          <p:nvPr/>
        </p:nvSpPr>
        <p:spPr>
          <a:xfrm>
            <a:off x="533520" y="4870800"/>
            <a:ext cx="6248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оды односемянные. Орешек по форме может быть гранистым (шиповник иглистый), по очертанию продолговатым (шиповник Федченко). Плоды созревают в сентябре-октяб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6" descr="i?id=488228646-28-72&amp;n=21"/>
          <p:cNvPicPr/>
          <p:nvPr/>
        </p:nvPicPr>
        <p:blipFill>
          <a:blip r:embed="rId3"/>
          <a:stretch/>
        </p:blipFill>
        <p:spPr>
          <a:xfrm>
            <a:off x="6629400" y="4343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7" descr="i?id=160762701-07-72&amp;n=21"/>
          <p:cNvPicPr/>
          <p:nvPr/>
        </p:nvPicPr>
        <p:blipFill>
          <a:blip r:embed="rId4"/>
          <a:stretch/>
        </p:blipFill>
        <p:spPr>
          <a:xfrm>
            <a:off x="7477200" y="5429160"/>
            <a:ext cx="16668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3352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ирают плоды шиповника до заморозков, поскольку даже слабое подмораживание уничтожает их лекарственные свойства. В домашних условиях плоды сушат в сушилке или печи при температуре 90—100°С, но при этом следят, чтобы они не подгорали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равильно высушенное сырье буровато-красного или желтого цвета. Хранят его в закрытых банках или мешках в течение двух лет. Иногда заготавливают цветки шиповника во время цветения, сушат их обычным способом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стой лепестков хорошо тонизирует и освежает кожу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i?id=10643959-46-72&amp;n=21"/>
          <p:cNvPicPr/>
          <p:nvPr/>
        </p:nvPicPr>
        <p:blipFill>
          <a:blip r:embed="rId1"/>
          <a:stretch/>
        </p:blipFill>
        <p:spPr>
          <a:xfrm>
            <a:off x="4038480" y="4038480"/>
            <a:ext cx="2540160" cy="1981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i?id=11435470-59-72&amp;n=21"/>
          <p:cNvPicPr/>
          <p:nvPr/>
        </p:nvPicPr>
        <p:blipFill>
          <a:blip r:embed="rId2"/>
          <a:stretch/>
        </p:blipFill>
        <p:spPr>
          <a:xfrm>
            <a:off x="304920" y="4191120"/>
            <a:ext cx="1828800" cy="14284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1792440" y="6248520"/>
            <a:ext cx="556092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"Зацвёл шиповник - пора удить щуку." (Примета. 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2362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 шиповником связано множество легенд и поверий. По одной из версий сад из шиповника окружал храм Афродиты – богини любви и красоты в Древней Греции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The Roses of Heliogabalus.jpg"/>
          <p:cNvPicPr/>
          <p:nvPr/>
        </p:nvPicPr>
        <p:blipFill>
          <a:blip r:embed="rId2"/>
          <a:stretch/>
        </p:blipFill>
        <p:spPr>
          <a:xfrm>
            <a:off x="1600200" y="1981080"/>
            <a:ext cx="5791320" cy="40388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7"/>
          <p:cNvSpPr/>
          <p:nvPr/>
        </p:nvSpPr>
        <p:spPr>
          <a:xfrm>
            <a:off x="1447920" y="613836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Альма-Тадема Лоурен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 Розы Гелиогабал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8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0_df0_8725764b_XL"/>
          <p:cNvPicPr/>
          <p:nvPr/>
        </p:nvPicPr>
        <p:blipFill>
          <a:blip r:embed="rId1"/>
          <a:stretch/>
        </p:blipFill>
        <p:spPr>
          <a:xfrm>
            <a:off x="762120" y="4572000"/>
            <a:ext cx="2984400" cy="19810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381880" cy="3809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лее поздняя легенда родилась у донского казачества, её до сих пор с удовольствием рассказывают старые казачки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ак-то молодая девушка полюбила красивого казака. И он ответил ей взаимностью. Но станичный атаман отправил юношу на службу и сам послал к девушке сватов. Получив отказ, он решил силой жениться на гордой дивчине. Но не тут-то было! Убежала она к речке Ольховой и пронзила сердце своё отцовским кинжалом. В том месте, куда пролилась кровь девушки, выросли кусты шиповника с прекрасными цветами для всех влюблённых и с острыми шипами для злых и завистливых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2" descr="i?id=7057920-41-72&amp;n=21"/>
          <p:cNvPicPr/>
          <p:nvPr/>
        </p:nvPicPr>
        <p:blipFill>
          <a:blip r:embed="rId2"/>
          <a:stretch/>
        </p:blipFill>
        <p:spPr>
          <a:xfrm>
            <a:off x="5562720" y="4038480"/>
            <a:ext cx="30477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305920" cy="4724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ие учёные считают родиной шиповника горные склоны Ирана и Гималаев. Теперь же шиповник распространился практически по всему земному шару, кроме зон вечной мерзлоты, тундры и пустыни…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годы шиповника привлекают и птиц, и животных, но главным почитателем и собирателем даров шиповника является, конечно, человек.</a:t>
            </a:r>
            <a:br>
              <a:rPr sz="24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2" descr="i?id=271772015-15-72&amp;n=21"/>
          <p:cNvPicPr/>
          <p:nvPr/>
        </p:nvPicPr>
        <p:blipFill>
          <a:blip r:embed="rId1"/>
          <a:stretch/>
        </p:blipFill>
        <p:spPr>
          <a:xfrm>
            <a:off x="4876920" y="4419720"/>
            <a:ext cx="3352680" cy="2133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4" descr="i?id=359243943-01-72&amp;n=21"/>
          <p:cNvPicPr/>
          <p:nvPr/>
        </p:nvPicPr>
        <p:blipFill>
          <a:blip r:embed="rId2"/>
          <a:stretch/>
        </p:blipFill>
        <p:spPr>
          <a:xfrm>
            <a:off x="685800" y="4495680"/>
            <a:ext cx="24382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8-09-28T20:05:3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