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C90-DF16-42AF-A886-8685BD8A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ABB-D2A9-42B4-B104-F05E3CE7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512-A87C-48E7-B2BB-B3C643A8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72C-0517-4B14-95DA-D4089999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6FDB-1696-458A-B90E-F4286794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BCF2-090F-4378-A6FC-308330ED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4C69-0B1E-4726-AFDF-A26496E6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2B89-7B70-4FB2-AB11-92400748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1D0-88E7-45E5-BBE0-8A222E91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AE72-66BB-418B-9686-DE2DCADB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D0BB-30CD-4D6D-88EE-284BF60D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886-92F5-4E99-9E83-3DF25E48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C6C1-5B38-4AEB-8529-EBF67531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8781-FE17-4B3B-A395-2579ECC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05F1-B3A0-4194-97BA-156555AE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5743-8199-40ED-A0BD-057906AB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1576-D982-46C3-A388-4C79DBB8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490-8605-464E-8D6F-DC5AE6EE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F48-1F56-4D2D-B8B6-B55565EB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115-7386-4D9F-A242-21DB81A2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A08-B777-4CFA-A3E2-1435316E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6AD-CB27-4E2D-87E9-A4BD2C7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0B6-4430-4FD5-B747-A06864F1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C7E-9A7A-46F3-AEDD-F89712C2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178D-98EB-4504-9001-2F55152183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272-A538-49DA-B6F7-2EDEC07A2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476360" y="1125360"/>
            <a:ext cx="6408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Разноуровневый подход в подготовке к ЕГЭ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900000" y="189000"/>
            <a:ext cx="7993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думай, как трудно изменить себя самого, и ты поймёшь, сколь ничтожны твои возможности изменить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Воль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1356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848360" cy="6345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276960" y="5824440"/>
            <a:ext cx="25430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486080" y="260280"/>
            <a:ext cx="61722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rcRect l="0" t="0" r="0" b="1982"/>
          <a:stretch/>
        </p:blipFill>
        <p:spPr>
          <a:xfrm>
            <a:off x="1305000" y="260280"/>
            <a:ext cx="65340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7129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1116000" y="260280"/>
            <a:ext cx="7559640" cy="88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) Часто перед многими учениками стоит проблема общения ученик-учитель. Им трудно бывает задать вопрос, попросить объяснить снова из-за индивидуальных особенностей личности. У одноклассников проще спросить непонятное, получить в нужный момент помощь. Этому способствует групповая форма работы. Класс разбивается на группы по 2 человека. Дети в парах организованы с разным уровнем развития: средний – низкий, высокий – средний. Все пары получают задания. Задания выполняют парой, при этом идёт обсуждение, опрос друг друга. Затем пара должна защитить перед классом свое решение. Выслушав все пары или часть пар, учащиеся приходят к общему выводу. Таким образом, абсолютно все ученики всё полезное время потратили на достижение главной цели урока. Учитель направляет работу, частично помогает, корректируе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40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019160" y="301680"/>
            <a:ext cx="77058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) «Блиц уроки». Решение задач проводится в форме блицтурниров: определённое количество задач нужно решить за отведённый норматив времени (3-5 задач за 1-2 минуты). На блиц – уроке учащимся предлагается весь урок решать задачи. На первый взгляд затея скучная и малоэффективная. Учитель подбирает задачи 3-х уровней сложностей, а право выбора сложности задач оставляет за учащимися. Оценивание за урок проводится рейтинговое, в зависимости от сложности и количества решённых задач. Для высокого рейтинга ученик должен решить, например, 3 сложные или 6 простых задач – выбор за ним. Сильные учащиеся, быстро набрав нужные баллы, выступают в роли консультантов для более слабых учащихся, учатся, обуч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0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092480" y="3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042920" y="93996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ть условия, повышения качества математической подготовки, учитывая индивидуальные особенности  ребенка при обучении математи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984480" y="234936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042920" y="2873520"/>
            <a:ext cx="777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ать систему на основе использования разноуровневых заданий на разных этапах урока , по подготовки к итоговой аттестации в 11 кла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ать дидактический материал с использованием разноуровневого подхода на разных этапах уро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ставить методические рекомендации по использованию разноуровневых заданий на разных этапах уро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ть информационно-дидактическую поддержку процесса повышения качества обучения математ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25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46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965160" y="620640"/>
            <a:ext cx="7848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ждый ученик должен пройти через полноценный учебный процесс. Так, он должен в полном объеме услышать предлагаемый материал со всеми доказательствами и обоснованиями, ознакомиться с образцами рассуждений, на каких-то этапах участвовать в решении более сложных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ференциация учебных заданий предполагает, что ученики в каждом классе будут иметь выбор заданий разного уровня сложности. В данном случае важным является то, что выбор уровня учебных заданий предоставлен самим учащимся:  ученик сам выбирает, задания какого уровня он готов сейчас реш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ледует сказать, что и система оценивания в нашей стране не идеальна. Два  ученика получают пятерку, и только учитель знает, какие разные на самом деле эти оцен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 repeatCount="100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61" nodeType="afterEffect" fill="hold" presetClass="entr" presetID="22" presetSubtype="8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976320" y="476280"/>
            <a:ext cx="7848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Уровни  оценивания знани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ний («3») – уровень, задания которого предполагают воспроизведение определения, понятия, формулировки правила, теоремы и др., т.е. применение знаний по образцу. Это значит: понял, запомнил, воспроизв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аточный («4») – задания этого уровня представлены задачами, при выполнении которых учащимся  приходится использовать несколько алгоритмов, формул, теор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ий («5») – на данном уровне задания предполагают перенос имеющихся знаний в измененную ситуацию, а так же анализ возможных путей решения, отыскание характерных признаков и связей познавательного объекта с друг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2" presetSubtype="8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nodeType="afterEffect" fill="hold" presetClass="entr" presetID="22" presetSubtype="8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23840" y="549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каждом уровне  можно выделить три подуровн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27120" y="1628640"/>
          <a:ext cx="8281800" cy="3240360"/>
        </p:xfrm>
        <a:graphic>
          <a:graphicData uri="http://schemas.openxmlformats.org/drawingml/2006/table">
            <a:tbl>
              <a:tblPr/>
              <a:tblGrid>
                <a:gridCol w="2760480"/>
                <a:gridCol w="2760840"/>
                <a:gridCol w="2760480"/>
              </a:tblGrid>
              <a:tr h="324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Monotype Corsiva"/>
                        </a:rPr>
                        <a:t>Средний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(каждое задание оценивает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 1 балл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Monotype Corsiva"/>
                        </a:rPr>
                        <a:t>Достаточны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(каждое задание оценивает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2 балл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Monotype Corsiva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(каждое задание оценивает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3 балл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900000" y="660240"/>
            <a:ext cx="778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Monotype Corsiva"/>
              </a:rPr>
              <a:t>Этапы деятель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00000" y="1600200"/>
            <a:ext cx="77868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1. Предваритель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2. Диагностическ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3. Этап распределения учащихся по групп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4. Этап реализации уровнего обу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5. Этап оценки результатов образовательной подготовки в условиях уровнего обу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4-конечная звезда 3"/>
          <p:cNvSpPr/>
          <p:nvPr/>
        </p:nvSpPr>
        <p:spPr>
          <a:xfrm>
            <a:off x="7524720" y="5877000"/>
            <a:ext cx="1008000" cy="71100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293040 h 711000"/>
              <a:gd name="textAreaBottom" fmla="*/ 417960 h 71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e7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22" presetSubtype="4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684360" y="-2979720"/>
            <a:ext cx="8208720" cy="12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) Часто перед многими учениками стоит проблема общения ученик-учитель. Им трудно бывает задать вопрос, попросить объяснить снова из-за индивидуальных особенностей личности. У одноклассников проще спросить непонятное, получить в нужный момент помощь. Этому способствует групповая форма работы. Класс разбивается на группы по 2 человека. Дети в парах организованы с разным уровнем развития: средний – низкий, высокий – средний. Все пары получают задания. Задания выполняют парой, при этом идёт обсуждение, опрос друг друга. Затем пара должна защитить перед классом свое решение. Выслушав все пары или часть пар, учащиеся приходят к общему выводу. Таким образом, абсолютно все ученики всё полезное время потратили на достижение главной цели урока. Учитель направляет работу, частично помогает, корректиру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) «Блиц уроки». Решение задач проводится в форме блицтурниров: определённое количество задач нужно решить за отведённый норматив времени (3-5 задач за 1-2 минуты). На блиц – уроке учащимся предлагается весь урок решать задачи. На первый взгляд затея скучная и малоэффективная. Учитель подбирает задачи 3-х уровней сложностей, а право выбора сложности задач оставляет за учащимися. Оценивание за урок проводится рейтинговое, в зависимости от сложности и количества решённых задач. Для высокого рейтинга ученик должен решить, например, 3 сложные или 6 простых задач – выбор за ним. Сильные учащиеся, быстро набрав нужные баллы, выступают в роли консультантов для более слабых учащихся, учатся, обуча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955800" y="277920"/>
            <a:ext cx="7731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Monotype Corsiva"/>
              </a:rPr>
              <a:t>Дифференциация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221304"/>
                </a:solidFill>
                <a:latin typeface="Monotype Corsiva"/>
              </a:rPr>
              <a:t>по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221304"/>
                </a:solidFill>
                <a:latin typeface="Monotype Corsiva"/>
              </a:rPr>
              <a:t>группа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741240" y="1268280"/>
            <a:ext cx="81597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21304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1304"/>
                </a:solidFill>
                <a:latin typeface="Monotype Corsiva"/>
              </a:rPr>
              <a:t>Группа А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– учащиеся со слабыми математическими способност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21304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1304"/>
                </a:solidFill>
                <a:latin typeface="Monotype Corsiva"/>
              </a:rPr>
              <a:t>Группа В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– учащиеся со средними математическими способност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21304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1304"/>
                </a:solidFill>
                <a:latin typeface="Monotype Corsiva"/>
              </a:rPr>
              <a:t>Группа С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– учащиеся с хорошими математическими способност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476360" y="476280"/>
            <a:ext cx="6696000" cy="67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Устный сч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Домашняя раб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ополнительное задание к основной рабо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дна работа на всех, состоящая из заданий трёх уровней сло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зным группам разные домашние зад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Контрольные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4-конечная звезда 1"/>
          <p:cNvSpPr/>
          <p:nvPr/>
        </p:nvSpPr>
        <p:spPr>
          <a:xfrm>
            <a:off x="4500720" y="549360"/>
            <a:ext cx="323640" cy="431640"/>
          </a:xfrm>
          <a:custGeom>
            <a:avLst/>
            <a:gdLst>
              <a:gd name="textAreaLeft" fmla="*/ 133200 w 323640"/>
              <a:gd name="textAreaRight" fmla="*/ 190440 w 323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e7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4-конечная звезда 4"/>
          <p:cNvSpPr/>
          <p:nvPr/>
        </p:nvSpPr>
        <p:spPr>
          <a:xfrm>
            <a:off x="4927680" y="557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e7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4-конечная звезда 6"/>
          <p:cNvSpPr/>
          <p:nvPr/>
        </p:nvSpPr>
        <p:spPr>
          <a:xfrm>
            <a:off x="4522680" y="1557360"/>
            <a:ext cx="306360" cy="431640"/>
          </a:xfrm>
          <a:custGeom>
            <a:avLst/>
            <a:gdLst>
              <a:gd name="textAreaLeft" fmla="*/ 126360 w 306360"/>
              <a:gd name="textAreaRight" fmla="*/ 180000 w 306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e7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4-конечная звезда 8"/>
          <p:cNvSpPr/>
          <p:nvPr/>
        </p:nvSpPr>
        <p:spPr>
          <a:xfrm>
            <a:off x="4954680" y="1557360"/>
            <a:ext cx="306360" cy="431640"/>
          </a:xfrm>
          <a:custGeom>
            <a:avLst/>
            <a:gdLst>
              <a:gd name="textAreaLeft" fmla="*/ 126360 w 306360"/>
              <a:gd name="textAreaRight" fmla="*/ 180000 w 306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e7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4-конечная звезда 9"/>
          <p:cNvSpPr/>
          <p:nvPr/>
        </p:nvSpPr>
        <p:spPr>
          <a:xfrm>
            <a:off x="5651640" y="5732640"/>
            <a:ext cx="306360" cy="433080"/>
          </a:xfrm>
          <a:custGeom>
            <a:avLst/>
            <a:gdLst>
              <a:gd name="textAreaLeft" fmla="*/ 126360 w 306360"/>
              <a:gd name="textAreaRight" fmla="*/ 180000 w 306360"/>
              <a:gd name="textAreaTop" fmla="*/ 178560 h 433080"/>
              <a:gd name="textAreaBottom" fmla="*/ 2545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e7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10:59:01Z</dcterms:created>
  <dc:creator>subbotinaNA</dc:creator>
  <dc:description/>
  <dc:language>en-US</dc:language>
  <cp:lastModifiedBy>User</cp:lastModifiedBy>
  <dcterms:modified xsi:type="dcterms:W3CDTF">2013-11-27T05:36:20Z</dcterms:modified>
  <cp:revision>87</cp:revision>
  <dc:subject/>
  <dc:title>Теорема Виета</dc:title>
</cp:coreProperties>
</file>