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764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6680"/>
            <a:ext cx="3264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CE963-6E05-4F44-9B86-2E7151FCA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05606-892A-4E17-AF25-268894700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4B935-08CF-4DCC-A980-EDE80D57E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C3409-E470-4C60-B654-3B706B79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B6F4C-491F-4730-A1E5-13F11ACD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D9244-ADDB-477E-9815-BDDA5BB3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B4EF2-4BCE-4930-B76D-EB59B530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37AA1-ED1C-476F-AD69-D630ECDB5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BF9ED-1644-45B0-B27E-6E223505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CB89D-CA66-4701-8738-6C644802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1062A-9E9D-422E-9D33-883AEAEDF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54538-23FC-4BF4-B6CA-216C11AF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E4A51-ED68-481E-BC91-3CEBA9CB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82545-950A-4B44-9FA9-3666D07E5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E099-AFEF-4580-B181-54C8EC00E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A9E1-6B6F-4AAD-8818-8A6A7FDA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DBC95-940B-4937-AF92-FE2A12124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87C1C-AA3E-41F0-BB36-6976AFB25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0E81A-E43A-4B52-87D7-6BBF9B1B6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17E14-FECB-4633-9656-D4C5501C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A8A43-3431-4A0F-9E14-6A2701FB6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FDA25-3262-429D-8AD7-3D0CFFC44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690D-96BE-434A-B721-84C88249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60FF5-A374-4445-BA7C-554B0BBCF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1125E-35FB-440E-B073-A68341C8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A788-9BCF-423F-AD64-0E2DE4D1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BD3B7-F664-46B9-ADD7-56F138A8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4D89D-470A-4F25-88DF-3A215C282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C0823-41A4-4877-89F4-5607DE7D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D6F61-7DB0-4879-95C5-7A0760356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30069-1E69-4DE4-81F1-5538E9355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D322F-8B40-48E7-9EEF-E90A0EA82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739DB-37F0-47F0-A53D-1A3BE902F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BF7D3-564C-49DB-9287-BCA04898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E764-3642-4C55-ABBB-E912A75A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C82EE-E62C-4537-B50A-85BCB3844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6C1B8-99A5-4234-8C1C-D5C10A18C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4ED30-1CCF-4441-828D-BF6AF186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D4D2B-1BBA-4E52-BA3F-80E98C5E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E0E53-FCAF-428B-A2B2-979E5713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69D0E-E8C8-4539-BAC5-9FB802373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0E845-2476-44DE-A774-5C729287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73E19-111E-4224-8C2E-A409CF94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FCA3D-1100-4AE5-AD54-1E5094A6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5165C-C6AC-4C57-877F-AAA5E3ED8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975B-36D2-41C5-BF0E-9BB2CE85B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B3274-F0EB-4E08-9378-9D04BA85B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6F217-543D-455A-A857-DD6FBD48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32FE2-C35B-4873-BB0A-41861DD12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92C8C-CCC6-48AE-ABE2-61FD26C9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7F085-54AB-4E97-9FBD-05544FB0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5B40-BB72-4B65-A2CC-B5E72CD1B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486EF-2737-4BA7-B746-7A6FD94D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E8719-A3AA-4B02-A470-0D324752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D28B6-2CFD-43D6-93F7-5347BAC16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CB80-C849-4C58-83B7-684D22DE9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5720"/>
            <a:ext cx="9053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ECDC-8C0D-484B-8F8B-AB78251E4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24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4BBC-F2BB-4F80-B2A4-5EEEC5E5F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83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5080" y="17683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57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657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5080" y="4365720"/>
            <a:ext cx="2914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3D84-6A6B-4DE9-B34E-89F701418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EF47-2735-456C-B93F-BAD59BA82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8225-FD37-4496-B55F-C8EB3B8AF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ACDD-A650-431A-A9EF-22A102309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6A11-3302-4FC9-88AC-DCD3917AE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3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4A5D-0717-4C2F-BE50-AED6FD890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2E69-24F9-46F2-A959-2E0C983D9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240" y="43657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2985-F734-47DD-92FB-8CA717111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5720"/>
            <a:ext cx="9053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0FBD-E142-4371-ADD2-99F0FE923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C180E-415D-40B5-8AB8-C2482FE85B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" TargetMode="External"/><Relationship Id="rId2" Type="http://schemas.openxmlformats.org/officeDocument/2006/relationships/hyperlink" Target="https://www.liveinternet.ru/community/camelot_club/post397715097" TargetMode="External"/><Relationship Id="rId3" Type="http://schemas.openxmlformats.org/officeDocument/2006/relationships/hyperlink" Target="http://www.nizrp.narod.ru/files/poems/9.html" TargetMode="External"/><Relationship Id="rId4" Type="http://schemas.openxmlformats.org/officeDocument/2006/relationships/hyperlink" Target="https://www.fresher.ru/2012/01/29/blokadnyj-leningrad-v-fotografiyax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258840"/>
            <a:ext cx="90709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"/>
              </a:rPr>
              <a:t>Детям о войн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360" y="2306520"/>
            <a:ext cx="961236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7280" y="1871640"/>
            <a:ext cx="532764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0720" y="5940360"/>
            <a:ext cx="53625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Вагнер Светлана Николае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У ДО ДТ «У Вознесенского мос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0640" y="1722240"/>
            <a:ext cx="3986280" cy="497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75 летию пол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освобождения Ленин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от фашистской блокады посвящ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9760" y="71280"/>
            <a:ext cx="906588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Печки-буржу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6000" y="1079640"/>
            <a:ext cx="7632720" cy="525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83280" y="3816360"/>
            <a:ext cx="28800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Невский проспект, 1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864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71280"/>
            <a:ext cx="90662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Большой Зал Филармони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имени Д.Д. Шостакович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7280" y="1511280"/>
            <a:ext cx="9588600" cy="59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5520" y="1163520"/>
            <a:ext cx="914400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3280" y="576360"/>
            <a:ext cx="900108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06200"/>
            <a:ext cx="9070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"Цветок жизни"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48000" y="1008000"/>
            <a:ext cx="511164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1640" y="301680"/>
            <a:ext cx="9142560" cy="68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84720" y="3168720"/>
            <a:ext cx="6624360" cy="431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7280" y="144360"/>
            <a:ext cx="59119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360" y="360360"/>
            <a:ext cx="4660920" cy="684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40360" y="360360"/>
            <a:ext cx="485928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01680"/>
            <a:ext cx="90709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1941-194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368360"/>
            <a:ext cx="90712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 marL="431640" indent="-3078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Великая Отечественная вой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2360" y="216072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79280"/>
            <a:ext cx="90709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mbria"/>
              </a:rPr>
              <a:t>27 января 1944 го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2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79280"/>
            <a:ext cx="90709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mbria"/>
              </a:rPr>
              <a:t>27 января 1944 го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70360" y="1260360"/>
            <a:ext cx="29685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6000" y="431640"/>
            <a:ext cx="972000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6360" y="301680"/>
            <a:ext cx="899316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120600"/>
            <a:ext cx="907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Пусть всегда будет солнц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0360" y="1079640"/>
            <a:ext cx="9360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Солнечный круг, небо во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Это рисунок мальч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Нарисовал он на лист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И подписал в угол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со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у 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20600"/>
            <a:ext cx="907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Пусть всегда будет солнц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0360" y="1079640"/>
            <a:ext cx="9360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Тише солдат, слышишь солд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Люди пугаются взрыв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Тысячи глаз в небо глядя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Губы упрямо твердя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со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у 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20600"/>
            <a:ext cx="907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Пусть всегда будет солнц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079640"/>
            <a:ext cx="9360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ротив беды, против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Встанем за наших мальчиш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Солнце навек, счастье на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Так повелел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со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ет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078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Пусть всегда буду 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6000" y="576360"/>
            <a:ext cx="9720000" cy="64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508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Список используемых источ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074600"/>
            <a:ext cx="914544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s://ru.wikipedia.org/wik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s://www.liveinternet.ru/community/camelot_club/post3977150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http://www.nizrp.narod.ru/files/poems/9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4"/>
              </a:rPr>
              <a:t>https://www.fresher.ru/2012/01/29/blokadnyj-leningrad-v-fotografiya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79280"/>
            <a:ext cx="90709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mbria"/>
              </a:rPr>
              <a:t>Город-герой Ленингра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1619280"/>
            <a:ext cx="540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179280"/>
            <a:ext cx="90709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mbria"/>
              </a:rPr>
              <a:t>Блокадное кольц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864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3280" y="301680"/>
            <a:ext cx="907092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Блокада Ленингра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8820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8120" y="111240"/>
            <a:ext cx="9066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Ладожское озер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19280" y="1081080"/>
            <a:ext cx="8856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Ладожское озер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3280" y="1655640"/>
            <a:ext cx="9001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3280" y="301680"/>
            <a:ext cx="907092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Дорога жизни - Ладог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260360"/>
            <a:ext cx="846792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mbria"/>
              </a:rPr>
              <a:t>125 граммов хлеб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79640" y="1979640"/>
            <a:ext cx="755964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КАМПАНЕЛЛА</cp:lastModifiedBy>
  <dcterms:modified xsi:type="dcterms:W3CDTF">2019-01-25T08:50:46Z</dcterms:modified>
  <cp:revision>53</cp:revision>
  <dc:subject/>
  <dc:title>Детям о войне</dc:title>
</cp:coreProperties>
</file>