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jpeg" ContentType="image/jpeg"/>
  <Override PartName="/ppt/media/push.wav" ContentType="audio/x-wav"/>
  <Override PartName="/ppt/media/image20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комп 18" initials="к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3-10-28T12:45:51.625000000" idx="1">
    <p:pos x="-2193" y="440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C97-292E-4DBE-949B-FE3A413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AA9-1210-4D94-BE45-60CF46C9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DF306-0320-4640-BE06-D708215B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F7E02-4517-4540-8A8B-87928FCD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1E9B9-ACA3-49E2-AB73-F90ED7A8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BCD6F-7B59-4637-AD99-80690F54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C6FC-8125-467A-8CD1-7588A36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E3DBC-70C1-41FD-9828-2359B7A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B8804-774D-42EA-B510-73A0A39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13D1-2F2E-4716-8BE1-E8ADD681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1D71B-5565-42DE-829A-AE9FBF47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9F2-B517-4A0E-BB51-4522C650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F97-CC5E-4713-AA72-6E9CAF3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E37-3EA3-49FD-8A7D-3B7FA62C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DD40-3633-4808-B184-013F8FE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F39-4F99-4C30-9507-6F8A298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3CDD-183E-45DB-93E6-7163A85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D339-E720-41B1-A997-221D1A79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A07-E08F-4E14-8390-3A2A8101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C7F-8749-47D2-B925-E38A3DE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C4B-1402-44AF-8140-A8C6C87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1440-BD76-4BD4-8370-F3E5FA7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2BE-C681-4833-A52D-4173946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6FE-82CE-4861-9B09-7D253031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81B0-5AB9-4FA9-B47F-D94889A0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B6C7-07FA-4FCD-B2F3-8A742D96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4F17-34F6-4C18-A810-6AACE349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6473-51E4-4D6E-8205-DE5E85E1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9BD8-0D41-44FB-B5D1-A0AC9B9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DCE2-DF90-479B-8EC2-9646D20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2A99-FD0D-4149-8DC2-08061E2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227-4F6E-4983-8287-59B56489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DB83-4E61-4603-926B-CC6890E2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033C-2E6B-4402-9E9B-E373939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B6A3-F79D-45CC-89B5-F5C1A33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7752-21DC-4F41-B7E9-97A790F5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F3CE-D792-49A3-BF41-8873054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0597-F3CA-4AC0-9718-594C8C68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5A67-36AE-4AAF-AE00-13E01968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9303-1296-46C7-98E4-CB3C1D3A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A309-FF8C-4265-9349-8EB48C2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9C64-C485-45BC-A381-D628896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2DA-9784-4851-B77B-1C684153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7B89-58CD-49A2-A30C-FD6938C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95BE-C9B0-4E35-800C-90579269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F08E-02B7-4454-9356-BFF1D23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81A6-D370-43E4-8A3F-00D399E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DE59-2A91-4B9D-B2A5-41D5ED17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85EF-20DB-4627-8795-273FA4E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BB4D-A37D-40DD-8E4E-547717D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D2F3-A244-4241-99BA-299B82DD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ECB0-F125-4BD4-AC4E-61BD2F7B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5BCD3-E605-4F5B-9116-5C1D335B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9B8-E8B3-4933-9E5E-F281B0B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5D9F-4382-476F-83B7-E9F0FA1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9E01-BDD2-4FBC-ACFE-4F23613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364D-2DCD-4888-9176-8DA96BAE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D373-E156-41C6-950F-ECDACE91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22A4-D444-442A-BD08-21E5240E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E972-3077-482D-AC3B-985C77C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4390-43DA-4C95-BA00-72A5C8C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71B6-6414-4913-ACED-9D9F93E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2AD4-583D-4D02-BD48-7A52E802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DFA8-58C8-487A-85C3-D6896DE6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42B-2E49-4651-983A-64BBE4B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AA59-9980-4B60-B187-C0847CA7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4FBD-F431-4E81-8436-964CD6CD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1772A-9784-4C8B-89FA-45BD8E1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8B56-2649-4040-B18E-F37D52F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47526-1A93-43CE-88BB-2E8F1038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3F82-FE87-4348-9AB1-523A89E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605F-FFEE-45ED-AC86-7EA1EC5E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1BAA-5A0E-4BC3-8F82-EDD9D140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C900-73E1-42BB-A763-333A473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A5FF-6EA9-4302-A8EF-02ADADD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0AC-9189-4B9D-92BC-EB68436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3E207-D22C-4F9E-9476-9767761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C721-F7AD-4428-9768-7EC5200A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20F6-788F-47B5-AC06-F90F7869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DA2B-2223-4779-AD8D-0CC91F4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71FF5-724D-473F-9E81-BF308ED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31E1-1644-4CA7-9646-2285D3E6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27918-DEC5-43C0-A49E-C629C2C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9E6B-DAE6-413E-BB76-ED5D35B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84EF-9DEF-40F3-838D-D1083EF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22C4-400D-49B8-AC00-05B7448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059-FD9B-4B82-86CA-52C255F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B20F-011F-464C-B09C-F63C190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A3B0-7DC6-4228-BEC4-52177D6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19562-A0E0-44C8-A903-3E76A73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3751-51E8-468E-966F-D9C0695A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A7F9-B5D3-44D3-B5E4-42695C3A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E2E99-8313-4CBE-8504-E2ABA2BE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6ED8-93D9-486A-BB32-5BD2F2ED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ED0C4-7E12-4B71-8009-AA4F87F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10D77-808F-4B71-A49B-212F4FE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449C-206B-4392-A64C-40BFA8F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F43-7AA9-4616-9112-5AA17FC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42A9-8291-4354-AD0B-D4485373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CEF6-7E51-406C-949A-9D36DEC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F84D5-07FE-4B3C-9F93-7FE6D57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CDBB-7AAD-4A2A-B113-1CBCA21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84A4-FF36-4933-BE87-59DFA966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4445-1DEE-43D0-A8EE-5D1537C7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4FA6-D1B4-4ABD-901D-1248F124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CC38-8253-4D0F-A417-62FA5FC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5F7BD-9BF1-442A-8CD5-B2CECA93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13C35-94A9-443B-9617-3260343C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B94-68E7-4A14-8B79-C6BBFB023E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A79A-FDE9-41AF-930A-2ACA13E968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8ED6-5184-4F5A-9719-CBC74F1B12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1D8-5A13-4E1C-AA85-4FEFF88178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3E5C-AAF9-448A-8E96-3DBD7EFB9F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CD0-10B2-4C02-838F-A48498C17D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584-B97E-460C-931D-AD99A04B0B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1C54-F5F4-4414-BC67-06664846EF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F91-7311-4314-90D0-FC14CA5D71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9204120" cy="1646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F:\dogs\приют 3.jpg"/>
          <p:cNvPicPr/>
          <p:nvPr/>
        </p:nvPicPr>
        <p:blipFill>
          <a:blip r:embed="rId2"/>
          <a:stretch/>
        </p:blipFill>
        <p:spPr>
          <a:xfrm>
            <a:off x="1258920" y="1557360"/>
            <a:ext cx="6913440" cy="410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585720" y="66600"/>
            <a:ext cx="8088480" cy="1542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1\Desktop\i.jpg"/>
          <p:cNvPicPr/>
          <p:nvPr/>
        </p:nvPicPr>
        <p:blipFill>
          <a:blip r:embed="rId2"/>
          <a:stretch/>
        </p:blipFill>
        <p:spPr>
          <a:xfrm>
            <a:off x="3143160" y="1285920"/>
            <a:ext cx="2184480" cy="191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Английский Мастиф"/>
          <p:cNvPicPr/>
          <p:nvPr/>
        </p:nvPicPr>
        <p:blipFill>
          <a:blip r:embed="rId3"/>
          <a:stretch/>
        </p:blipFill>
        <p:spPr>
          <a:xfrm>
            <a:off x="5572080" y="1500120"/>
            <a:ext cx="1925640" cy="1857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Вельш-корги"/>
          <p:cNvPicPr/>
          <p:nvPr/>
        </p:nvPicPr>
        <p:blipFill>
          <a:blip r:embed="rId4"/>
          <a:stretch/>
        </p:blipFill>
        <p:spPr>
          <a:xfrm>
            <a:off x="285840" y="3714840"/>
            <a:ext cx="4190760" cy="2600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7" descr="http://www.facepla.net/images/stories2/443/Blame_cats_and_dogs/blame_cats_and_dogs_2.jpg"/>
          <p:cNvPicPr/>
          <p:nvPr/>
        </p:nvPicPr>
        <p:blipFill>
          <a:blip r:embed="rId5"/>
          <a:stretch/>
        </p:blipFill>
        <p:spPr>
          <a:xfrm>
            <a:off x="4714920" y="3714840"/>
            <a:ext cx="3630600" cy="2722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9" descr="http://t1.gstatic.com/images?q=tbn:ANd9GcQca03-gBwP_bfVT04atCwpxHdvfkn-luShHkzjBjbIicJLRG09sQ"/>
          <p:cNvPicPr/>
          <p:nvPr/>
        </p:nvPicPr>
        <p:blipFill>
          <a:blip r:embed="rId6"/>
          <a:stretch/>
        </p:blipFill>
        <p:spPr>
          <a:xfrm>
            <a:off x="214200" y="1214280"/>
            <a:ext cx="2786040" cy="219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443800" cy="135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1\Desktop\_41074169_the-dogs-on-pipes.jpg"/>
          <p:cNvPicPr/>
          <p:nvPr/>
        </p:nvPicPr>
        <p:blipFill>
          <a:blip r:embed="rId2"/>
          <a:stretch/>
        </p:blipFill>
        <p:spPr>
          <a:xfrm>
            <a:off x="2743200" y="2389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8869320" cy="1231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1\Desktop\0001.jpg"/>
          <p:cNvPicPr/>
          <p:nvPr/>
        </p:nvPicPr>
        <p:blipFill>
          <a:blip r:embed="rId2"/>
          <a:stretch/>
        </p:blipFill>
        <p:spPr>
          <a:xfrm>
            <a:off x="611280" y="1668600"/>
            <a:ext cx="8281800" cy="4651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37720" cy="1536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1\Desktop\95241610.jpg"/>
          <p:cNvPicPr/>
          <p:nvPr/>
        </p:nvPicPr>
        <p:blipFill>
          <a:blip r:embed="rId2"/>
          <a:stretch/>
        </p:blipFill>
        <p:spPr>
          <a:xfrm>
            <a:off x="1000080" y="1413000"/>
            <a:ext cx="72388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1\Desktop\47412769_1dog15.jpg"/>
          <p:cNvPicPr/>
          <p:nvPr/>
        </p:nvPicPr>
        <p:blipFill>
          <a:blip r:embed="rId2"/>
          <a:stretch/>
        </p:blipFill>
        <p:spPr>
          <a:xfrm>
            <a:off x="1357200" y="1214280"/>
            <a:ext cx="65725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C:\Users\1\Desktop\92593232_0_64ca7_ec3ccba9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6643800" y="5286240"/>
            <a:ext cx="2286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540a"/>
                </a:solidFill>
                <a:latin typeface="Franklin Gothic Book"/>
              </a:rPr>
              <a:t>People, shelter me. I will be a loyal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9004320" cy="1536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1\Desktop\doghantery-vladivostok-stray-dogs-poisoned-pills-from-the-pharmacy_801.jpeg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  <p:sndAc>
      <p:stSnd>
        <p:snd r:embed="rId3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37960" y="6089760"/>
            <a:ext cx="8418600" cy="993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z-pix.ru/im/15/morda_sobaki_1920x1200.jpg"/>
          <p:cNvPicPr/>
          <p:nvPr/>
        </p:nvPicPr>
        <p:blipFill>
          <a:blip r:embed="rId2"/>
          <a:stretch/>
        </p:blipFill>
        <p:spPr>
          <a:xfrm>
            <a:off x="285840" y="500040"/>
            <a:ext cx="8501040" cy="564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4:06:42Z</dcterms:created>
  <dc:creator>1</dc:creator>
  <dc:description/>
  <dc:language>en-US</dc:language>
  <cp:lastModifiedBy>Дмитрий</cp:lastModifiedBy>
  <dcterms:modified xsi:type="dcterms:W3CDTF">2013-11-09T03:23:46Z</dcterms:modified>
  <cp:revision>18</cp:revision>
  <dc:subject/>
  <dc:title>People bring to dogs</dc:title>
</cp:coreProperties>
</file>