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CE58-1E5C-4A33-8D12-3F1D8A2D15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4B77-F595-49E2-A8DB-0D394C0EE9B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EE2-7C90-45D9-BDA2-34D8FB9B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C81-91CA-4A38-9B83-E27231E4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D22-7BA8-4ABD-B27D-10721BDC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F65-C48A-4651-98CB-91341CB0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F69CC-52D1-4179-A3E9-AB79803E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95DE8-F071-43C2-894B-081AEEF1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EFCA0-926E-455D-9AF9-3EC4AF59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FFB7D-2EEE-4B61-BFE4-3F38A9DD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609AE-6D53-476F-967B-54F3AD53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3D719-9AFC-4EC3-A277-805B8112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60D14-00B2-48BB-95FA-DA70DAC7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7358-1C08-497E-ACD0-775F7F7C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1796D-B140-4FBA-93C1-751FBA70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28551-6549-4D4E-96F8-AA3F668D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464FD-4F32-4914-A91F-B1BDA095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82BBB-8264-4183-A5F2-EF4521A7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01652-8F22-49B0-85FA-3395A801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C5E30-9FC4-4595-8E44-80467B41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C649E-ADB9-4334-B8D4-EC821958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A43CC-206D-40F9-8479-ECC1DCF0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B59E2-C46C-4726-B916-2C309810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27D0A-5ADE-4CC9-9B9F-58EF4CD6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C12-1E72-4E17-BC1D-5F0528A8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34FE4-AE7E-46A3-AF6D-ABBACED4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86579-F4AC-4FBF-AD12-5C0714E5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9871C-C257-4DB1-94FB-57649E98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340D4-737A-482F-B641-FC83EE99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65DB5-DC20-4985-879C-3EDEBE39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C0ADE-C224-4403-9EB9-E5A865B1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2E8E2-DB45-4096-9865-07A86528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2D7302-0138-4186-AC58-7806DD41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0194F-814D-44C2-A913-4A18C212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FF7DD-E2FB-4845-BD6D-4080FE00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FF6-7CF8-43F0-B577-2D4FD55D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1EB78-A28A-42A7-B69B-6001F023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70A8C-96AC-459A-BEDB-D54B20EC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E5870-67B9-464C-973C-E7CD5F2C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7C2786-0E69-4B28-A93F-70464C4A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48F4F8-071E-4F24-99A5-4D0AAE3B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0A5CF-31F5-4407-8F2B-93D34881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02E7FC-7551-45B1-9342-0E82B204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A275FE-BA1C-4009-BBE0-8099F372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6B0BFD-D0AC-4B6C-B604-61E4F50C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F8748-EAF3-463C-B90D-5D6D19D7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0B3-1330-4BF5-BBCB-1E211E62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E9B67-1EF3-4377-8219-7FFC70E3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ECF36-1A6D-4274-8BF6-7E24D7EF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AB92F-6A77-45F1-8EBC-ED6E9C1E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3DFAB3-97E7-4603-92A6-F98762E2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2A394-63A5-4C06-AFD9-3FD94AAA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976A4-B1C7-4E5F-9772-570BCEFF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E0E90-38FA-4392-9026-7BF9164C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9CF1E-0D28-4AE9-A94D-CB9DF8E1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8EA13-039C-4861-B4BE-0E23E1CF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F3656-8238-46D1-AD14-39E25DA4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9A4-A329-4D29-8B9C-4D7AFFED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A1880-9B29-45A4-BA44-42BFEFD5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79A7E-77F4-4311-A483-85F55141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61349D-196A-4AED-8E7E-0BBE0463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8B0F3-4757-4B74-B392-A1BFD651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1CF0A-3537-4FDC-9688-EA9DF367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1CED38-D486-47D3-9E62-140E589D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0C20EC-83FF-4533-B6AF-3E13F0AA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17A8B8-DE62-42F1-9D5C-C525271B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5B7D5-4261-4BD7-BB4C-5786B693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D234D-65A1-4A57-9125-CDB24F83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E9C-E56A-48B7-BF93-4C9EE177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69338-BC5C-478A-9FED-2A4376D7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E5E69-8BDD-4584-B4B7-81FB1A3E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0A46F-7AF5-4EF2-A533-3C458B51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2AB-FC4F-4A7D-913C-30199BDD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115-A238-4AEB-8353-050D66B4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d1"/>
            </a:gs>
            <a:gs pos="100000">
              <a:srgbClr val="a8b8b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4E20-9759-4C8B-ACE1-FC4364F11E88}" type="datetime">
              <a:rPr b="0" lang="ru-RU" sz="1200" spc="-1" strike="noStrike">
                <a:solidFill>
                  <a:srgbClr val="ffffff"/>
                </a:solidFill>
                <a:latin typeface="Candar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C32D-C05A-41C2-8A0A-48C8FDB1DC9B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d1"/>
            </a:gs>
            <a:gs pos="100000">
              <a:srgbClr val="a8b8b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7AA4-FD44-43AA-9E44-A20764FEF6FE}" type="datetime">
              <a:rPr b="0" lang="ru-RU" sz="1200" spc="-1" strike="noStrike">
                <a:solidFill>
                  <a:srgbClr val="ffffff"/>
                </a:solidFill>
                <a:latin typeface="Candar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AADD-9CB8-4290-BA74-D99E13C3BA4A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d1"/>
            </a:gs>
            <a:gs pos="100000">
              <a:srgbClr val="a8b8b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BE3C-936C-4A42-8C28-ECA1F701D0D6}" type="datetime">
              <a:rPr b="0" lang="ru-RU" sz="1200" spc="-1" strike="noStrike">
                <a:solidFill>
                  <a:srgbClr val="ffffff"/>
                </a:solidFill>
                <a:latin typeface="Candar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78CD-2520-43D4-8065-388FD3C62EF3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d1"/>
            </a:gs>
            <a:gs pos="100000">
              <a:srgbClr val="a8b8b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FFFE-03EA-4EDF-B00E-2B2735B60C3A}" type="datetime">
              <a:rPr b="0" lang="ru-RU" sz="1200" spc="-1" strike="noStrike">
                <a:solidFill>
                  <a:srgbClr val="ffffff"/>
                </a:solidFill>
                <a:latin typeface="Candar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4AFE-E0BB-45F0-BBFC-C4BE9F8F615B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d1"/>
            </a:gs>
            <a:gs pos="100000">
              <a:srgbClr val="a8b8b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668D-C892-4DD5-ADA0-950946089B14}" type="datetime">
              <a:rPr b="0" lang="ru-RU" sz="1200" spc="-1" strike="noStrike">
                <a:solidFill>
                  <a:srgbClr val="ffffff"/>
                </a:solidFill>
                <a:latin typeface="Candar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87DA-129B-4E7A-B579-5C9D8EC9A0AB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d1"/>
            </a:gs>
            <a:gs pos="100000">
              <a:srgbClr val="a8b8b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36B5-053F-4581-B1FD-A1C7BCDA498C}" type="datetime">
              <a:rPr b="0" lang="ru-RU" sz="1200" spc="-1" strike="noStrike">
                <a:solidFill>
                  <a:srgbClr val="ffffff"/>
                </a:solidFill>
                <a:latin typeface="Candar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49B5-5DC2-42C2-98EB-2321C3DC7846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3"/>
          <p:cNvSpPr/>
          <p:nvPr/>
        </p:nvSpPr>
        <p:spPr>
          <a:xfrm>
            <a:off x="250920" y="549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ЖУЖЕЛИЦЫ (</a:t>
            </a:r>
            <a:r>
              <a:rPr b="1" lang="en-US" sz="2800" spc="-1" strike="noStrike">
                <a:solidFill>
                  <a:srgbClr val="3f3f3f"/>
                </a:solidFill>
                <a:latin typeface="Times New Roman"/>
              </a:rPr>
              <a:t>COLEOPTERA</a:t>
            </a: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f3f3f"/>
                </a:solidFill>
                <a:latin typeface="Times New Roman"/>
              </a:rPr>
              <a:t>CARABIDAE</a:t>
            </a: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) ЮЖНОГО ПРИМОР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оугольник 6"/>
          <p:cNvSpPr/>
          <p:nvPr/>
        </p:nvSpPr>
        <p:spPr>
          <a:xfrm>
            <a:off x="4284720" y="2924280"/>
            <a:ext cx="485928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олнили: учителя биоло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МОБУ СОШ №156 Л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ишняков Р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МБОУ СОШ №44 г.Владивос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амонина Н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учный руководител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.б.н., доцент кафедры естественнонаучного образования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ВФУ  Т.О. Марко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.б.н., н.с. «Заповедник Уссурийский – филиал ФНЦ биоразнообразия наземной биоты Восточной Азии ДВО РАН» М.В. Мас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8" descr="Cicindela Cicindela soluta soluta 1518"/>
          <p:cNvPicPr/>
          <p:nvPr/>
        </p:nvPicPr>
        <p:blipFill>
          <a:blip r:embed="rId1"/>
          <a:stretch/>
        </p:blipFill>
        <p:spPr>
          <a:xfrm>
            <a:off x="1116000" y="1484280"/>
            <a:ext cx="2933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8459640" y="18900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763A-9A49-46AE-8380-FF03BA97FFAF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2. Влажные низинные, пойменные луга в руслах ручьев и рек (гигрофитные биотопы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364000" y="256536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Times New Roman"/>
              </a:rPr>
              <a:t>Bembidion lampro</a:t>
            </a:r>
            <a:r>
              <a:rPr b="1" i="1" lang="en-US" sz="2400" spc="-1" strike="noStrike">
                <a:solidFill>
                  <a:srgbClr val="3f3f3f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 Herbst.,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</a:rPr>
              <a:t>Agonum alpinum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 Dej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9" descr="6"/>
          <p:cNvPicPr/>
          <p:nvPr/>
        </p:nvPicPr>
        <p:blipFill>
          <a:blip r:embed="rId1"/>
          <a:srcRect l="0" t="0" r="31580" b="0"/>
          <a:stretch/>
        </p:blipFill>
        <p:spPr>
          <a:xfrm>
            <a:off x="0" y="1125360"/>
            <a:ext cx="5435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8172360" y="18900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5E26-DA49-4443-A84C-072696D6BF0A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3. Лесные луга (внутри массива леса) (мезофитные биотопы)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5219640" y="2997360"/>
            <a:ext cx="39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Times New Roman"/>
              </a:rPr>
              <a:t>Carabus regalis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 Fisch.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Times New Roman"/>
              </a:rPr>
              <a:t>C. henningi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 Fisch.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3f3f"/>
                </a:solidFill>
                <a:latin typeface="Times New Roman"/>
              </a:rPr>
              <a:t>Pterostich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f3f3f"/>
                </a:solidFill>
                <a:latin typeface="Times New Roman"/>
              </a:rPr>
              <a:t>niger</a:t>
            </a:r>
            <a:r>
              <a:rPr b="1" lang="en-US" sz="2400" spc="-1" strike="noStrike">
                <a:solidFill>
                  <a:srgbClr val="3f3f3f"/>
                </a:solidFill>
                <a:latin typeface="Times New Roman"/>
              </a:rPr>
              <a:t> Schaller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3f3f"/>
                </a:solidFill>
                <a:latin typeface="Times New Roman"/>
              </a:rPr>
              <a:t>Pt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3f3f3f"/>
                </a:solidFill>
                <a:latin typeface="Times New Roman"/>
              </a:rPr>
              <a:t> oblongopunctatus</a:t>
            </a:r>
            <a:r>
              <a:rPr b="1" lang="en-US" sz="2400" spc="-1" strike="noStrike">
                <a:solidFill>
                  <a:srgbClr val="3f3f3f"/>
                </a:solidFill>
                <a:latin typeface="Times New Roman"/>
              </a:rPr>
              <a:t> Fabr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Times New Roman"/>
              </a:rPr>
              <a:t>Pt. magus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 Mann.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3f3f"/>
                </a:solidFill>
                <a:latin typeface="Times New Roman"/>
              </a:rPr>
              <a:t>Synuchus vivalis</a:t>
            </a:r>
            <a:r>
              <a:rPr b="1" lang="en-US" sz="2400" spc="-1" strike="noStrike">
                <a:solidFill>
                  <a:srgbClr val="3f3f3f"/>
                </a:solidFill>
                <a:latin typeface="Times New Roman"/>
              </a:rPr>
              <a:t> Ill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r>
              <a:rPr b="1" i="1" lang="en-US" sz="2400" spc="-1" strike="noStrike">
                <a:solidFill>
                  <a:srgbClr val="3f3f3f"/>
                </a:solidFill>
                <a:latin typeface="Times New Roman"/>
              </a:rPr>
              <a:t>Poecilus fortipes</a:t>
            </a:r>
            <a:r>
              <a:rPr b="1" lang="en-US" sz="2400" spc="-1" strike="noStrike">
                <a:solidFill>
                  <a:srgbClr val="3f3f3f"/>
                </a:solidFill>
                <a:latin typeface="Times New Roman"/>
              </a:rPr>
              <a:t> Chaud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6" descr="5"/>
          <p:cNvPicPr/>
          <p:nvPr/>
        </p:nvPicPr>
        <p:blipFill>
          <a:blip r:embed="rId1"/>
          <a:srcRect l="0" t="3093" r="30597" b="202"/>
          <a:stretch/>
        </p:blipFill>
        <p:spPr>
          <a:xfrm>
            <a:off x="0" y="1600200"/>
            <a:ext cx="529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179280" y="623736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Рис. 3. 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Carabus regali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Fischer, 27.08.16.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Окр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п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Дунай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(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фото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Комарова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8388360" y="26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4047-0ECF-4924-B7DF-A3BACE15FC92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Рисунок 3" descr=""/>
          <p:cNvPicPr/>
          <p:nvPr/>
        </p:nvPicPr>
        <p:blipFill>
          <a:blip r:embed="rId1"/>
          <a:srcRect l="-578" t="5546" r="0" b="11709"/>
          <a:stretch/>
        </p:blipFill>
        <p:spPr>
          <a:xfrm>
            <a:off x="1403280" y="189000"/>
            <a:ext cx="6337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179280" y="609300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Рис. 4. 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Pterostichus melanariu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Illiger, 15.06.17.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Окр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п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Дунай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фото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Комарова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8360" y="26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4321-1F7D-4CA9-AEE6-340C5399AC51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Рисунок 5" descr=""/>
          <p:cNvPicPr/>
          <p:nvPr/>
        </p:nvPicPr>
        <p:blipFill>
          <a:blip r:embed="rId1"/>
          <a:srcRect l="7559" t="4916" r="14192" b="23291"/>
          <a:stretch/>
        </p:blipFill>
        <p:spPr>
          <a:xfrm>
            <a:off x="1258920" y="189000"/>
            <a:ext cx="7058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179280" y="6093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Рис. 5. 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Bembidion quadrimaculatum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L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., 12.07.15. Окр. п. Хасан (фото автор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8388360" y="26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38C6-115C-46B2-A472-21A890FFC767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Рисунок 7" descr=""/>
          <p:cNvPicPr/>
          <p:nvPr/>
        </p:nvPicPr>
        <p:blipFill>
          <a:blip r:embed="rId1"/>
          <a:srcRect l="10778" t="7037" r="12791" b="6643"/>
          <a:stretch/>
        </p:blipFill>
        <p:spPr>
          <a:xfrm>
            <a:off x="1187280" y="189000"/>
            <a:ext cx="6769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179280" y="609300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Рис. 6. 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Harpalus rufipe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De Geer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, 30.08.17. Песчаный пляж п. Дунай (фото автора</a:t>
            </a:r>
            <a:r>
              <a:rPr b="1" lang="ru-RU" sz="1800" spc="-1" strike="noStrike">
                <a:solidFill>
                  <a:srgbClr val="3f3f3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8388360" y="26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327B-E88B-40F8-9B6F-8FFEA21D74F5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Рисунок 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48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79280" y="6093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Рис. 7. 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Poecilus cupreu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L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., 24.08.17. п. Дунай (фото автор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8388360" y="26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9193-07A5-4D1B-8875-FA9F943CAF5D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6" descr="Безымянный"/>
          <p:cNvPicPr/>
          <p:nvPr/>
        </p:nvPicPr>
        <p:blipFill>
          <a:blip r:embed="rId1"/>
          <a:srcRect l="9734" t="0" r="4536" b="20586"/>
          <a:stretch/>
        </p:blipFill>
        <p:spPr>
          <a:xfrm>
            <a:off x="539640" y="404640"/>
            <a:ext cx="7417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179280" y="6093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Рис. 8. 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Amara similata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Gyllenhal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, 08.08.17. п. Хасан (фото автор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388360" y="26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6876-4933-4356-B90C-6114CF7A1057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Рисунок 11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416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79280" y="6093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Рис. 9. 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Amara</a:t>
            </a:r>
            <a:r>
              <a:rPr b="1" i="1" lang="ru-RU" sz="2000" spc="-1" strike="noStrike">
                <a:solidFill>
                  <a:srgbClr val="3f3f3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eurynota Panzer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, 12.06.17. п. Хасан (фото автор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8360" y="26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2184-2B44-4EF7-89D5-EA6BC6536EDE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Рисунок 14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60498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52644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ВЫВОДЫ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179280" y="47628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1.Жужелицы являются одним из наиболее многочисленных семейств в отряде Жесткокрылые и занимают практически все наземные экологические ниши. Это обусловило разнообразие жизненных форм и достаточно сложное эволюционное развитие их групп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2.На территории Южного Приморья нами было обнаружено 43 вида жужелиц, относящихся к 21 роду и 4 подсемействам: 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Harpalinae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 (60.4% от общего числа видов), Carabinae (20.9%), 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Trechinae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 (14%), 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Elaphrinae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 (4.7%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3.Среди распространённых родов жужелиц региона наибольшим количеством видов представлены Pterostichus 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Bonelli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 (6 видов), Carabus 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. (8) и 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Amara Bonelli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 (5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4.Таксономический состав жужелиц биотопов с различными условиями влажности и структуры почв (подстилки) значительно отличается. Лимитирующим фактором для разнообразия жужелиц на территории исследования выступает влаж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Номер слайда 2"/>
          <p:cNvSpPr/>
          <p:nvPr/>
        </p:nvSpPr>
        <p:spPr>
          <a:xfrm>
            <a:off x="7785000" y="189000"/>
            <a:ext cx="1206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A6D2-45D0-4F54-A4AF-1E149509C675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4"/>
          <p:cNvSpPr/>
          <p:nvPr/>
        </p:nvSpPr>
        <p:spPr>
          <a:xfrm>
            <a:off x="7745760" y="18900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B0E1-24F0-413B-B0A1-8A1ECF5400BC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1187280" y="476280"/>
            <a:ext cx="69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Цель и задачи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250920" y="1052640"/>
            <a:ext cx="86947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Цель рабо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оценка таксономического разнообразия жужелиц в различных биотопах на территории юга Приморского кра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1. Рассмотреть биологические и экологические характеристики отряда Жесткокрылые (Coleoptera), и в частности, семейства жужел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2. Выявить основные экологические факторы, обуславливающие разнообразие и численность семейства.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3. Рассмотреть разнообразие биотопов жужелиц на юге Приморского края, а также таксономическое разнообразие в различных биотопах.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-360" y="336600"/>
            <a:ext cx="889308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5. На ксерофитных лугах наиболее многочисленны такие виды, как 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Carabus regalis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 Fisch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Pterostichus magus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 Mann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Pt</a:t>
            </a:r>
            <a:r>
              <a:rPr b="0" i="1" lang="ru-RU" sz="2400" spc="-1" strike="noStrike">
                <a:solidFill>
                  <a:srgbClr val="3f3f3f"/>
                </a:solidFill>
                <a:latin typeface="Times New Roman"/>
              </a:rPr>
              <a:t>. 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oblongopunctatus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 Fabr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Pt</a:t>
            </a:r>
            <a:r>
              <a:rPr b="0" i="1" lang="ru-RU" sz="2400" spc="-1" strike="noStrike">
                <a:solidFill>
                  <a:srgbClr val="3f3f3f"/>
                </a:solidFill>
                <a:latin typeface="Times New Roman"/>
              </a:rPr>
              <a:t>. 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niger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 Schal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r>
              <a:rPr b="0" i="1" lang="fr-FR" sz="2400" spc="-1" strike="noStrike">
                <a:solidFill>
                  <a:srgbClr val="3f3f3f"/>
                </a:solidFill>
                <a:latin typeface="Times New Roman"/>
              </a:rPr>
              <a:t>Synuchus vivalis</a:t>
            </a:r>
            <a:r>
              <a:rPr b="0" lang="fr-FR" sz="2400" spc="-1" strike="noStrike">
                <a:solidFill>
                  <a:srgbClr val="3f3f3f"/>
                </a:solidFill>
                <a:latin typeface="Times New Roman"/>
              </a:rPr>
              <a:t> Ill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r>
              <a:rPr b="0" i="1" lang="fr-FR" sz="2400" spc="-1" strike="noStrike">
                <a:solidFill>
                  <a:srgbClr val="3f3f3f"/>
                </a:solidFill>
                <a:latin typeface="Times New Roman"/>
              </a:rPr>
              <a:t>Poecilus fortipes</a:t>
            </a:r>
            <a:r>
              <a:rPr b="0" lang="fr-FR" sz="2400" spc="-1" strike="noStrike">
                <a:solidFill>
                  <a:srgbClr val="3f3f3f"/>
                </a:solidFill>
                <a:latin typeface="Times New Roman"/>
              </a:rPr>
              <a:t> Chaud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r>
              <a:rPr b="0" i="1" lang="fr-FR" sz="2400" spc="-1" strike="noStrike">
                <a:solidFill>
                  <a:srgbClr val="3f3f3f"/>
                </a:solidFill>
                <a:latin typeface="Times New Roman"/>
              </a:rPr>
              <a:t>Harpalus rufipes</a:t>
            </a:r>
            <a:r>
              <a:rPr b="0" lang="fr-FR" sz="2400" spc="-1" strike="noStrike">
                <a:solidFill>
                  <a:srgbClr val="3f3f3f"/>
                </a:solidFill>
                <a:latin typeface="Times New Roman"/>
              </a:rPr>
              <a:t> Deg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6. Таксономическая структура жужелиц лесных опушек и лугов с более высокой влажностью почв включает такие виды, как </a:t>
            </a:r>
            <a:r>
              <a:rPr b="0" i="1" lang="ru-RU" sz="2400" spc="-1" strike="noStrike">
                <a:solidFill>
                  <a:srgbClr val="3f3f3f"/>
                </a:solidFill>
                <a:latin typeface="Times New Roman"/>
              </a:rPr>
              <a:t>Bembidion lampro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 Herbst и </a:t>
            </a:r>
            <a:r>
              <a:rPr b="0" i="1" lang="ru-RU" sz="2400" spc="-1" strike="noStrike">
                <a:solidFill>
                  <a:srgbClr val="3f3f3f"/>
                </a:solidFill>
                <a:latin typeface="Times New Roman"/>
              </a:rPr>
              <a:t>Agonum alpinum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 Dej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7. Наиболее многочисленными видами на мезофитных лесных лугах являются </a:t>
            </a:r>
            <a:r>
              <a:rPr b="0" i="1" lang="ru-RU" sz="2400" spc="-1" strike="noStrike">
                <a:solidFill>
                  <a:srgbClr val="3f3f3f"/>
                </a:solidFill>
                <a:latin typeface="Times New Roman"/>
              </a:rPr>
              <a:t>Carabus regalis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 Fisch., </a:t>
            </a:r>
            <a:r>
              <a:rPr b="0" i="1" lang="ru-RU" sz="2400" spc="-1" strike="noStrike">
                <a:solidFill>
                  <a:srgbClr val="3f3f3f"/>
                </a:solidFill>
                <a:latin typeface="Times New Roman"/>
              </a:rPr>
              <a:t>C. henningi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 Fisch., 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Pterostichus oblongopunctatus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 Fabr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Pt</a:t>
            </a:r>
            <a:r>
              <a:rPr b="0" i="1" lang="ru-RU" sz="2400" spc="-1" strike="noStrike">
                <a:solidFill>
                  <a:srgbClr val="3f3f3f"/>
                </a:solidFill>
                <a:latin typeface="Times New Roman"/>
              </a:rPr>
              <a:t>. 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niger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 Schaller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3f3f3f"/>
                </a:solidFill>
                <a:latin typeface="Times New Roman"/>
              </a:rPr>
              <a:t>Pt. magus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 Mann., 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Synuchus vivalis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 Ill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Poecilus fortipes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 Chaud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8. Среди «абсолютных» доминантов на исследованной территории отмены такие виды жужелиц, как 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Carabus regalis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 Fischer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Pterostichus melanarius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 Illiger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Bembidion quadrimaculatum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 L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Harpalus rufipes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 De Geer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f3f3f"/>
                </a:solidFill>
                <a:latin typeface="Times New Roman"/>
              </a:rPr>
              <a:t>Poecilus cupreus</a:t>
            </a:r>
            <a:r>
              <a:rPr b="0" lang="en-US" sz="2400" spc="-1" strike="noStrike">
                <a:solidFill>
                  <a:srgbClr val="3f3f3f"/>
                </a:solidFill>
                <a:latin typeface="Times New Roman"/>
              </a:rPr>
              <a:t> L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r>
              <a:rPr b="0" i="1" lang="pt-BR" sz="2400" spc="-1" strike="noStrike">
                <a:solidFill>
                  <a:srgbClr val="3f3f3f"/>
                </a:solidFill>
                <a:latin typeface="Times New Roman"/>
              </a:rPr>
              <a:t>Amara similata</a:t>
            </a:r>
            <a:r>
              <a:rPr b="0" lang="pt-BR" sz="2400" spc="-1" strike="noStrike">
                <a:solidFill>
                  <a:srgbClr val="3f3f3f"/>
                </a:solidFill>
                <a:latin typeface="Times New Roman"/>
              </a:rPr>
              <a:t>  Gyllenhal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, </a:t>
            </a:r>
            <a:r>
              <a:rPr b="0" i="1" lang="pt-BR" sz="2400" spc="-1" strike="noStrike">
                <a:solidFill>
                  <a:srgbClr val="3f3f3f"/>
                </a:solidFill>
                <a:latin typeface="Times New Roman"/>
              </a:rPr>
              <a:t>Amara eurynota</a:t>
            </a:r>
            <a:r>
              <a:rPr b="0" lang="pt-BR" sz="2400" spc="-1" strike="noStrike">
                <a:solidFill>
                  <a:srgbClr val="3f3f3f"/>
                </a:solidFill>
                <a:latin typeface="Times New Roman"/>
              </a:rPr>
              <a:t> Panzer</a:t>
            </a: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Номер слайда 2"/>
          <p:cNvSpPr/>
          <p:nvPr/>
        </p:nvSpPr>
        <p:spPr>
          <a:xfrm>
            <a:off x="7937640" y="6480"/>
            <a:ext cx="120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FCCE-1AE4-4DC2-B6EB-42053F1C19E0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9647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Благодарнос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f3f3f"/>
                </a:solidFill>
                <a:latin typeface="Times New Roman"/>
              </a:rPr>
              <a:t>     Автор выражает искреннюю благодарность научным руководителям, к.б.н. Т.О. Марковой и к.б.н. М.В. Маслову («Заповедник Уссурийский – филиал ФНЦ биоразнообразия наземной биоты Восточной Азии ДВО РАН», Владивосток) за помощь в выполнении данной работы, колеоптерологу С.Н. Иванову за помощь в определении коллекционного и фотоматериала, а также Е.А. Комарову за предоставленные фотографи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9 Calathus_halensis_dr"/>
          <p:cNvPicPr/>
          <p:nvPr/>
        </p:nvPicPr>
        <p:blipFill>
          <a:blip r:embed="rId1"/>
          <a:stretch/>
        </p:blipFill>
        <p:spPr>
          <a:xfrm>
            <a:off x="39528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4"/>
          <p:cNvSpPr/>
          <p:nvPr/>
        </p:nvSpPr>
        <p:spPr>
          <a:xfrm>
            <a:off x="1621800" y="5734080"/>
            <a:ext cx="60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4"/>
          <p:cNvSpPr/>
          <p:nvPr/>
        </p:nvSpPr>
        <p:spPr>
          <a:xfrm>
            <a:off x="7745760" y="18900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44EF-222D-4B76-B0D3-F27025755741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5"/>
          <p:cNvSpPr/>
          <p:nvPr/>
        </p:nvSpPr>
        <p:spPr>
          <a:xfrm>
            <a:off x="324000" y="260280"/>
            <a:ext cx="84978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f3f3f"/>
                </a:solidFill>
                <a:uFillTx/>
                <a:latin typeface="Times New Roman"/>
              </a:rPr>
              <a:t>Практическая значимость</a:t>
            </a:r>
            <a:r>
              <a:rPr b="0" lang="ru-RU" sz="3200" spc="-1" strike="noStrike" u="sng">
                <a:solidFill>
                  <a:srgbClr val="3f3f3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Практическая значимость исследования определяется значением жужелиц в качестве биоиндикаторов в агроценозах и их ролью в сокращении численности вредителей многих культурных раст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При этом наиболее репрезентативным является изучение жужелиц на отдельных частях ареала, что обусловлено значительным видовым разнообразием данной групп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3" name="Picture 6" descr="Безымянный"/>
          <p:cNvPicPr/>
          <p:nvPr/>
        </p:nvPicPr>
        <p:blipFill>
          <a:blip r:embed="rId1"/>
          <a:stretch/>
        </p:blipFill>
        <p:spPr>
          <a:xfrm>
            <a:off x="468360" y="189000"/>
            <a:ext cx="6335640" cy="6048360"/>
          </a:xfrm>
          <a:prstGeom prst="rect">
            <a:avLst/>
          </a:prstGeom>
          <a:ln w="0">
            <a:noFill/>
          </a:ln>
        </p:spPr>
      </p:pic>
      <p:sp>
        <p:nvSpPr>
          <p:cNvPr id="264" name="Номер слайда 2"/>
          <p:cNvSpPr/>
          <p:nvPr/>
        </p:nvSpPr>
        <p:spPr>
          <a:xfrm>
            <a:off x="8424720" y="18900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6804000" y="3573360"/>
            <a:ext cx="21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. 1 Территория исследований  (красными точками отмечены места сбора материал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75280" y="188640"/>
            <a:ext cx="468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3640" y="189000"/>
            <a:ext cx="81356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Список видов жужелиц (С</a:t>
            </a:r>
            <a:r>
              <a:rPr b="1" lang="en-US" sz="2800" spc="-1" strike="noStrike">
                <a:solidFill>
                  <a:srgbClr val="3f3f3f"/>
                </a:solidFill>
                <a:latin typeface="Times New Roman"/>
              </a:rPr>
              <a:t>arabidae</a:t>
            </a: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), собранных на территории исследования (сведения автора</a:t>
            </a:r>
            <a:r>
              <a:rPr b="1" lang="ru-RU" sz="3200" spc="-1" strike="noStrike">
                <a:solidFill>
                  <a:srgbClr val="3f3f3f"/>
                </a:solidFill>
                <a:latin typeface="Times New Roman"/>
              </a:rPr>
              <a:t>)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Подсемейство </a:t>
            </a:r>
            <a:r>
              <a:rPr b="1" lang="en-US" sz="2400" spc="-1" strike="noStrike">
                <a:solidFill>
                  <a:srgbClr val="3f3f3f"/>
                </a:solidFill>
                <a:latin typeface="Times New Roman"/>
              </a:rPr>
              <a:t>Harpalinae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1</a:t>
            </a:r>
            <a:r>
              <a:rPr b="1" i="1" lang="ru-RU" sz="2000" spc="-1" strike="noStrike">
                <a:solidFill>
                  <a:srgbClr val="3f3f3f"/>
                </a:solidFill>
                <a:latin typeface="Times New Roman"/>
              </a:rPr>
              <a:t>. А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gonum </a:t>
            </a:r>
            <a:r>
              <a:rPr b="1" i="1" lang="ru-RU" sz="2000" spc="-1" strike="noStrike">
                <a:solidFill>
                  <a:srgbClr val="3f3f3f"/>
                </a:solidFill>
                <a:latin typeface="Times New Roman"/>
              </a:rPr>
              <a:t>alpinum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 Dejean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2.</a:t>
            </a:r>
            <a:r>
              <a:rPr b="1" i="1" lang="ru-RU" sz="2000" spc="-1" strike="noStrike">
                <a:solidFill>
                  <a:srgbClr val="3f3f3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Amara similata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Gyll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.*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3.</a:t>
            </a:r>
            <a:r>
              <a:rPr b="1" i="1" lang="fr-FR" sz="2000" spc="-1" strike="noStrike">
                <a:solidFill>
                  <a:srgbClr val="3f3f3f"/>
                </a:solidFill>
                <a:latin typeface="Times New Roman"/>
              </a:rPr>
              <a:t> A. nitida</a:t>
            </a: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 Sturm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4.</a:t>
            </a:r>
            <a:r>
              <a:rPr b="1" i="1" lang="fr-FR" sz="2000" spc="-1" strike="noStrike">
                <a:solidFill>
                  <a:srgbClr val="3f3f3f"/>
                </a:solidFill>
                <a:latin typeface="Times New Roman"/>
              </a:rPr>
              <a:t> A. aenea</a:t>
            </a: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 De Geer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5.</a:t>
            </a:r>
            <a:r>
              <a:rPr b="1" i="1" lang="fr-FR" sz="2000" spc="-1" strike="noStrike">
                <a:solidFill>
                  <a:srgbClr val="3f3f3f"/>
                </a:solidFill>
                <a:latin typeface="Times New Roman"/>
              </a:rPr>
              <a:t> A. eurynota</a:t>
            </a: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 Panz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.*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6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A. plebeja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Gyll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7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Badister bullatu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Schr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8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B. dorsiger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Duft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Calathus melanocephalu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L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10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Chlaenius nigricornis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11.</a:t>
            </a:r>
            <a:r>
              <a:rPr b="1" i="1" lang="fr-FR" sz="2000" spc="-1" strike="noStrike">
                <a:solidFill>
                  <a:srgbClr val="3f3f3f"/>
                </a:solidFill>
                <a:latin typeface="Times New Roman"/>
              </a:rPr>
              <a:t> Dyschiriodes nitidus</a:t>
            </a: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 Dej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12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. </a:t>
            </a:r>
            <a:r>
              <a:rPr b="1" i="1" lang="fr-FR" sz="2000" spc="-1" strike="noStrike">
                <a:solidFill>
                  <a:srgbClr val="3f3f3f"/>
                </a:solidFill>
                <a:latin typeface="Times New Roman"/>
              </a:rPr>
              <a:t>Harpalus rufipes</a:t>
            </a: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 De Geer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*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13.</a:t>
            </a:r>
            <a:r>
              <a:rPr b="1" i="1" lang="fr-FR" sz="2000" spc="-1" strike="noStrike">
                <a:solidFill>
                  <a:srgbClr val="3f3f3f"/>
                </a:solidFill>
                <a:latin typeface="Times New Roman"/>
              </a:rPr>
              <a:t> H. tarsalis</a:t>
            </a: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 Mann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14.</a:t>
            </a:r>
            <a:r>
              <a:rPr b="1" i="1" lang="fr-FR" sz="2000" spc="-1" strike="noStrike">
                <a:solidFill>
                  <a:srgbClr val="3f3f3f"/>
                </a:solidFill>
                <a:latin typeface="Times New Roman"/>
              </a:rPr>
              <a:t> H. affinis</a:t>
            </a: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 Schr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136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15.</a:t>
            </a:r>
            <a:r>
              <a:rPr b="1" i="1" lang="fr-FR" sz="2000" spc="-1" strike="noStrike">
                <a:solidFill>
                  <a:srgbClr val="3f3f3f"/>
                </a:solidFill>
                <a:latin typeface="Times New Roman"/>
              </a:rPr>
              <a:t> Oxypselaphus obscurus</a:t>
            </a: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 Hbst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16.</a:t>
            </a:r>
            <a:r>
              <a:rPr b="1" i="1" lang="fr-FR" sz="2000" spc="-1" strike="noStrike">
                <a:solidFill>
                  <a:srgbClr val="3f3f3f"/>
                </a:solidFill>
                <a:latin typeface="Times New Roman"/>
              </a:rPr>
              <a:t> Panagaeus cruxmajor</a:t>
            </a: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 L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17.</a:t>
            </a:r>
            <a:r>
              <a:rPr b="1" i="1" lang="fr-FR" sz="2000" spc="-1" strike="noStrike">
                <a:solidFill>
                  <a:srgbClr val="3f3f3f"/>
                </a:solidFill>
                <a:latin typeface="Times New Roman"/>
              </a:rPr>
              <a:t> Philorhisus sigma</a:t>
            </a: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  Rossi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18.</a:t>
            </a:r>
            <a:r>
              <a:rPr b="1" i="1" lang="fr-FR" sz="2000" spc="-1" strike="noStrike">
                <a:solidFill>
                  <a:srgbClr val="3f3f3f"/>
                </a:solidFill>
                <a:latin typeface="Times New Roman"/>
              </a:rPr>
              <a:t> Poecilus cupreus</a:t>
            </a: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 L.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*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19.</a:t>
            </a:r>
            <a:r>
              <a:rPr b="1" i="1" lang="fr-FR" sz="2000" spc="-1" strike="noStrike">
                <a:solidFill>
                  <a:srgbClr val="3f3f3f"/>
                </a:solidFill>
                <a:latin typeface="Times New Roman"/>
              </a:rPr>
              <a:t> P. fortipes</a:t>
            </a: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 Chaudoir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20.</a:t>
            </a:r>
            <a:r>
              <a:rPr b="1" i="1" lang="fr-FR" sz="2000" spc="-1" strike="noStrike">
                <a:solidFill>
                  <a:srgbClr val="3f3f3f"/>
                </a:solidFill>
                <a:latin typeface="Times New Roman"/>
              </a:rPr>
              <a:t> Pterostichus melanarius</a:t>
            </a: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 Ill.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*</a:t>
            </a: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21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. Pt. erostichus oblongopunctatu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F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22. 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Pt. magu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Mann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23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Pt. niger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Sch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24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Pt. anthracinu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Ill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25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Pt. gracili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Dej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26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Synuchus vivali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Ill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Подсемейство</a:t>
            </a:r>
            <a:r>
              <a:rPr b="1" lang="en-US" sz="2400" spc="-1" strike="noStrike">
                <a:solidFill>
                  <a:srgbClr val="3f3f3f"/>
                </a:solidFill>
                <a:latin typeface="Times New Roman"/>
              </a:rPr>
              <a:t> Carabinae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27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Carabus regali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Fish.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*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28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C. henningi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Fish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29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C. aeruginosu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Fish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30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C. menetriesi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Humm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31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C. vietinghoffi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Chaud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32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C. granulatu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Bat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33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C. hummeli smaragdulu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Kraatz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17080" y="18900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D53C-C34A-455E-84AB-B7953DF9E72F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136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34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C. smaragdinus mandschuricu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Semenov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35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Notiophilus germinyi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Fauvel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Подсемейство</a:t>
            </a:r>
            <a:r>
              <a:rPr b="1" lang="en-US" sz="2400" spc="-1" strike="noStrike">
                <a:solidFill>
                  <a:srgbClr val="3f3f3f"/>
                </a:solidFill>
                <a:latin typeface="Times New Roman"/>
              </a:rPr>
              <a:t> Trechinae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36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Asaphidion flavipe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L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37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Bembidion quadrimaculatum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L.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</a:rPr>
              <a:t>*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38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B. properan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Step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39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B. lampro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Herbst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40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Blemus discu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F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41.</a:t>
            </a:r>
            <a:r>
              <a:rPr b="1" i="1" lang="en-US" sz="2000" spc="-1" strike="noStrike">
                <a:solidFill>
                  <a:srgbClr val="3f3f3f"/>
                </a:solidFill>
                <a:latin typeface="Times New Roman"/>
              </a:rPr>
              <a:t> Trechus secalis</a:t>
            </a:r>
            <a:r>
              <a:rPr b="1" lang="en-US" sz="2000" spc="-1" strike="noStrike">
                <a:solidFill>
                  <a:srgbClr val="3f3f3f"/>
                </a:solidFill>
                <a:latin typeface="Times New Roman"/>
              </a:rPr>
              <a:t> Payk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Подсемейство</a:t>
            </a:r>
            <a:r>
              <a:rPr b="1" lang="en-US" sz="2400" spc="-1" strike="noStrike">
                <a:solidFill>
                  <a:srgbClr val="3f3f3f"/>
                </a:solidFill>
                <a:latin typeface="Times New Roman"/>
              </a:rPr>
              <a:t> Elaphrinae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42.</a:t>
            </a:r>
            <a:r>
              <a:rPr b="1" i="1" lang="fr-FR" sz="2000" spc="-1" strike="noStrike">
                <a:solidFill>
                  <a:srgbClr val="3f3f3f"/>
                </a:solidFill>
                <a:latin typeface="Times New Roman"/>
              </a:rPr>
              <a:t> Blethisa multipunctata</a:t>
            </a: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 L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43.</a:t>
            </a:r>
            <a:r>
              <a:rPr b="1" i="1" lang="fr-FR" sz="2000" spc="-1" strike="noStrike">
                <a:solidFill>
                  <a:srgbClr val="3f3f3f"/>
                </a:solidFill>
                <a:latin typeface="Times New Roman"/>
              </a:rPr>
              <a:t> Elaphrus cupreus</a:t>
            </a:r>
            <a:r>
              <a:rPr b="1" lang="fr-FR" sz="2000" spc="-1" strike="noStrike">
                <a:solidFill>
                  <a:srgbClr val="3f3f3f"/>
                </a:solidFill>
                <a:latin typeface="Times New Roman"/>
              </a:rPr>
              <a:t> Duft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- Доминантные виды выделены в списке *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8317080" y="18900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4174-F437-4FFF-985B-6AF7D503F878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5445000"/>
            <a:ext cx="8497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Рис. 2. Процентный состав видов в наиболее распространенных семействах жужелиц на территории исследования (по данным автора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8604360" y="18900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17CC-FA06-49FF-9186-23C5396739DD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7" descr="круговая диаграмма"/>
          <p:cNvPicPr/>
          <p:nvPr/>
        </p:nvPicPr>
        <p:blipFill>
          <a:blip r:embed="rId1"/>
          <a:srcRect l="3630" t="26371" r="7000" b="2890"/>
          <a:stretch/>
        </p:blipFill>
        <p:spPr>
          <a:xfrm>
            <a:off x="250920" y="189000"/>
            <a:ext cx="842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9"/>
          <p:cNvSpPr/>
          <p:nvPr/>
        </p:nvSpPr>
        <p:spPr>
          <a:xfrm>
            <a:off x="8604360" y="18900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7BC6-31F1-4F34-A7B4-3D8F74F14EC8}" type="slidenum"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1. Сухие луга, хорошо освещаемые окраинные лесные опушки (ксерофитные биотопы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692360" y="189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Основные (модельные) биото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13" descr="поле1"/>
          <p:cNvPicPr/>
          <p:nvPr/>
        </p:nvPicPr>
        <p:blipFill>
          <a:blip r:embed="rId1"/>
          <a:srcRect l="0" t="223" r="0" b="0"/>
          <a:stretch/>
        </p:blipFill>
        <p:spPr>
          <a:xfrm>
            <a:off x="0" y="1484280"/>
            <a:ext cx="5292720" cy="52578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4"/>
          <p:cNvSpPr/>
          <p:nvPr/>
        </p:nvSpPr>
        <p:spPr>
          <a:xfrm>
            <a:off x="5219640" y="2637000"/>
            <a:ext cx="39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3f3f"/>
                </a:solidFill>
                <a:latin typeface="Times New Roman"/>
              </a:rPr>
              <a:t>Carabus regalis</a:t>
            </a:r>
            <a:r>
              <a:rPr b="1" lang="en-US" sz="2400" spc="-1" strike="noStrike">
                <a:solidFill>
                  <a:srgbClr val="3f3f3f"/>
                </a:solidFill>
                <a:latin typeface="Times New Roman"/>
              </a:rPr>
              <a:t> Fisch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br>
              <a:rPr sz="2400"/>
            </a:br>
            <a:r>
              <a:rPr b="1" i="1" lang="en-US" sz="2400" spc="-1" strike="noStrike">
                <a:solidFill>
                  <a:srgbClr val="3f3f3f"/>
                </a:solidFill>
                <a:latin typeface="Times New Roman"/>
              </a:rPr>
              <a:t>Pterostichus magus</a:t>
            </a:r>
            <a:r>
              <a:rPr b="1" lang="en-US" sz="2400" spc="-1" strike="noStrike">
                <a:solidFill>
                  <a:srgbClr val="3f3f3f"/>
                </a:solidFill>
                <a:latin typeface="Times New Roman"/>
              </a:rPr>
              <a:t> Mann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br>
              <a:rPr sz="2400"/>
            </a:br>
            <a:r>
              <a:rPr b="1" i="1" lang="en-US" sz="2400" spc="-1" strike="noStrike">
                <a:solidFill>
                  <a:srgbClr val="3f3f3f"/>
                </a:solidFill>
                <a:latin typeface="Times New Roman"/>
              </a:rPr>
              <a:t>Pt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</a:rPr>
              <a:t>. </a:t>
            </a:r>
            <a:r>
              <a:rPr b="1" i="1" lang="en-US" sz="2400" spc="-1" strike="noStrike">
                <a:solidFill>
                  <a:srgbClr val="3f3f3f"/>
                </a:solidFill>
                <a:latin typeface="Times New Roman"/>
              </a:rPr>
              <a:t>oblongopunctatus</a:t>
            </a:r>
            <a:r>
              <a:rPr b="1" lang="en-US" sz="2400" spc="-1" strike="noStrike">
                <a:solidFill>
                  <a:srgbClr val="3f3f3f"/>
                </a:solidFill>
                <a:latin typeface="Times New Roman"/>
              </a:rPr>
              <a:t> Fabr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br>
              <a:rPr sz="2400"/>
            </a:br>
            <a:r>
              <a:rPr b="1" i="1" lang="en-US" sz="2400" spc="-1" strike="noStrike">
                <a:solidFill>
                  <a:srgbClr val="3f3f3f"/>
                </a:solidFill>
                <a:latin typeface="Times New Roman"/>
              </a:rPr>
              <a:t>Pt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</a:rPr>
              <a:t>. </a:t>
            </a:r>
            <a:r>
              <a:rPr b="1" i="1" lang="en-US" sz="2400" spc="-1" strike="noStrike">
                <a:solidFill>
                  <a:srgbClr val="3f3f3f"/>
                </a:solidFill>
                <a:latin typeface="Times New Roman"/>
              </a:rPr>
              <a:t>niger</a:t>
            </a:r>
            <a:r>
              <a:rPr b="1" lang="en-US" sz="2400" spc="-1" strike="noStrike">
                <a:solidFill>
                  <a:srgbClr val="3f3f3f"/>
                </a:solidFill>
                <a:latin typeface="Times New Roman"/>
              </a:rPr>
              <a:t> Schal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br>
              <a:rPr sz="2400"/>
            </a:br>
            <a:r>
              <a:rPr b="1" i="1" lang="fr-FR" sz="2400" spc="-1" strike="noStrike">
                <a:solidFill>
                  <a:srgbClr val="3f3f3f"/>
                </a:solidFill>
                <a:latin typeface="Times New Roman"/>
              </a:rPr>
              <a:t>Synuchus vivalis</a:t>
            </a:r>
            <a:r>
              <a:rPr b="1" lang="fr-FR" sz="2400" spc="-1" strike="noStrike">
                <a:solidFill>
                  <a:srgbClr val="3f3f3f"/>
                </a:solidFill>
                <a:latin typeface="Times New Roman"/>
              </a:rPr>
              <a:t> Ill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br>
              <a:rPr sz="2400"/>
            </a:br>
            <a:r>
              <a:rPr b="1" i="1" lang="fr-FR" sz="2400" spc="-1" strike="noStrike">
                <a:solidFill>
                  <a:srgbClr val="3f3f3f"/>
                </a:solidFill>
                <a:latin typeface="Times New Roman"/>
              </a:rPr>
              <a:t>Poecilus fortipes</a:t>
            </a:r>
            <a:r>
              <a:rPr b="1" lang="fr-FR" sz="2400" spc="-1" strike="noStrike">
                <a:solidFill>
                  <a:srgbClr val="3f3f3f"/>
                </a:solidFill>
                <a:latin typeface="Times New Roman"/>
              </a:rPr>
              <a:t> Chaud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., </a:t>
            </a:r>
            <a:br>
              <a:rPr sz="2400"/>
            </a:br>
            <a:r>
              <a:rPr b="1" i="1" lang="fr-FR" sz="2400" spc="-1" strike="noStrike">
                <a:solidFill>
                  <a:srgbClr val="3f3f3f"/>
                </a:solidFill>
                <a:latin typeface="Times New Roman"/>
              </a:rPr>
              <a:t>Harpalus rufipes</a:t>
            </a:r>
            <a:r>
              <a:rPr b="1" lang="fr-FR" sz="2400" spc="-1" strike="noStrike">
                <a:solidFill>
                  <a:srgbClr val="3f3f3f"/>
                </a:solidFill>
                <a:latin typeface="Times New Roman"/>
              </a:rPr>
              <a:t> Deg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30T02:40:38Z</dcterms:created>
  <dc:creator>Мишутка</dc:creator>
  <dc:description/>
  <dc:language>en-US</dc:language>
  <cp:lastModifiedBy>Руслан Вишняков</cp:lastModifiedBy>
  <dcterms:modified xsi:type="dcterms:W3CDTF">2019-06-15T07:29:18Z</dcterms:modified>
  <cp:revision>124</cp:revision>
  <dc:subject/>
  <dc:title>Презентация PowerPoint</dc:title>
</cp:coreProperties>
</file>